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DD6-D087-422C-815D-EEB2F727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CB1-1C41-429E-BDDB-6382A6E9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9F1-590C-4427-818E-06B6F2B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433-DAC7-4E8E-BAC0-80ADEEA3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AAB-5A39-48F9-BD99-E231591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6ED-45BD-43D3-BE7E-5ABD942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D279-78D7-408E-9E72-EF70634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680-FEA7-4B1C-B5D5-274539D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E5B2-724D-46D2-9E8E-27A8669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D54-E728-4368-B7C7-FA157E46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7AB9-55F9-42B5-A666-BD4B6A8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3C8-C886-4047-BE2A-AC2C934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C179-B171-4A92-9D41-C38F6CBE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781-7EDA-4616-89DC-B2361ED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152-AF08-4605-B726-1ADA5FAB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CB9A-C121-479B-BC5B-1DE5D66F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AD6-6A91-413B-832D-8CDCAF02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5C4-527A-4E93-B9A7-777D0B7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1AA-170C-418D-BF03-6FDF774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7E1-D213-4A36-9735-2BF85EE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BDC-F409-4A95-A096-10A8107C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8F5-9E21-48FD-86FF-7B75C50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58A-1284-4EEF-88E7-AFB3929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3D3-BC9C-4A7E-9BBF-55B1014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574-D71E-47FD-B85A-B33CFFB8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2DC2-69BF-43FF-9A62-D5CB2F3F3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arm-up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rmulas 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2040" y="2536920"/>
            <a:ext cx="303120" cy="45540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14536" y="7367"/>
                </a:moveTo>
                <a:cubicBezTo>
                  <a:pt x="14458" y="7708"/>
                  <a:pt x="14295" y="7964"/>
                  <a:pt x="14114" y="8260"/>
                </a:cubicBezTo>
                <a:cubicBezTo>
                  <a:pt x="14106" y="8277"/>
                  <a:pt x="14097" y="8293"/>
                  <a:pt x="14089" y="8310"/>
                </a:cubicBezTo>
                <a:cubicBezTo>
                  <a:pt x="14317" y="7935"/>
                  <a:pt x="14471" y="7528"/>
                  <a:pt x="14734" y="7169"/>
                </a:cubicBezTo>
                <a:cubicBezTo>
                  <a:pt x="14838" y="7065"/>
                  <a:pt x="14863" y="7000"/>
                  <a:pt x="14908" y="7119"/>
                </a:cubicBezTo>
                <a:cubicBezTo>
                  <a:pt x="14924" y="7520"/>
                  <a:pt x="14911" y="7854"/>
                  <a:pt x="14784" y="8235"/>
                </a:cubicBezTo>
                <a:cubicBezTo>
                  <a:pt x="14776" y="8260"/>
                  <a:pt x="14767" y="8285"/>
                  <a:pt x="14759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24920" y="261612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2870" y="7268"/>
                </a:moveTo>
                <a:cubicBezTo>
                  <a:pt x="22855" y="7428"/>
                  <a:pt x="22870" y="7576"/>
                  <a:pt x="22870" y="7739"/>
                </a:cubicBezTo>
                <a:cubicBezTo>
                  <a:pt x="22883" y="7651"/>
                  <a:pt x="22902" y="7566"/>
                  <a:pt x="22944" y="7491"/>
                </a:cubicBezTo>
                <a:cubicBezTo>
                  <a:pt x="23026" y="7586"/>
                  <a:pt x="23077" y="7731"/>
                  <a:pt x="23217" y="7739"/>
                </a:cubicBezTo>
                <a:cubicBezTo>
                  <a:pt x="23291" y="7720"/>
                  <a:pt x="23298" y="7712"/>
                  <a:pt x="23341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56280" y="2062080"/>
            <a:ext cx="277920" cy="43020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9323" y="6821"/>
                </a:moveTo>
                <a:cubicBezTo>
                  <a:pt x="19590" y="6793"/>
                  <a:pt x="19794" y="6695"/>
                  <a:pt x="19943" y="6449"/>
                </a:cubicBezTo>
                <a:cubicBezTo>
                  <a:pt x="20074" y="6233"/>
                  <a:pt x="20133" y="5955"/>
                  <a:pt x="20042" y="5730"/>
                </a:cubicBezTo>
                <a:cubicBezTo>
                  <a:pt x="19875" y="5835"/>
                  <a:pt x="19817" y="6295"/>
                  <a:pt x="19819" y="6499"/>
                </a:cubicBezTo>
                <a:cubicBezTo>
                  <a:pt x="19821" y="6723"/>
                  <a:pt x="19878" y="6811"/>
                  <a:pt x="2001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96120" y="2160720"/>
            <a:ext cx="384120" cy="260280"/>
          </a:xfrm>
          <a:custGeom>
            <a:avLst/>
            <a:gdLst/>
            <a:ahLst/>
            <a:rect l="l" t="t" r="r" b="b"/>
            <a:pathLst>
              <a:path w="1068" h="720">
                <a:moveTo>
                  <a:pt x="20513" y="6276"/>
                </a:moveTo>
                <a:cubicBezTo>
                  <a:pt x="20416" y="6421"/>
                  <a:pt x="20308" y="6552"/>
                  <a:pt x="20265" y="6722"/>
                </a:cubicBezTo>
              </a:path>
              <a:path w="1068" h="720">
                <a:moveTo>
                  <a:pt x="20762" y="6325"/>
                </a:moveTo>
                <a:cubicBezTo>
                  <a:pt x="20753" y="6378"/>
                  <a:pt x="20693" y="6602"/>
                  <a:pt x="20737" y="6623"/>
                </a:cubicBezTo>
                <a:cubicBezTo>
                  <a:pt x="20861" y="6681"/>
                  <a:pt x="20937" y="6356"/>
                  <a:pt x="20960" y="6300"/>
                </a:cubicBezTo>
                <a:cubicBezTo>
                  <a:pt x="20968" y="6284"/>
                  <a:pt x="20977" y="6267"/>
                  <a:pt x="20985" y="6251"/>
                </a:cubicBezTo>
                <a:cubicBezTo>
                  <a:pt x="20985" y="6346"/>
                  <a:pt x="20943" y="6573"/>
                  <a:pt x="21109" y="6573"/>
                </a:cubicBezTo>
                <a:cubicBezTo>
                  <a:pt x="21350" y="6574"/>
                  <a:pt x="21335" y="6250"/>
                  <a:pt x="21307" y="6102"/>
                </a:cubicBezTo>
                <a:cubicBezTo>
                  <a:pt x="21294" y="6034"/>
                  <a:pt x="21232" y="6020"/>
                  <a:pt x="21282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33960" y="2554200"/>
            <a:ext cx="3073320" cy="374760"/>
          </a:xfrm>
          <a:custGeom>
            <a:avLst/>
            <a:gdLst/>
            <a:ahLst/>
            <a:rect l="l" t="t" r="r" b="b"/>
            <a:pathLst>
              <a:path w="8534" h="1043">
                <a:moveTo>
                  <a:pt x="14263" y="8037"/>
                </a:moveTo>
                <a:cubicBezTo>
                  <a:pt x="14467" y="7975"/>
                  <a:pt x="14619" y="7946"/>
                  <a:pt x="14833" y="7938"/>
                </a:cubicBezTo>
              </a:path>
              <a:path w="8534" h="1043">
                <a:moveTo>
                  <a:pt x="16669" y="8086"/>
                </a:moveTo>
                <a:cubicBezTo>
                  <a:pt x="16834" y="8063"/>
                  <a:pt x="16884" y="8056"/>
                  <a:pt x="16991" y="8037"/>
                </a:cubicBezTo>
              </a:path>
              <a:path w="8534" h="1043">
                <a:moveTo>
                  <a:pt x="17884" y="7094"/>
                </a:moveTo>
                <a:cubicBezTo>
                  <a:pt x="17844" y="7423"/>
                  <a:pt x="17807" y="7744"/>
                  <a:pt x="17711" y="8062"/>
                </a:cubicBezTo>
                <a:cubicBezTo>
                  <a:pt x="17692" y="8119"/>
                  <a:pt x="17683" y="8162"/>
                  <a:pt x="17686" y="8111"/>
                </a:cubicBezTo>
              </a:path>
              <a:path w="8534" h="1043">
                <a:moveTo>
                  <a:pt x="19372" y="7293"/>
                </a:moveTo>
                <a:cubicBezTo>
                  <a:pt x="19426" y="7551"/>
                  <a:pt x="19479" y="7744"/>
                  <a:pt x="19372" y="7987"/>
                </a:cubicBezTo>
              </a:path>
              <a:path w="8534" h="1043">
                <a:moveTo>
                  <a:pt x="20662" y="7516"/>
                </a:moveTo>
                <a:cubicBezTo>
                  <a:pt x="20639" y="7555"/>
                  <a:pt x="20502" y="7800"/>
                  <a:pt x="20464" y="7838"/>
                </a:cubicBezTo>
              </a:path>
              <a:path w="8534" h="1043">
                <a:moveTo>
                  <a:pt x="21630" y="7392"/>
                </a:moveTo>
                <a:lnTo>
                  <a:pt x="21630" y="7392"/>
                </a:lnTo>
                <a:lnTo>
                  <a:pt x="21630" y="7392"/>
                </a:lnTo>
              </a:path>
              <a:path w="8534" h="1043">
                <a:moveTo>
                  <a:pt x="21630" y="7392"/>
                </a:moveTo>
                <a:lnTo>
                  <a:pt x="21630" y="7392"/>
                </a:lnTo>
              </a:path>
              <a:path w="8534" h="1043">
                <a:moveTo>
                  <a:pt x="22349" y="7615"/>
                </a:moveTo>
                <a:cubicBezTo>
                  <a:pt x="22534" y="7615"/>
                  <a:pt x="22621" y="7575"/>
                  <a:pt x="22796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75160" y="2813040"/>
            <a:ext cx="733680" cy="303120"/>
          </a:xfrm>
          <a:custGeom>
            <a:avLst/>
            <a:gdLst/>
            <a:ahLst/>
            <a:rect l="l" t="t" r="r" b="b"/>
            <a:pathLst>
              <a:path w="2035" h="845">
                <a:moveTo>
                  <a:pt x="15106" y="8334"/>
                </a:moveTo>
                <a:cubicBezTo>
                  <a:pt x="15059" y="8443"/>
                  <a:pt x="15009" y="8541"/>
                  <a:pt x="14932" y="8632"/>
                </a:cubicBezTo>
                <a:cubicBezTo>
                  <a:pt x="15247" y="8632"/>
                  <a:pt x="15559" y="8670"/>
                  <a:pt x="15875" y="8657"/>
                </a:cubicBezTo>
                <a:cubicBezTo>
                  <a:pt x="16042" y="8638"/>
                  <a:pt x="16066" y="8605"/>
                  <a:pt x="16148" y="8657"/>
                </a:cubicBezTo>
                <a:cubicBezTo>
                  <a:pt x="16083" y="8635"/>
                  <a:pt x="16074" y="8614"/>
                  <a:pt x="16098" y="8508"/>
                </a:cubicBezTo>
                <a:cubicBezTo>
                  <a:pt x="16126" y="8384"/>
                  <a:pt x="16177" y="8254"/>
                  <a:pt x="16222" y="8136"/>
                </a:cubicBezTo>
                <a:cubicBezTo>
                  <a:pt x="15965" y="8189"/>
                  <a:pt x="15716" y="8251"/>
                  <a:pt x="15453" y="8285"/>
                </a:cubicBezTo>
                <a:cubicBezTo>
                  <a:pt x="15298" y="8305"/>
                  <a:pt x="15189" y="8310"/>
                  <a:pt x="15032" y="8310"/>
                </a:cubicBezTo>
              </a:path>
              <a:path w="2035" h="845">
                <a:moveTo>
                  <a:pt x="16594" y="7838"/>
                </a:moveTo>
                <a:cubicBezTo>
                  <a:pt x="16720" y="7838"/>
                  <a:pt x="16852" y="7817"/>
                  <a:pt x="16966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8960" y="2571840"/>
            <a:ext cx="1758960" cy="536400"/>
          </a:xfrm>
          <a:custGeom>
            <a:avLst/>
            <a:gdLst/>
            <a:ahLst/>
            <a:rect l="l" t="t" r="r" b="b"/>
            <a:pathLst>
              <a:path w="4888" h="1489">
                <a:moveTo>
                  <a:pt x="17959" y="7938"/>
                </a:moveTo>
                <a:cubicBezTo>
                  <a:pt x="17998" y="7938"/>
                  <a:pt x="18108" y="7961"/>
                  <a:pt x="18132" y="7913"/>
                </a:cubicBezTo>
                <a:cubicBezTo>
                  <a:pt x="18132" y="7905"/>
                  <a:pt x="18132" y="7896"/>
                  <a:pt x="18132" y="7888"/>
                </a:cubicBezTo>
                <a:cubicBezTo>
                  <a:pt x="18003" y="7771"/>
                  <a:pt x="17919" y="7882"/>
                  <a:pt x="17884" y="8062"/>
                </a:cubicBezTo>
                <a:cubicBezTo>
                  <a:pt x="17817" y="8402"/>
                  <a:pt x="18147" y="8103"/>
                  <a:pt x="18231" y="8037"/>
                </a:cubicBezTo>
              </a:path>
              <a:path w="4888" h="1489">
                <a:moveTo>
                  <a:pt x="18331" y="7813"/>
                </a:moveTo>
                <a:cubicBezTo>
                  <a:pt x="18331" y="7888"/>
                  <a:pt x="18331" y="7929"/>
                  <a:pt x="18331" y="7987"/>
                </a:cubicBezTo>
                <a:cubicBezTo>
                  <a:pt x="18331" y="8127"/>
                  <a:pt x="18348" y="7828"/>
                  <a:pt x="18355" y="7813"/>
                </a:cubicBezTo>
                <a:cubicBezTo>
                  <a:pt x="18453" y="7602"/>
                  <a:pt x="18591" y="7905"/>
                  <a:pt x="18604" y="7987"/>
                </a:cubicBezTo>
                <a:cubicBezTo>
                  <a:pt x="18604" y="8061"/>
                  <a:pt x="18629" y="8094"/>
                  <a:pt x="18579" y="8086"/>
                </a:cubicBezTo>
              </a:path>
              <a:path w="4888" h="1489">
                <a:moveTo>
                  <a:pt x="19000" y="7813"/>
                </a:moveTo>
                <a:cubicBezTo>
                  <a:pt x="18990" y="7733"/>
                  <a:pt x="18990" y="7735"/>
                  <a:pt x="18926" y="7689"/>
                </a:cubicBezTo>
                <a:cubicBezTo>
                  <a:pt x="18808" y="7726"/>
                  <a:pt x="18557" y="7904"/>
                  <a:pt x="18703" y="8086"/>
                </a:cubicBezTo>
                <a:cubicBezTo>
                  <a:pt x="18736" y="8094"/>
                  <a:pt x="18769" y="8103"/>
                  <a:pt x="18802" y="8111"/>
                </a:cubicBezTo>
                <a:cubicBezTo>
                  <a:pt x="18820" y="8087"/>
                  <a:pt x="19000" y="7903"/>
                  <a:pt x="18951" y="7863"/>
                </a:cubicBezTo>
                <a:cubicBezTo>
                  <a:pt x="18917" y="7836"/>
                  <a:pt x="18946" y="7804"/>
                  <a:pt x="18951" y="7838"/>
                </a:cubicBezTo>
                <a:cubicBezTo>
                  <a:pt x="18981" y="8048"/>
                  <a:pt x="18990" y="8266"/>
                  <a:pt x="18876" y="8458"/>
                </a:cubicBezTo>
                <a:cubicBezTo>
                  <a:pt x="18799" y="8587"/>
                  <a:pt x="18593" y="8724"/>
                  <a:pt x="18554" y="8533"/>
                </a:cubicBezTo>
              </a:path>
              <a:path w="4888" h="1489">
                <a:moveTo>
                  <a:pt x="19224" y="7739"/>
                </a:moveTo>
                <a:cubicBezTo>
                  <a:pt x="19415" y="7747"/>
                  <a:pt x="19620" y="7757"/>
                  <a:pt x="19670" y="7516"/>
                </a:cubicBezTo>
                <a:cubicBezTo>
                  <a:pt x="19670" y="7466"/>
                  <a:pt x="19670" y="7417"/>
                  <a:pt x="19670" y="7367"/>
                </a:cubicBezTo>
                <a:cubicBezTo>
                  <a:pt x="19670" y="7209"/>
                  <a:pt x="19653" y="7581"/>
                  <a:pt x="19645" y="7739"/>
                </a:cubicBezTo>
                <a:cubicBezTo>
                  <a:pt x="19645" y="7833"/>
                  <a:pt x="19666" y="7896"/>
                  <a:pt x="19621" y="7838"/>
                </a:cubicBezTo>
                <a:cubicBezTo>
                  <a:pt x="19633" y="7778"/>
                  <a:pt x="19666" y="7458"/>
                  <a:pt x="19819" y="7590"/>
                </a:cubicBezTo>
                <a:cubicBezTo>
                  <a:pt x="19945" y="7699"/>
                  <a:pt x="19888" y="7852"/>
                  <a:pt x="19869" y="7987"/>
                </a:cubicBezTo>
              </a:path>
              <a:path w="4888" h="1489">
                <a:moveTo>
                  <a:pt x="20365" y="7417"/>
                </a:moveTo>
                <a:cubicBezTo>
                  <a:pt x="20469" y="7552"/>
                  <a:pt x="20583" y="7748"/>
                  <a:pt x="20712" y="7838"/>
                </a:cubicBezTo>
                <a:cubicBezTo>
                  <a:pt x="20720" y="7838"/>
                  <a:pt x="20729" y="7838"/>
                  <a:pt x="20737" y="7838"/>
                </a:cubicBezTo>
              </a:path>
              <a:path w="4888" h="1489">
                <a:moveTo>
                  <a:pt x="21109" y="7541"/>
                </a:moveTo>
                <a:cubicBezTo>
                  <a:pt x="21121" y="7604"/>
                  <a:pt x="21109" y="7947"/>
                  <a:pt x="21158" y="7962"/>
                </a:cubicBezTo>
                <a:cubicBezTo>
                  <a:pt x="21239" y="7987"/>
                  <a:pt x="21294" y="7681"/>
                  <a:pt x="21307" y="7640"/>
                </a:cubicBezTo>
                <a:cubicBezTo>
                  <a:pt x="21307" y="7702"/>
                  <a:pt x="21302" y="8032"/>
                  <a:pt x="21456" y="7888"/>
                </a:cubicBezTo>
                <a:cubicBezTo>
                  <a:pt x="21544" y="7806"/>
                  <a:pt x="21628" y="7549"/>
                  <a:pt x="21431" y="7541"/>
                </a:cubicBezTo>
                <a:cubicBezTo>
                  <a:pt x="21406" y="7549"/>
                  <a:pt x="21382" y="7557"/>
                  <a:pt x="21357" y="7565"/>
                </a:cubicBezTo>
              </a:path>
              <a:path w="4888" h="1489">
                <a:moveTo>
                  <a:pt x="21704" y="7565"/>
                </a:moveTo>
                <a:cubicBezTo>
                  <a:pt x="21745" y="7697"/>
                  <a:pt x="21778" y="7833"/>
                  <a:pt x="21754" y="7962"/>
                </a:cubicBezTo>
              </a:path>
              <a:path w="4888" h="1489">
                <a:moveTo>
                  <a:pt x="22250" y="7665"/>
                </a:moveTo>
                <a:cubicBezTo>
                  <a:pt x="22250" y="7619"/>
                  <a:pt x="22214" y="7463"/>
                  <a:pt x="22126" y="7541"/>
                </a:cubicBezTo>
                <a:cubicBezTo>
                  <a:pt x="21991" y="7660"/>
                  <a:pt x="22057" y="7782"/>
                  <a:pt x="22101" y="7913"/>
                </a:cubicBezTo>
                <a:cubicBezTo>
                  <a:pt x="22277" y="7833"/>
                  <a:pt x="22290" y="7598"/>
                  <a:pt x="22250" y="7392"/>
                </a:cubicBezTo>
                <a:cubicBezTo>
                  <a:pt x="22217" y="7221"/>
                  <a:pt x="22279" y="7467"/>
                  <a:pt x="22299" y="7640"/>
                </a:cubicBezTo>
                <a:cubicBezTo>
                  <a:pt x="22299" y="7774"/>
                  <a:pt x="22316" y="7796"/>
                  <a:pt x="22275" y="7863"/>
                </a:cubicBezTo>
              </a:path>
              <a:path w="4888" h="1489">
                <a:moveTo>
                  <a:pt x="22448" y="7169"/>
                </a:moveTo>
                <a:cubicBezTo>
                  <a:pt x="22590" y="7140"/>
                  <a:pt x="22546" y="7444"/>
                  <a:pt x="22547" y="7541"/>
                </a:cubicBezTo>
                <a:cubicBezTo>
                  <a:pt x="22549" y="7665"/>
                  <a:pt x="22547" y="7789"/>
                  <a:pt x="22547" y="7913"/>
                </a:cubicBezTo>
                <a:cubicBezTo>
                  <a:pt x="22640" y="7886"/>
                  <a:pt x="22690" y="7844"/>
                  <a:pt x="22771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97360" y="3652920"/>
            <a:ext cx="1963800" cy="401400"/>
          </a:xfrm>
          <a:custGeom>
            <a:avLst/>
            <a:gdLst/>
            <a:ahLst/>
            <a:rect l="l" t="t" r="r" b="b"/>
            <a:pathLst>
              <a:path w="5458" h="1117">
                <a:moveTo>
                  <a:pt x="15825" y="10790"/>
                </a:moveTo>
                <a:cubicBezTo>
                  <a:pt x="15901" y="10771"/>
                  <a:pt x="15986" y="10732"/>
                  <a:pt x="16073" y="10716"/>
                </a:cubicBezTo>
                <a:cubicBezTo>
                  <a:pt x="16108" y="10716"/>
                  <a:pt x="16112" y="10725"/>
                  <a:pt x="16073" y="10765"/>
                </a:cubicBezTo>
              </a:path>
              <a:path w="5458" h="1117">
                <a:moveTo>
                  <a:pt x="19372" y="10170"/>
                </a:moveTo>
                <a:cubicBezTo>
                  <a:pt x="19212" y="10414"/>
                  <a:pt x="19075" y="10738"/>
                  <a:pt x="19075" y="11038"/>
                </a:cubicBezTo>
                <a:cubicBezTo>
                  <a:pt x="19118" y="11169"/>
                  <a:pt x="19115" y="11219"/>
                  <a:pt x="19224" y="11187"/>
                </a:cubicBezTo>
              </a:path>
              <a:path w="5458" h="1117">
                <a:moveTo>
                  <a:pt x="20141" y="10716"/>
                </a:moveTo>
                <a:cubicBezTo>
                  <a:pt x="20129" y="10768"/>
                  <a:pt x="20125" y="10898"/>
                  <a:pt x="20092" y="10864"/>
                </a:cubicBezTo>
              </a:path>
              <a:path w="5458" h="1117">
                <a:moveTo>
                  <a:pt x="20092" y="10443"/>
                </a:moveTo>
                <a:lnTo>
                  <a:pt x="20092" y="10443"/>
                </a:lnTo>
              </a:path>
              <a:path w="5458" h="1117">
                <a:moveTo>
                  <a:pt x="20092" y="10443"/>
                </a:moveTo>
                <a:lnTo>
                  <a:pt x="20092" y="10443"/>
                </a:lnTo>
              </a:path>
              <a:path w="5458" h="1117">
                <a:moveTo>
                  <a:pt x="20538" y="10344"/>
                </a:moveTo>
                <a:cubicBezTo>
                  <a:pt x="20562" y="10544"/>
                  <a:pt x="20625" y="10780"/>
                  <a:pt x="20563" y="10964"/>
                </a:cubicBezTo>
              </a:path>
              <a:path w="5458" h="1117">
                <a:moveTo>
                  <a:pt x="20563" y="10964"/>
                </a:moveTo>
                <a:lnTo>
                  <a:pt x="20563" y="10964"/>
                </a:lnTo>
              </a:path>
              <a:path w="5458" h="1117">
                <a:moveTo>
                  <a:pt x="20935" y="10145"/>
                </a:moveTo>
                <a:cubicBezTo>
                  <a:pt x="21120" y="10410"/>
                  <a:pt x="21433" y="10783"/>
                  <a:pt x="21183" y="11112"/>
                </a:cubicBezTo>
                <a:cubicBezTo>
                  <a:pt x="21109" y="11162"/>
                  <a:pt x="21034" y="11211"/>
                  <a:pt x="20960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5040" y="3660840"/>
            <a:ext cx="465120" cy="519120"/>
          </a:xfrm>
          <a:custGeom>
            <a:avLst/>
            <a:gdLst/>
            <a:ahLst/>
            <a:rect l="l" t="t" r="r" b="b"/>
            <a:pathLst>
              <a:path w="1290" h="1440">
                <a:moveTo>
                  <a:pt x="14312" y="10368"/>
                </a:moveTo>
                <a:cubicBezTo>
                  <a:pt x="14286" y="10582"/>
                  <a:pt x="14191" y="10810"/>
                  <a:pt x="14114" y="11013"/>
                </a:cubicBezTo>
                <a:cubicBezTo>
                  <a:pt x="14059" y="11140"/>
                  <a:pt x="14070" y="11160"/>
                  <a:pt x="14015" y="11212"/>
                </a:cubicBezTo>
                <a:cubicBezTo>
                  <a:pt x="14109" y="10954"/>
                  <a:pt x="14201" y="10699"/>
                  <a:pt x="14362" y="10468"/>
                </a:cubicBezTo>
                <a:cubicBezTo>
                  <a:pt x="14455" y="10334"/>
                  <a:pt x="14557" y="10207"/>
                  <a:pt x="14684" y="10195"/>
                </a:cubicBezTo>
                <a:cubicBezTo>
                  <a:pt x="14739" y="10542"/>
                  <a:pt x="14674" y="10798"/>
                  <a:pt x="14585" y="11137"/>
                </a:cubicBezTo>
                <a:cubicBezTo>
                  <a:pt x="14577" y="11178"/>
                  <a:pt x="14568" y="11220"/>
                  <a:pt x="14560" y="11261"/>
                </a:cubicBezTo>
              </a:path>
              <a:path w="1290" h="1440">
                <a:moveTo>
                  <a:pt x="14114" y="11013"/>
                </a:moveTo>
                <a:cubicBezTo>
                  <a:pt x="14245" y="10979"/>
                  <a:pt x="14514" y="10875"/>
                  <a:pt x="14610" y="10914"/>
                </a:cubicBezTo>
              </a:path>
              <a:path w="1290" h="1440">
                <a:moveTo>
                  <a:pt x="14833" y="11162"/>
                </a:moveTo>
                <a:cubicBezTo>
                  <a:pt x="14888" y="11235"/>
                  <a:pt x="14841" y="11429"/>
                  <a:pt x="14808" y="11509"/>
                </a:cubicBezTo>
                <a:cubicBezTo>
                  <a:pt x="14770" y="11548"/>
                  <a:pt x="14753" y="11550"/>
                  <a:pt x="14759" y="11584"/>
                </a:cubicBezTo>
                <a:cubicBezTo>
                  <a:pt x="14878" y="11584"/>
                  <a:pt x="14988" y="11597"/>
                  <a:pt x="15106" y="11609"/>
                </a:cubicBezTo>
                <a:cubicBezTo>
                  <a:pt x="15172" y="11616"/>
                  <a:pt x="15185" y="11613"/>
                  <a:pt x="15205" y="11559"/>
                </a:cubicBezTo>
                <a:cubicBezTo>
                  <a:pt x="15257" y="11423"/>
                  <a:pt x="15293" y="11284"/>
                  <a:pt x="15304" y="11137"/>
                </a:cubicBezTo>
                <a:cubicBezTo>
                  <a:pt x="15306" y="11113"/>
                  <a:pt x="15304" y="11087"/>
                  <a:pt x="15304" y="11063"/>
                </a:cubicBezTo>
                <a:cubicBezTo>
                  <a:pt x="15182" y="11084"/>
                  <a:pt x="15057" y="11125"/>
                  <a:pt x="14932" y="11137"/>
                </a:cubicBezTo>
                <a:cubicBezTo>
                  <a:pt x="14868" y="11143"/>
                  <a:pt x="14799" y="11137"/>
                  <a:pt x="1473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32640" y="3919680"/>
            <a:ext cx="8064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5925" y="10914"/>
                </a:moveTo>
                <a:cubicBezTo>
                  <a:pt x="16002" y="10914"/>
                  <a:pt x="16073" y="10897"/>
                  <a:pt x="16148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7040" y="3625920"/>
            <a:ext cx="554040" cy="428400"/>
          </a:xfrm>
          <a:custGeom>
            <a:avLst/>
            <a:gdLst/>
            <a:ahLst/>
            <a:rect l="l" t="t" r="r" b="b"/>
            <a:pathLst>
              <a:path w="1539" h="1191">
                <a:moveTo>
                  <a:pt x="17661" y="10641"/>
                </a:moveTo>
                <a:cubicBezTo>
                  <a:pt x="17507" y="10583"/>
                  <a:pt x="17378" y="10630"/>
                  <a:pt x="17239" y="10716"/>
                </a:cubicBezTo>
                <a:cubicBezTo>
                  <a:pt x="17231" y="10724"/>
                  <a:pt x="17222" y="10732"/>
                  <a:pt x="17214" y="10740"/>
                </a:cubicBezTo>
                <a:cubicBezTo>
                  <a:pt x="17309" y="10847"/>
                  <a:pt x="17577" y="10924"/>
                  <a:pt x="17512" y="11112"/>
                </a:cubicBezTo>
                <a:cubicBezTo>
                  <a:pt x="17432" y="11341"/>
                  <a:pt x="17136" y="11240"/>
                  <a:pt x="16991" y="11187"/>
                </a:cubicBezTo>
                <a:cubicBezTo>
                  <a:pt x="16953" y="11149"/>
                  <a:pt x="17209" y="11151"/>
                  <a:pt x="17264" y="11162"/>
                </a:cubicBezTo>
                <a:cubicBezTo>
                  <a:pt x="17272" y="11170"/>
                  <a:pt x="17281" y="11179"/>
                  <a:pt x="17289" y="11187"/>
                </a:cubicBezTo>
              </a:path>
              <a:path w="1539" h="1191">
                <a:moveTo>
                  <a:pt x="18281" y="10096"/>
                </a:moveTo>
                <a:cubicBezTo>
                  <a:pt x="18281" y="10153"/>
                  <a:pt x="18330" y="10004"/>
                  <a:pt x="18405" y="10071"/>
                </a:cubicBezTo>
                <a:cubicBezTo>
                  <a:pt x="18568" y="10218"/>
                  <a:pt x="18344" y="10463"/>
                  <a:pt x="18182" y="10468"/>
                </a:cubicBezTo>
                <a:cubicBezTo>
                  <a:pt x="18147" y="10469"/>
                  <a:pt x="18113" y="10393"/>
                  <a:pt x="18107" y="10368"/>
                </a:cubicBezTo>
                <a:cubicBezTo>
                  <a:pt x="18218" y="10368"/>
                  <a:pt x="18321" y="10374"/>
                  <a:pt x="18430" y="10344"/>
                </a:cubicBezTo>
                <a:cubicBezTo>
                  <a:pt x="18470" y="10324"/>
                  <a:pt x="18476" y="10315"/>
                  <a:pt x="18504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83280" y="3776760"/>
            <a:ext cx="581040" cy="196920"/>
          </a:xfrm>
          <a:custGeom>
            <a:avLst/>
            <a:gdLst/>
            <a:ahLst/>
            <a:rect l="l" t="t" r="r" b="b"/>
            <a:pathLst>
              <a:path w="1614" h="547">
                <a:moveTo>
                  <a:pt x="19869" y="10616"/>
                </a:moveTo>
                <a:cubicBezTo>
                  <a:pt x="19742" y="10634"/>
                  <a:pt x="19696" y="10661"/>
                  <a:pt x="19596" y="10740"/>
                </a:cubicBezTo>
                <a:cubicBezTo>
                  <a:pt x="19724" y="10780"/>
                  <a:pt x="19751" y="10783"/>
                  <a:pt x="19819" y="10889"/>
                </a:cubicBezTo>
                <a:cubicBezTo>
                  <a:pt x="19740" y="10947"/>
                  <a:pt x="19493" y="11113"/>
                  <a:pt x="19397" y="10964"/>
                </a:cubicBezTo>
                <a:cubicBezTo>
                  <a:pt x="19405" y="10947"/>
                  <a:pt x="19414" y="10931"/>
                  <a:pt x="19422" y="10914"/>
                </a:cubicBezTo>
              </a:path>
              <a:path w="1614" h="547">
                <a:moveTo>
                  <a:pt x="20588" y="10691"/>
                </a:moveTo>
                <a:cubicBezTo>
                  <a:pt x="20466" y="10642"/>
                  <a:pt x="20516" y="10586"/>
                  <a:pt x="20365" y="10740"/>
                </a:cubicBezTo>
                <a:cubicBezTo>
                  <a:pt x="20277" y="10849"/>
                  <a:pt x="20239" y="10873"/>
                  <a:pt x="20290" y="10964"/>
                </a:cubicBezTo>
                <a:cubicBezTo>
                  <a:pt x="20611" y="10962"/>
                  <a:pt x="20563" y="10770"/>
                  <a:pt x="20563" y="10492"/>
                </a:cubicBezTo>
              </a:path>
              <a:path w="1614" h="547">
                <a:moveTo>
                  <a:pt x="20811" y="10790"/>
                </a:moveTo>
                <a:cubicBezTo>
                  <a:pt x="20927" y="10763"/>
                  <a:pt x="20937" y="10795"/>
                  <a:pt x="20910" y="10716"/>
                </a:cubicBezTo>
                <a:cubicBezTo>
                  <a:pt x="20775" y="10634"/>
                  <a:pt x="20618" y="10709"/>
                  <a:pt x="20662" y="10914"/>
                </a:cubicBezTo>
                <a:cubicBezTo>
                  <a:pt x="20711" y="11139"/>
                  <a:pt x="20916" y="10980"/>
                  <a:pt x="21010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96120" y="2276640"/>
            <a:ext cx="6192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20265" y="6325"/>
                </a:moveTo>
                <a:cubicBezTo>
                  <a:pt x="20300" y="6446"/>
                  <a:pt x="20379" y="6559"/>
                  <a:pt x="20439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6200" y="4875120"/>
            <a:ext cx="2465640" cy="285840"/>
          </a:xfrm>
          <a:custGeom>
            <a:avLst/>
            <a:gdLst/>
            <a:ahLst/>
            <a:rect l="l" t="t" r="r" b="b"/>
            <a:pathLst>
              <a:path w="6847" h="795">
                <a:moveTo>
                  <a:pt x="16545" y="14337"/>
                </a:moveTo>
                <a:cubicBezTo>
                  <a:pt x="16686" y="14294"/>
                  <a:pt x="17022" y="14137"/>
                  <a:pt x="17165" y="14213"/>
                </a:cubicBezTo>
                <a:cubicBezTo>
                  <a:pt x="17165" y="14230"/>
                  <a:pt x="17165" y="14246"/>
                  <a:pt x="17165" y="14263"/>
                </a:cubicBezTo>
              </a:path>
              <a:path w="6847" h="795">
                <a:moveTo>
                  <a:pt x="21977" y="13618"/>
                </a:moveTo>
                <a:cubicBezTo>
                  <a:pt x="21952" y="13670"/>
                  <a:pt x="21710" y="14190"/>
                  <a:pt x="21654" y="14163"/>
                </a:cubicBezTo>
                <a:cubicBezTo>
                  <a:pt x="21662" y="14147"/>
                  <a:pt x="21671" y="14130"/>
                  <a:pt x="21679" y="14114"/>
                </a:cubicBezTo>
              </a:path>
              <a:path w="6847" h="795">
                <a:moveTo>
                  <a:pt x="23391" y="13891"/>
                </a:moveTo>
                <a:cubicBezTo>
                  <a:pt x="23344" y="14030"/>
                  <a:pt x="23329" y="14069"/>
                  <a:pt x="23316" y="14163"/>
                </a:cubicBezTo>
              </a:path>
              <a:path w="6847" h="795">
                <a:moveTo>
                  <a:pt x="23366" y="13568"/>
                </a:moveTo>
                <a:cubicBezTo>
                  <a:pt x="23358" y="13560"/>
                  <a:pt x="23349" y="13551"/>
                  <a:pt x="23341" y="13543"/>
                </a:cubicBezTo>
              </a:path>
              <a:path w="6847" h="795">
                <a:moveTo>
                  <a:pt x="23341" y="13543"/>
                </a:moveTo>
                <a:lnTo>
                  <a:pt x="23341" y="135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0360" y="5089680"/>
            <a:ext cx="7164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9000" y="14139"/>
                </a:moveTo>
                <a:cubicBezTo>
                  <a:pt x="19041" y="14139"/>
                  <a:pt x="19083" y="14139"/>
                  <a:pt x="19124" y="14139"/>
                </a:cubicBezTo>
              </a:path>
              <a:path w="200" h="199">
                <a:moveTo>
                  <a:pt x="19025" y="14337"/>
                </a:moveTo>
                <a:cubicBezTo>
                  <a:pt x="19116" y="14337"/>
                  <a:pt x="19141" y="14337"/>
                  <a:pt x="19199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11920" y="4919760"/>
            <a:ext cx="714240" cy="573120"/>
          </a:xfrm>
          <a:custGeom>
            <a:avLst/>
            <a:gdLst/>
            <a:ahLst/>
            <a:rect l="l" t="t" r="r" b="b"/>
            <a:pathLst>
              <a:path w="1985" h="1589">
                <a:moveTo>
                  <a:pt x="16768" y="13841"/>
                </a:moveTo>
                <a:cubicBezTo>
                  <a:pt x="16670" y="14097"/>
                  <a:pt x="16592" y="14361"/>
                  <a:pt x="16470" y="14610"/>
                </a:cubicBezTo>
                <a:cubicBezTo>
                  <a:pt x="16454" y="14635"/>
                  <a:pt x="16437" y="14659"/>
                  <a:pt x="16421" y="14684"/>
                </a:cubicBezTo>
                <a:cubicBezTo>
                  <a:pt x="16535" y="14436"/>
                  <a:pt x="16638" y="14166"/>
                  <a:pt x="16793" y="13940"/>
                </a:cubicBezTo>
                <a:cubicBezTo>
                  <a:pt x="16913" y="13765"/>
                  <a:pt x="16984" y="13706"/>
                  <a:pt x="17165" y="13667"/>
                </a:cubicBezTo>
                <a:cubicBezTo>
                  <a:pt x="17191" y="13976"/>
                  <a:pt x="17138" y="14262"/>
                  <a:pt x="17041" y="14560"/>
                </a:cubicBezTo>
                <a:cubicBezTo>
                  <a:pt x="17005" y="14650"/>
                  <a:pt x="17024" y="14692"/>
                  <a:pt x="16966" y="14684"/>
                </a:cubicBezTo>
              </a:path>
              <a:path w="1985" h="1589">
                <a:moveTo>
                  <a:pt x="17462" y="14734"/>
                </a:moveTo>
                <a:cubicBezTo>
                  <a:pt x="17330" y="14848"/>
                  <a:pt x="17194" y="15040"/>
                  <a:pt x="17066" y="15180"/>
                </a:cubicBezTo>
                <a:cubicBezTo>
                  <a:pt x="17027" y="15219"/>
                  <a:pt x="17010" y="15221"/>
                  <a:pt x="17016" y="15255"/>
                </a:cubicBezTo>
              </a:path>
              <a:path w="1985" h="1589">
                <a:moveTo>
                  <a:pt x="18281" y="14833"/>
                </a:moveTo>
                <a:cubicBezTo>
                  <a:pt x="18315" y="14825"/>
                  <a:pt x="18359" y="14782"/>
                  <a:pt x="18331" y="14808"/>
                </a:cubicBezTo>
                <a:cubicBezTo>
                  <a:pt x="18215" y="14915"/>
                  <a:pt x="18089" y="15056"/>
                  <a:pt x="17959" y="15131"/>
                </a:cubicBezTo>
              </a:path>
              <a:path w="1985" h="1589">
                <a:moveTo>
                  <a:pt x="17388" y="14660"/>
                </a:moveTo>
                <a:cubicBezTo>
                  <a:pt x="17388" y="14703"/>
                  <a:pt x="17389" y="14699"/>
                  <a:pt x="17363" y="14734"/>
                </a:cubicBezTo>
              </a:path>
              <a:path w="1985" h="1589">
                <a:moveTo>
                  <a:pt x="17388" y="14759"/>
                </a:moveTo>
                <a:cubicBezTo>
                  <a:pt x="17435" y="14771"/>
                  <a:pt x="17454" y="14795"/>
                  <a:pt x="17512" y="14784"/>
                </a:cubicBezTo>
                <a:cubicBezTo>
                  <a:pt x="17685" y="14752"/>
                  <a:pt x="17856" y="14759"/>
                  <a:pt x="18033" y="14759"/>
                </a:cubicBezTo>
                <a:cubicBezTo>
                  <a:pt x="18134" y="14759"/>
                  <a:pt x="18213" y="14768"/>
                  <a:pt x="18306" y="14784"/>
                </a:cubicBezTo>
                <a:cubicBezTo>
                  <a:pt x="18335" y="14789"/>
                  <a:pt x="18428" y="14765"/>
                  <a:pt x="18380" y="14784"/>
                </a:cubicBezTo>
                <a:cubicBezTo>
                  <a:pt x="18364" y="14792"/>
                  <a:pt x="18347" y="14800"/>
                  <a:pt x="18331" y="14808"/>
                </a:cubicBezTo>
              </a:path>
              <a:path w="1985" h="1589">
                <a:moveTo>
                  <a:pt x="16966" y="15156"/>
                </a:moveTo>
                <a:cubicBezTo>
                  <a:pt x="17077" y="15177"/>
                  <a:pt x="17147" y="15162"/>
                  <a:pt x="17264" y="15156"/>
                </a:cubicBezTo>
                <a:cubicBezTo>
                  <a:pt x="17458" y="15146"/>
                  <a:pt x="17646" y="15163"/>
                  <a:pt x="17835" y="15180"/>
                </a:cubicBezTo>
                <a:cubicBezTo>
                  <a:pt x="17883" y="15184"/>
                  <a:pt x="17935" y="15180"/>
                  <a:pt x="17983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4830840"/>
            <a:ext cx="561960" cy="312840"/>
          </a:xfrm>
          <a:custGeom>
            <a:avLst/>
            <a:gdLst/>
            <a:ahLst/>
            <a:rect l="l" t="t" r="r" b="b"/>
            <a:pathLst>
              <a:path w="1563" h="870">
                <a:moveTo>
                  <a:pt x="19695" y="13419"/>
                </a:moveTo>
                <a:cubicBezTo>
                  <a:pt x="19719" y="13705"/>
                  <a:pt x="19714" y="13956"/>
                  <a:pt x="19670" y="14238"/>
                </a:cubicBezTo>
                <a:cubicBezTo>
                  <a:pt x="19670" y="14246"/>
                  <a:pt x="19670" y="14255"/>
                  <a:pt x="19670" y="14263"/>
                </a:cubicBezTo>
                <a:cubicBezTo>
                  <a:pt x="19709" y="14108"/>
                  <a:pt x="19786" y="13871"/>
                  <a:pt x="19918" y="13767"/>
                </a:cubicBezTo>
                <a:cubicBezTo>
                  <a:pt x="19968" y="13750"/>
                  <a:pt x="20017" y="13734"/>
                  <a:pt x="20067" y="13717"/>
                </a:cubicBezTo>
                <a:cubicBezTo>
                  <a:pt x="20204" y="13934"/>
                  <a:pt x="20213" y="14142"/>
                  <a:pt x="19918" y="14263"/>
                </a:cubicBezTo>
                <a:cubicBezTo>
                  <a:pt x="19758" y="14328"/>
                  <a:pt x="19565" y="14318"/>
                  <a:pt x="19645" y="14139"/>
                </a:cubicBezTo>
              </a:path>
              <a:path w="1563" h="870">
                <a:moveTo>
                  <a:pt x="20464" y="13965"/>
                </a:moveTo>
                <a:cubicBezTo>
                  <a:pt x="20480" y="13899"/>
                  <a:pt x="20525" y="13788"/>
                  <a:pt x="20464" y="13717"/>
                </a:cubicBezTo>
                <a:cubicBezTo>
                  <a:pt x="20439" y="13709"/>
                  <a:pt x="20414" y="13700"/>
                  <a:pt x="20389" y="13692"/>
                </a:cubicBezTo>
                <a:cubicBezTo>
                  <a:pt x="20320" y="13750"/>
                  <a:pt x="20033" y="14128"/>
                  <a:pt x="20191" y="14238"/>
                </a:cubicBezTo>
                <a:cubicBezTo>
                  <a:pt x="20301" y="14315"/>
                  <a:pt x="20444" y="13956"/>
                  <a:pt x="20464" y="13915"/>
                </a:cubicBezTo>
                <a:cubicBezTo>
                  <a:pt x="20464" y="13824"/>
                  <a:pt x="20472" y="13999"/>
                  <a:pt x="20489" y="14089"/>
                </a:cubicBezTo>
                <a:cubicBezTo>
                  <a:pt x="20507" y="14163"/>
                  <a:pt x="20489" y="14196"/>
                  <a:pt x="20538" y="14188"/>
                </a:cubicBezTo>
              </a:path>
              <a:path w="1563" h="870">
                <a:moveTo>
                  <a:pt x="20811" y="13767"/>
                </a:moveTo>
                <a:cubicBezTo>
                  <a:pt x="20757" y="13840"/>
                  <a:pt x="20765" y="13873"/>
                  <a:pt x="20712" y="13866"/>
                </a:cubicBezTo>
                <a:cubicBezTo>
                  <a:pt x="20796" y="13936"/>
                  <a:pt x="20933" y="14028"/>
                  <a:pt x="20836" y="14163"/>
                </a:cubicBezTo>
                <a:cubicBezTo>
                  <a:pt x="20724" y="14318"/>
                  <a:pt x="20548" y="14194"/>
                  <a:pt x="20538" y="14089"/>
                </a:cubicBezTo>
              </a:path>
              <a:path w="1563" h="870">
                <a:moveTo>
                  <a:pt x="20960" y="13990"/>
                </a:moveTo>
                <a:cubicBezTo>
                  <a:pt x="21031" y="13990"/>
                  <a:pt x="21076" y="13986"/>
                  <a:pt x="21134" y="14015"/>
                </a:cubicBezTo>
                <a:cubicBezTo>
                  <a:pt x="21134" y="13956"/>
                  <a:pt x="21101" y="13828"/>
                  <a:pt x="21059" y="13791"/>
                </a:cubicBezTo>
                <a:cubicBezTo>
                  <a:pt x="20958" y="13702"/>
                  <a:pt x="20924" y="14123"/>
                  <a:pt x="20960" y="14188"/>
                </a:cubicBezTo>
                <a:cubicBezTo>
                  <a:pt x="21044" y="14245"/>
                  <a:pt x="21081" y="14259"/>
                  <a:pt x="2115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04080" y="4714920"/>
            <a:ext cx="1081080" cy="608040"/>
          </a:xfrm>
          <a:custGeom>
            <a:avLst/>
            <a:gdLst/>
            <a:ahLst/>
            <a:rect l="l" t="t" r="r" b="b"/>
            <a:pathLst>
              <a:path w="3003" h="1688">
                <a:moveTo>
                  <a:pt x="21679" y="13667"/>
                </a:moveTo>
                <a:cubicBezTo>
                  <a:pt x="21719" y="13792"/>
                  <a:pt x="21778" y="14078"/>
                  <a:pt x="21878" y="14163"/>
                </a:cubicBezTo>
                <a:cubicBezTo>
                  <a:pt x="21878" y="14147"/>
                  <a:pt x="21878" y="14130"/>
                  <a:pt x="21878" y="14114"/>
                </a:cubicBezTo>
              </a:path>
              <a:path w="3003" h="1688">
                <a:moveTo>
                  <a:pt x="22423" y="13097"/>
                </a:moveTo>
                <a:cubicBezTo>
                  <a:pt x="22414" y="13439"/>
                  <a:pt x="22385" y="13774"/>
                  <a:pt x="22349" y="14114"/>
                </a:cubicBezTo>
                <a:cubicBezTo>
                  <a:pt x="22349" y="14122"/>
                  <a:pt x="22349" y="14131"/>
                  <a:pt x="22349" y="14139"/>
                </a:cubicBezTo>
                <a:cubicBezTo>
                  <a:pt x="22378" y="13929"/>
                  <a:pt x="22414" y="13832"/>
                  <a:pt x="22572" y="13667"/>
                </a:cubicBezTo>
                <a:cubicBezTo>
                  <a:pt x="22682" y="13580"/>
                  <a:pt x="22705" y="13542"/>
                  <a:pt x="22796" y="13593"/>
                </a:cubicBezTo>
                <a:cubicBezTo>
                  <a:pt x="22813" y="13798"/>
                  <a:pt x="22786" y="13943"/>
                  <a:pt x="22721" y="14139"/>
                </a:cubicBezTo>
                <a:cubicBezTo>
                  <a:pt x="22878" y="14157"/>
                  <a:pt x="22996" y="14017"/>
                  <a:pt x="23068" y="13866"/>
                </a:cubicBezTo>
                <a:cubicBezTo>
                  <a:pt x="23130" y="13735"/>
                  <a:pt x="23074" y="13777"/>
                  <a:pt x="23044" y="13717"/>
                </a:cubicBezTo>
                <a:cubicBezTo>
                  <a:pt x="22991" y="13816"/>
                  <a:pt x="22831" y="14082"/>
                  <a:pt x="22994" y="14163"/>
                </a:cubicBezTo>
                <a:cubicBezTo>
                  <a:pt x="23112" y="14163"/>
                  <a:pt x="23164" y="14157"/>
                  <a:pt x="23242" y="14114"/>
                </a:cubicBezTo>
              </a:path>
              <a:path w="3003" h="1688">
                <a:moveTo>
                  <a:pt x="23862" y="13816"/>
                </a:moveTo>
                <a:cubicBezTo>
                  <a:pt x="23735" y="13691"/>
                  <a:pt x="23639" y="13881"/>
                  <a:pt x="23589" y="13990"/>
                </a:cubicBezTo>
                <a:cubicBezTo>
                  <a:pt x="23457" y="14277"/>
                  <a:pt x="23742" y="14020"/>
                  <a:pt x="23788" y="13915"/>
                </a:cubicBezTo>
                <a:cubicBezTo>
                  <a:pt x="23796" y="13882"/>
                  <a:pt x="23804" y="13849"/>
                  <a:pt x="23812" y="13816"/>
                </a:cubicBezTo>
                <a:cubicBezTo>
                  <a:pt x="23824" y="14009"/>
                  <a:pt x="23873" y="14221"/>
                  <a:pt x="23812" y="14412"/>
                </a:cubicBezTo>
                <a:cubicBezTo>
                  <a:pt x="23711" y="14730"/>
                  <a:pt x="23387" y="14791"/>
                  <a:pt x="23143" y="14709"/>
                </a:cubicBezTo>
                <a:cubicBezTo>
                  <a:pt x="23243" y="14541"/>
                  <a:pt x="23302" y="14461"/>
                  <a:pt x="23416" y="14362"/>
                </a:cubicBezTo>
              </a:path>
              <a:path w="3003" h="1688">
                <a:moveTo>
                  <a:pt x="24036" y="13643"/>
                </a:moveTo>
                <a:cubicBezTo>
                  <a:pt x="24016" y="13810"/>
                  <a:pt x="23874" y="14232"/>
                  <a:pt x="23961" y="14089"/>
                </a:cubicBezTo>
                <a:cubicBezTo>
                  <a:pt x="24029" y="13978"/>
                  <a:pt x="24074" y="13859"/>
                  <a:pt x="24135" y="13742"/>
                </a:cubicBezTo>
                <a:cubicBezTo>
                  <a:pt x="24135" y="13725"/>
                  <a:pt x="24135" y="13709"/>
                  <a:pt x="24135" y="13692"/>
                </a:cubicBezTo>
                <a:cubicBezTo>
                  <a:pt x="24112" y="13827"/>
                  <a:pt x="24093" y="13980"/>
                  <a:pt x="24061" y="14114"/>
                </a:cubicBezTo>
                <a:cubicBezTo>
                  <a:pt x="24033" y="14230"/>
                  <a:pt x="24053" y="14180"/>
                  <a:pt x="24185" y="14114"/>
                </a:cubicBezTo>
              </a:path>
              <a:path w="3003" h="1688">
                <a:moveTo>
                  <a:pt x="24408" y="13395"/>
                </a:moveTo>
                <a:cubicBezTo>
                  <a:pt x="24408" y="13571"/>
                  <a:pt x="24392" y="13741"/>
                  <a:pt x="24383" y="13915"/>
                </a:cubicBezTo>
                <a:cubicBezTo>
                  <a:pt x="24383" y="14041"/>
                  <a:pt x="24376" y="14068"/>
                  <a:pt x="24408" y="14139"/>
                </a:cubicBezTo>
                <a:cubicBezTo>
                  <a:pt x="24532" y="14150"/>
                  <a:pt x="24571" y="14110"/>
                  <a:pt x="24681" y="14039"/>
                </a:cubicBezTo>
              </a:path>
              <a:path w="3003" h="1688">
                <a:moveTo>
                  <a:pt x="24209" y="13841"/>
                </a:moveTo>
                <a:cubicBezTo>
                  <a:pt x="24229" y="13830"/>
                  <a:pt x="24548" y="13692"/>
                  <a:pt x="24482" y="13692"/>
                </a:cubicBezTo>
              </a:path>
              <a:path w="3003" h="1688">
                <a:moveTo>
                  <a:pt x="24110" y="13345"/>
                </a:moveTo>
                <a:cubicBezTo>
                  <a:pt x="24110" y="13484"/>
                  <a:pt x="24102" y="13579"/>
                  <a:pt x="24061" y="13717"/>
                </a:cubicBezTo>
                <a:cubicBezTo>
                  <a:pt x="24053" y="13734"/>
                  <a:pt x="24044" y="13750"/>
                  <a:pt x="2403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038480" y="2057400"/>
                <a:ext cx="914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133720" y="3352680"/>
                <a:ext cx="1066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352680" y="2590560"/>
            <a:ext cx="4419360" cy="2514960"/>
            <a:chOff x="3352680" y="2590560"/>
            <a:chExt cx="4419360" cy="2514960"/>
          </a:xfrm>
        </p:grpSpPr>
        <p:sp>
          <p:nvSpPr>
            <p:cNvPr id="262" name=""/>
            <p:cNvSpPr/>
            <p:nvPr/>
          </p:nvSpPr>
          <p:spPr>
            <a:xfrm>
              <a:off x="3352680" y="25909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2590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680" y="51055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409720" y="2590560"/>
              <a:ext cx="236196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105520" y="5257800"/>
                <a:ext cx="1218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410080" y="259092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60680" y="3500280"/>
            <a:ext cx="3046320" cy="2911680"/>
          </a:xfrm>
          <a:custGeom>
            <a:avLst/>
            <a:gdLst/>
            <a:ahLst/>
            <a:rect l="l" t="t" r="r" b="b"/>
            <a:pathLst>
              <a:path w="8459" h="8088">
                <a:moveTo>
                  <a:pt x="12824" y="9798"/>
                </a:moveTo>
                <a:cubicBezTo>
                  <a:pt x="12914" y="9764"/>
                  <a:pt x="12978" y="9736"/>
                  <a:pt x="13072" y="9723"/>
                </a:cubicBezTo>
              </a:path>
              <a:path w="8459" h="8088">
                <a:moveTo>
                  <a:pt x="4614" y="17785"/>
                </a:moveTo>
                <a:cubicBezTo>
                  <a:pt x="4638" y="17785"/>
                  <a:pt x="4646" y="17785"/>
                  <a:pt x="4638" y="178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8200" y="4572000"/>
            <a:ext cx="4000680" cy="1874880"/>
          </a:xfrm>
          <a:custGeom>
            <a:avLst/>
            <a:gdLst/>
            <a:ahLst/>
            <a:rect l="l" t="t" r="r" b="b"/>
            <a:pathLst>
              <a:path w="11114" h="5210">
                <a:moveTo>
                  <a:pt x="769" y="17760"/>
                </a:moveTo>
                <a:cubicBezTo>
                  <a:pt x="761" y="17768"/>
                  <a:pt x="752" y="17777"/>
                  <a:pt x="744" y="17785"/>
                </a:cubicBezTo>
              </a:path>
              <a:path w="11114" h="5210">
                <a:moveTo>
                  <a:pt x="11832" y="12700"/>
                </a:moveTo>
                <a:cubicBezTo>
                  <a:pt x="11840" y="12700"/>
                  <a:pt x="11849" y="12700"/>
                  <a:pt x="11857" y="12700"/>
                </a:cubicBezTo>
              </a:path>
              <a:path w="11114" h="5210">
                <a:moveTo>
                  <a:pt x="4638" y="16570"/>
                </a:moveTo>
                <a:cubicBezTo>
                  <a:pt x="4804" y="16487"/>
                  <a:pt x="4949" y="16457"/>
                  <a:pt x="5135" y="16446"/>
                </a:cubicBezTo>
              </a:path>
              <a:path w="11114" h="5210">
                <a:moveTo>
                  <a:pt x="7169" y="17537"/>
                </a:moveTo>
                <a:cubicBezTo>
                  <a:pt x="7266" y="17672"/>
                  <a:pt x="7278" y="17747"/>
                  <a:pt x="724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74800" y="5715000"/>
            <a:ext cx="581040" cy="3668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2530" y="16024"/>
                </a:moveTo>
                <a:cubicBezTo>
                  <a:pt x="2565" y="16216"/>
                  <a:pt x="2504" y="16447"/>
                  <a:pt x="2456" y="16644"/>
                </a:cubicBezTo>
                <a:cubicBezTo>
                  <a:pt x="2424" y="16777"/>
                  <a:pt x="2449" y="16728"/>
                  <a:pt x="2431" y="16694"/>
                </a:cubicBezTo>
                <a:cubicBezTo>
                  <a:pt x="2512" y="16416"/>
                  <a:pt x="2569" y="16086"/>
                  <a:pt x="2803" y="15900"/>
                </a:cubicBezTo>
                <a:cubicBezTo>
                  <a:pt x="2828" y="15892"/>
                  <a:pt x="2852" y="15883"/>
                  <a:pt x="2877" y="15875"/>
                </a:cubicBezTo>
                <a:cubicBezTo>
                  <a:pt x="3097" y="16093"/>
                  <a:pt x="3158" y="16302"/>
                  <a:pt x="3150" y="16619"/>
                </a:cubicBezTo>
                <a:cubicBezTo>
                  <a:pt x="3149" y="16663"/>
                  <a:pt x="3108" y="16861"/>
                  <a:pt x="3101" y="16892"/>
                </a:cubicBezTo>
              </a:path>
              <a:path w="1613" h="1018">
                <a:moveTo>
                  <a:pt x="2456" y="16545"/>
                </a:moveTo>
                <a:cubicBezTo>
                  <a:pt x="2646" y="16488"/>
                  <a:pt x="2829" y="16432"/>
                  <a:pt x="3026" y="16421"/>
                </a:cubicBezTo>
                <a:cubicBezTo>
                  <a:pt x="3051" y="16421"/>
                  <a:pt x="3076" y="16421"/>
                  <a:pt x="3101" y="16421"/>
                </a:cubicBezTo>
              </a:path>
              <a:path w="1613" h="1018">
                <a:moveTo>
                  <a:pt x="3547" y="16346"/>
                </a:moveTo>
                <a:cubicBezTo>
                  <a:pt x="3636" y="16340"/>
                  <a:pt x="3838" y="16257"/>
                  <a:pt x="3919" y="16297"/>
                </a:cubicBezTo>
                <a:cubicBezTo>
                  <a:pt x="3911" y="16305"/>
                  <a:pt x="3902" y="16313"/>
                  <a:pt x="3894" y="16321"/>
                </a:cubicBezTo>
              </a:path>
              <a:path w="1613" h="1018">
                <a:moveTo>
                  <a:pt x="3646" y="16619"/>
                </a:moveTo>
                <a:cubicBezTo>
                  <a:pt x="3785" y="16573"/>
                  <a:pt x="3927" y="16545"/>
                  <a:pt x="4043" y="164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25760" y="5653080"/>
            <a:ext cx="1606320" cy="741240"/>
          </a:xfrm>
          <a:custGeom>
            <a:avLst/>
            <a:gdLst/>
            <a:ahLst/>
            <a:rect l="l" t="t" r="r" b="b"/>
            <a:pathLst>
              <a:path w="4466" h="2060">
                <a:moveTo>
                  <a:pt x="4713" y="15949"/>
                </a:moveTo>
                <a:cubicBezTo>
                  <a:pt x="4679" y="16183"/>
                  <a:pt x="4643" y="16395"/>
                  <a:pt x="4564" y="16619"/>
                </a:cubicBezTo>
                <a:cubicBezTo>
                  <a:pt x="4547" y="16660"/>
                  <a:pt x="4531" y="16702"/>
                  <a:pt x="4514" y="16743"/>
                </a:cubicBezTo>
                <a:cubicBezTo>
                  <a:pt x="4551" y="16417"/>
                  <a:pt x="4668" y="16164"/>
                  <a:pt x="4862" y="15900"/>
                </a:cubicBezTo>
                <a:cubicBezTo>
                  <a:pt x="4924" y="15837"/>
                  <a:pt x="4934" y="15804"/>
                  <a:pt x="4986" y="15850"/>
                </a:cubicBezTo>
                <a:cubicBezTo>
                  <a:pt x="5077" y="16117"/>
                  <a:pt x="5190" y="16406"/>
                  <a:pt x="5184" y="16694"/>
                </a:cubicBezTo>
                <a:cubicBezTo>
                  <a:pt x="5181" y="16861"/>
                  <a:pt x="5183" y="16892"/>
                  <a:pt x="5110" y="16768"/>
                </a:cubicBezTo>
              </a:path>
              <a:path w="4466" h="2060">
                <a:moveTo>
                  <a:pt x="5606" y="16793"/>
                </a:moveTo>
                <a:cubicBezTo>
                  <a:pt x="5613" y="16901"/>
                  <a:pt x="5625" y="17007"/>
                  <a:pt x="5631" y="17115"/>
                </a:cubicBezTo>
                <a:cubicBezTo>
                  <a:pt x="5770" y="17086"/>
                  <a:pt x="5874" y="17029"/>
                  <a:pt x="6028" y="17016"/>
                </a:cubicBezTo>
                <a:cubicBezTo>
                  <a:pt x="6121" y="17008"/>
                  <a:pt x="6183" y="17000"/>
                  <a:pt x="6251" y="17041"/>
                </a:cubicBezTo>
                <a:cubicBezTo>
                  <a:pt x="6230" y="16955"/>
                  <a:pt x="6196" y="16815"/>
                  <a:pt x="6226" y="16718"/>
                </a:cubicBezTo>
                <a:cubicBezTo>
                  <a:pt x="6243" y="16702"/>
                  <a:pt x="6259" y="16685"/>
                  <a:pt x="6276" y="16669"/>
                </a:cubicBezTo>
                <a:cubicBezTo>
                  <a:pt x="6124" y="16699"/>
                  <a:pt x="5956" y="16749"/>
                  <a:pt x="5804" y="16793"/>
                </a:cubicBezTo>
                <a:cubicBezTo>
                  <a:pt x="5754" y="16809"/>
                  <a:pt x="5705" y="16826"/>
                  <a:pt x="5655" y="16842"/>
                </a:cubicBezTo>
              </a:path>
              <a:path w="4466" h="2060">
                <a:moveTo>
                  <a:pt x="6821" y="15974"/>
                </a:moveTo>
                <a:cubicBezTo>
                  <a:pt x="6821" y="16052"/>
                  <a:pt x="6862" y="16481"/>
                  <a:pt x="6796" y="16371"/>
                </a:cubicBezTo>
              </a:path>
              <a:path w="4466" h="2060">
                <a:moveTo>
                  <a:pt x="6524" y="16272"/>
                </a:moveTo>
                <a:cubicBezTo>
                  <a:pt x="6696" y="16225"/>
                  <a:pt x="6881" y="16223"/>
                  <a:pt x="7045" y="16173"/>
                </a:cubicBezTo>
                <a:cubicBezTo>
                  <a:pt x="7070" y="16165"/>
                  <a:pt x="7094" y="16156"/>
                  <a:pt x="7119" y="16148"/>
                </a:cubicBezTo>
              </a:path>
              <a:path w="4466" h="2060">
                <a:moveTo>
                  <a:pt x="7789" y="15900"/>
                </a:moveTo>
                <a:cubicBezTo>
                  <a:pt x="7771" y="16119"/>
                  <a:pt x="7724" y="16333"/>
                  <a:pt x="7665" y="16545"/>
                </a:cubicBezTo>
                <a:cubicBezTo>
                  <a:pt x="7657" y="16570"/>
                  <a:pt x="7648" y="16594"/>
                  <a:pt x="7640" y="16619"/>
                </a:cubicBezTo>
                <a:cubicBezTo>
                  <a:pt x="7640" y="16420"/>
                  <a:pt x="7628" y="16265"/>
                  <a:pt x="7714" y="16073"/>
                </a:cubicBezTo>
                <a:cubicBezTo>
                  <a:pt x="7846" y="15876"/>
                  <a:pt x="7874" y="15823"/>
                  <a:pt x="7987" y="15726"/>
                </a:cubicBezTo>
                <a:cubicBezTo>
                  <a:pt x="8199" y="15726"/>
                  <a:pt x="8176" y="16097"/>
                  <a:pt x="8186" y="16272"/>
                </a:cubicBezTo>
                <a:cubicBezTo>
                  <a:pt x="8195" y="16429"/>
                  <a:pt x="8262" y="16690"/>
                  <a:pt x="8086" y="16619"/>
                </a:cubicBezTo>
              </a:path>
              <a:path w="4466" h="2060">
                <a:moveTo>
                  <a:pt x="7640" y="16446"/>
                </a:moveTo>
                <a:cubicBezTo>
                  <a:pt x="7762" y="16405"/>
                  <a:pt x="7955" y="16340"/>
                  <a:pt x="8086" y="16346"/>
                </a:cubicBezTo>
                <a:cubicBezTo>
                  <a:pt x="8094" y="16354"/>
                  <a:pt x="8103" y="16363"/>
                  <a:pt x="8111" y="16371"/>
                </a:cubicBezTo>
              </a:path>
              <a:path w="4466" h="2060">
                <a:moveTo>
                  <a:pt x="8607" y="16594"/>
                </a:moveTo>
                <a:cubicBezTo>
                  <a:pt x="8572" y="16583"/>
                  <a:pt x="8582" y="16587"/>
                  <a:pt x="8582" y="16545"/>
                </a:cubicBezTo>
                <a:cubicBezTo>
                  <a:pt x="8559" y="16618"/>
                  <a:pt x="8482" y="16806"/>
                  <a:pt x="8434" y="16892"/>
                </a:cubicBezTo>
                <a:cubicBezTo>
                  <a:pt x="8379" y="16965"/>
                  <a:pt x="8321" y="16998"/>
                  <a:pt x="8384" y="16991"/>
                </a:cubicBezTo>
                <a:cubicBezTo>
                  <a:pt x="8459" y="16931"/>
                  <a:pt x="8506" y="16870"/>
                  <a:pt x="8533" y="16768"/>
                </a:cubicBezTo>
                <a:cubicBezTo>
                  <a:pt x="8561" y="16663"/>
                  <a:pt x="8556" y="16585"/>
                  <a:pt x="8607" y="16495"/>
                </a:cubicBezTo>
                <a:cubicBezTo>
                  <a:pt x="8690" y="16606"/>
                  <a:pt x="8804" y="16704"/>
                  <a:pt x="8880" y="16818"/>
                </a:cubicBezTo>
                <a:cubicBezTo>
                  <a:pt x="8914" y="16869"/>
                  <a:pt x="8972" y="16976"/>
                  <a:pt x="8979" y="17041"/>
                </a:cubicBezTo>
                <a:cubicBezTo>
                  <a:pt x="8979" y="17049"/>
                  <a:pt x="8979" y="17058"/>
                  <a:pt x="8979" y="17066"/>
                </a:cubicBezTo>
                <a:cubicBezTo>
                  <a:pt x="8828" y="17066"/>
                  <a:pt x="8683" y="17062"/>
                  <a:pt x="8533" y="17090"/>
                </a:cubicBezTo>
                <a:cubicBezTo>
                  <a:pt x="8475" y="17109"/>
                  <a:pt x="8469" y="17118"/>
                  <a:pt x="8434" y="17115"/>
                </a:cubicBezTo>
              </a:path>
              <a:path w="4466" h="2060">
                <a:moveTo>
                  <a:pt x="7069" y="17760"/>
                </a:moveTo>
                <a:cubicBezTo>
                  <a:pt x="7157" y="17743"/>
                  <a:pt x="7227" y="17735"/>
                  <a:pt x="7317" y="1773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7040" y="6259680"/>
            <a:ext cx="731880" cy="258480"/>
          </a:xfrm>
          <a:custGeom>
            <a:avLst/>
            <a:gdLst/>
            <a:ahLst/>
            <a:rect l="l" t="t" r="r" b="b"/>
            <a:pathLst>
              <a:path w="2035" h="720">
                <a:moveTo>
                  <a:pt x="4812" y="17487"/>
                </a:moveTo>
                <a:cubicBezTo>
                  <a:pt x="4743" y="17487"/>
                  <a:pt x="4892" y="17446"/>
                  <a:pt x="4961" y="17438"/>
                </a:cubicBezTo>
                <a:cubicBezTo>
                  <a:pt x="5039" y="17438"/>
                  <a:pt x="5056" y="17423"/>
                  <a:pt x="5085" y="17462"/>
                </a:cubicBezTo>
                <a:cubicBezTo>
                  <a:pt x="5017" y="17589"/>
                  <a:pt x="4950" y="17669"/>
                  <a:pt x="4812" y="17711"/>
                </a:cubicBezTo>
                <a:cubicBezTo>
                  <a:pt x="4918" y="17711"/>
                  <a:pt x="5009" y="17635"/>
                  <a:pt x="5085" y="17760"/>
                </a:cubicBezTo>
                <a:cubicBezTo>
                  <a:pt x="5184" y="17923"/>
                  <a:pt x="4896" y="18033"/>
                  <a:pt x="4787" y="18008"/>
                </a:cubicBezTo>
                <a:cubicBezTo>
                  <a:pt x="4609" y="17967"/>
                  <a:pt x="4766" y="17890"/>
                  <a:pt x="4812" y="17859"/>
                </a:cubicBezTo>
              </a:path>
              <a:path w="2035" h="720">
                <a:moveTo>
                  <a:pt x="5432" y="17537"/>
                </a:moveTo>
                <a:cubicBezTo>
                  <a:pt x="5310" y="17545"/>
                  <a:pt x="5184" y="17527"/>
                  <a:pt x="5184" y="17636"/>
                </a:cubicBezTo>
                <a:cubicBezTo>
                  <a:pt x="5184" y="17735"/>
                  <a:pt x="5184" y="17752"/>
                  <a:pt x="5184" y="17810"/>
                </a:cubicBezTo>
                <a:cubicBezTo>
                  <a:pt x="5292" y="17810"/>
                  <a:pt x="5344" y="17807"/>
                  <a:pt x="5432" y="17859"/>
                </a:cubicBezTo>
                <a:cubicBezTo>
                  <a:pt x="5403" y="17990"/>
                  <a:pt x="5257" y="18087"/>
                  <a:pt x="5110" y="18058"/>
                </a:cubicBezTo>
                <a:cubicBezTo>
                  <a:pt x="5078" y="17993"/>
                  <a:pt x="5081" y="17965"/>
                  <a:pt x="5159" y="17934"/>
                </a:cubicBezTo>
              </a:path>
              <a:path w="2035" h="720">
                <a:moveTo>
                  <a:pt x="5879" y="17785"/>
                </a:moveTo>
                <a:cubicBezTo>
                  <a:pt x="5879" y="17802"/>
                  <a:pt x="5879" y="17818"/>
                  <a:pt x="5879" y="17835"/>
                </a:cubicBezTo>
                <a:cubicBezTo>
                  <a:pt x="5850" y="17776"/>
                  <a:pt x="5819" y="17668"/>
                  <a:pt x="5755" y="17785"/>
                </a:cubicBezTo>
                <a:cubicBezTo>
                  <a:pt x="5689" y="17906"/>
                  <a:pt x="5679" y="17992"/>
                  <a:pt x="5730" y="18083"/>
                </a:cubicBezTo>
                <a:cubicBezTo>
                  <a:pt x="5962" y="18082"/>
                  <a:pt x="5956" y="18004"/>
                  <a:pt x="6052" y="17810"/>
                </a:cubicBezTo>
                <a:cubicBezTo>
                  <a:pt x="6081" y="17751"/>
                  <a:pt x="6052" y="17942"/>
                  <a:pt x="6052" y="18008"/>
                </a:cubicBezTo>
                <a:cubicBezTo>
                  <a:pt x="6052" y="18150"/>
                  <a:pt x="6049" y="17848"/>
                  <a:pt x="6052" y="17835"/>
                </a:cubicBezTo>
                <a:cubicBezTo>
                  <a:pt x="6093" y="17633"/>
                  <a:pt x="6214" y="17929"/>
                  <a:pt x="6226" y="17959"/>
                </a:cubicBezTo>
                <a:cubicBezTo>
                  <a:pt x="6234" y="17975"/>
                  <a:pt x="6243" y="17992"/>
                  <a:pt x="6251" y="18008"/>
                </a:cubicBezTo>
                <a:cubicBezTo>
                  <a:pt x="6237" y="17954"/>
                  <a:pt x="6192" y="17846"/>
                  <a:pt x="6276" y="17810"/>
                </a:cubicBezTo>
                <a:cubicBezTo>
                  <a:pt x="6401" y="17757"/>
                  <a:pt x="6414" y="17962"/>
                  <a:pt x="6424" y="18033"/>
                </a:cubicBezTo>
              </a:path>
              <a:path w="2035" h="720">
                <a:moveTo>
                  <a:pt x="6350" y="17388"/>
                </a:moveTo>
                <a:cubicBezTo>
                  <a:pt x="6388" y="17396"/>
                  <a:pt x="6512" y="17401"/>
                  <a:pt x="6524" y="17438"/>
                </a:cubicBezTo>
                <a:cubicBezTo>
                  <a:pt x="6552" y="17520"/>
                  <a:pt x="6453" y="17609"/>
                  <a:pt x="6400" y="17636"/>
                </a:cubicBezTo>
                <a:cubicBezTo>
                  <a:pt x="6494" y="17677"/>
                  <a:pt x="6568" y="17640"/>
                  <a:pt x="6672" y="17636"/>
                </a:cubicBezTo>
                <a:cubicBezTo>
                  <a:pt x="6697" y="17636"/>
                  <a:pt x="6722" y="17636"/>
                  <a:pt x="6747" y="176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6242040"/>
            <a:ext cx="704520" cy="258840"/>
          </a:xfrm>
          <a:custGeom>
            <a:avLst/>
            <a:gdLst/>
            <a:ahLst/>
            <a:rect l="l" t="t" r="r" b="b"/>
            <a:pathLst>
              <a:path w="1960" h="721">
                <a:moveTo>
                  <a:pt x="7838" y="17587"/>
                </a:moveTo>
                <a:cubicBezTo>
                  <a:pt x="7920" y="17571"/>
                  <a:pt x="7954" y="17543"/>
                  <a:pt x="8037" y="17562"/>
                </a:cubicBezTo>
                <a:cubicBezTo>
                  <a:pt x="8012" y="17734"/>
                  <a:pt x="7940" y="17881"/>
                  <a:pt x="7813" y="18008"/>
                </a:cubicBezTo>
                <a:cubicBezTo>
                  <a:pt x="7797" y="18016"/>
                  <a:pt x="7780" y="18025"/>
                  <a:pt x="7764" y="18033"/>
                </a:cubicBezTo>
                <a:cubicBezTo>
                  <a:pt x="7852" y="18069"/>
                  <a:pt x="7962" y="17985"/>
                  <a:pt x="8062" y="17959"/>
                </a:cubicBezTo>
                <a:cubicBezTo>
                  <a:pt x="8103" y="17959"/>
                  <a:pt x="8111" y="17959"/>
                  <a:pt x="8136" y="17959"/>
                </a:cubicBezTo>
              </a:path>
              <a:path w="1960" h="721">
                <a:moveTo>
                  <a:pt x="8409" y="17388"/>
                </a:moveTo>
                <a:cubicBezTo>
                  <a:pt x="8362" y="17496"/>
                  <a:pt x="8384" y="17617"/>
                  <a:pt x="8384" y="17735"/>
                </a:cubicBezTo>
                <a:cubicBezTo>
                  <a:pt x="8384" y="17810"/>
                  <a:pt x="8384" y="17884"/>
                  <a:pt x="8384" y="17959"/>
                </a:cubicBezTo>
              </a:path>
              <a:path w="1960" h="721">
                <a:moveTo>
                  <a:pt x="8905" y="17661"/>
                </a:moveTo>
                <a:cubicBezTo>
                  <a:pt x="8891" y="17703"/>
                  <a:pt x="8892" y="17689"/>
                  <a:pt x="8855" y="17661"/>
                </a:cubicBezTo>
                <a:cubicBezTo>
                  <a:pt x="8779" y="17767"/>
                  <a:pt x="8746" y="17857"/>
                  <a:pt x="8855" y="17959"/>
                </a:cubicBezTo>
                <a:cubicBezTo>
                  <a:pt x="8915" y="17988"/>
                  <a:pt x="8941" y="17990"/>
                  <a:pt x="8979" y="17934"/>
                </a:cubicBezTo>
              </a:path>
              <a:path w="1960" h="721">
                <a:moveTo>
                  <a:pt x="9079" y="17686"/>
                </a:moveTo>
                <a:cubicBezTo>
                  <a:pt x="9079" y="17761"/>
                  <a:pt x="9080" y="17839"/>
                  <a:pt x="9103" y="17909"/>
                </a:cubicBezTo>
                <a:cubicBezTo>
                  <a:pt x="9103" y="17901"/>
                  <a:pt x="9103" y="17892"/>
                  <a:pt x="9103" y="17884"/>
                </a:cubicBezTo>
                <a:cubicBezTo>
                  <a:pt x="9103" y="17796"/>
                  <a:pt x="9064" y="17699"/>
                  <a:pt x="9153" y="17686"/>
                </a:cubicBezTo>
                <a:cubicBezTo>
                  <a:pt x="9251" y="17672"/>
                  <a:pt x="9269" y="17745"/>
                  <a:pt x="9327" y="17810"/>
                </a:cubicBezTo>
                <a:cubicBezTo>
                  <a:pt x="9327" y="17719"/>
                  <a:pt x="9335" y="17645"/>
                  <a:pt x="9451" y="17711"/>
                </a:cubicBezTo>
                <a:cubicBezTo>
                  <a:pt x="9502" y="17740"/>
                  <a:pt x="9515" y="17785"/>
                  <a:pt x="9525" y="17835"/>
                </a:cubicBezTo>
              </a:path>
              <a:path w="1960" h="721">
                <a:moveTo>
                  <a:pt x="9401" y="17363"/>
                </a:moveTo>
                <a:cubicBezTo>
                  <a:pt x="9443" y="17357"/>
                  <a:pt x="9648" y="17298"/>
                  <a:pt x="9575" y="17438"/>
                </a:cubicBezTo>
                <a:cubicBezTo>
                  <a:pt x="9519" y="17493"/>
                  <a:pt x="9494" y="17491"/>
                  <a:pt x="9500" y="17537"/>
                </a:cubicBezTo>
                <a:cubicBezTo>
                  <a:pt x="9575" y="17530"/>
                  <a:pt x="9648" y="17519"/>
                  <a:pt x="9723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6120" y="6330960"/>
            <a:ext cx="98640" cy="98280"/>
          </a:xfrm>
          <a:custGeom>
            <a:avLst/>
            <a:gdLst/>
            <a:ahLst/>
            <a:rect l="l" t="t" r="r" b="b"/>
            <a:pathLst>
              <a:path w="274" h="273">
                <a:moveTo>
                  <a:pt x="10542" y="17611"/>
                </a:moveTo>
                <a:cubicBezTo>
                  <a:pt x="10626" y="17603"/>
                  <a:pt x="10704" y="17587"/>
                  <a:pt x="10790" y="17587"/>
                </a:cubicBezTo>
              </a:path>
              <a:path w="274" h="273">
                <a:moveTo>
                  <a:pt x="10517" y="17835"/>
                </a:moveTo>
                <a:cubicBezTo>
                  <a:pt x="10595" y="17854"/>
                  <a:pt x="10685" y="17820"/>
                  <a:pt x="10765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1320" y="6215040"/>
            <a:ext cx="1000440" cy="312840"/>
          </a:xfrm>
          <a:custGeom>
            <a:avLst/>
            <a:gdLst/>
            <a:ahLst/>
            <a:rect l="l" t="t" r="r" b="b"/>
            <a:pathLst>
              <a:path w="2779" h="869">
                <a:moveTo>
                  <a:pt x="11757" y="17388"/>
                </a:moveTo>
                <a:cubicBezTo>
                  <a:pt x="11661" y="17408"/>
                  <a:pt x="11556" y="17419"/>
                  <a:pt x="11460" y="17438"/>
                </a:cubicBezTo>
                <a:cubicBezTo>
                  <a:pt x="11336" y="17463"/>
                  <a:pt x="11398" y="17543"/>
                  <a:pt x="11385" y="17661"/>
                </a:cubicBezTo>
                <a:cubicBezTo>
                  <a:pt x="11377" y="17702"/>
                  <a:pt x="11369" y="17744"/>
                  <a:pt x="11361" y="17785"/>
                </a:cubicBezTo>
                <a:cubicBezTo>
                  <a:pt x="11353" y="17793"/>
                  <a:pt x="11344" y="17802"/>
                  <a:pt x="11336" y="17810"/>
                </a:cubicBezTo>
                <a:cubicBezTo>
                  <a:pt x="11468" y="17791"/>
                  <a:pt x="11521" y="17688"/>
                  <a:pt x="11683" y="17711"/>
                </a:cubicBezTo>
                <a:cubicBezTo>
                  <a:pt x="11800" y="17757"/>
                  <a:pt x="11838" y="17767"/>
                  <a:pt x="11857" y="17859"/>
                </a:cubicBezTo>
                <a:cubicBezTo>
                  <a:pt x="11822" y="17903"/>
                  <a:pt x="11475" y="18214"/>
                  <a:pt x="11410" y="18033"/>
                </a:cubicBezTo>
                <a:cubicBezTo>
                  <a:pt x="11427" y="18000"/>
                  <a:pt x="11443" y="17967"/>
                  <a:pt x="11460" y="17934"/>
                </a:cubicBezTo>
              </a:path>
              <a:path w="2779" h="869">
                <a:moveTo>
                  <a:pt x="12179" y="17338"/>
                </a:moveTo>
                <a:cubicBezTo>
                  <a:pt x="12179" y="17467"/>
                  <a:pt x="12169" y="17583"/>
                  <a:pt x="12154" y="17711"/>
                </a:cubicBezTo>
                <a:cubicBezTo>
                  <a:pt x="12133" y="17883"/>
                  <a:pt x="12106" y="17949"/>
                  <a:pt x="12179" y="18083"/>
                </a:cubicBezTo>
                <a:cubicBezTo>
                  <a:pt x="12372" y="18059"/>
                  <a:pt x="12488" y="17974"/>
                  <a:pt x="12576" y="17785"/>
                </a:cubicBezTo>
                <a:cubicBezTo>
                  <a:pt x="12576" y="17743"/>
                  <a:pt x="12584" y="17727"/>
                  <a:pt x="12551" y="17735"/>
                </a:cubicBezTo>
                <a:cubicBezTo>
                  <a:pt x="12418" y="17794"/>
                  <a:pt x="12278" y="17880"/>
                  <a:pt x="12278" y="18058"/>
                </a:cubicBezTo>
                <a:cubicBezTo>
                  <a:pt x="12286" y="18074"/>
                  <a:pt x="12295" y="18091"/>
                  <a:pt x="12303" y="18107"/>
                </a:cubicBezTo>
              </a:path>
              <a:path w="2779" h="869">
                <a:moveTo>
                  <a:pt x="12923" y="17760"/>
                </a:moveTo>
                <a:cubicBezTo>
                  <a:pt x="12896" y="17814"/>
                  <a:pt x="12878" y="17697"/>
                  <a:pt x="12799" y="17760"/>
                </a:cubicBezTo>
                <a:cubicBezTo>
                  <a:pt x="12670" y="17863"/>
                  <a:pt x="12656" y="18127"/>
                  <a:pt x="12874" y="18132"/>
                </a:cubicBezTo>
                <a:cubicBezTo>
                  <a:pt x="12923" y="18116"/>
                  <a:pt x="12973" y="18099"/>
                  <a:pt x="13022" y="18083"/>
                </a:cubicBezTo>
              </a:path>
              <a:path w="2779" h="869">
                <a:moveTo>
                  <a:pt x="13196" y="17785"/>
                </a:moveTo>
                <a:cubicBezTo>
                  <a:pt x="13196" y="17868"/>
                  <a:pt x="13196" y="17950"/>
                  <a:pt x="13196" y="18033"/>
                </a:cubicBezTo>
                <a:cubicBezTo>
                  <a:pt x="13177" y="17950"/>
                  <a:pt x="13123" y="17774"/>
                  <a:pt x="13271" y="17785"/>
                </a:cubicBezTo>
                <a:cubicBezTo>
                  <a:pt x="13406" y="17795"/>
                  <a:pt x="13421" y="17880"/>
                  <a:pt x="13469" y="17983"/>
                </a:cubicBezTo>
                <a:cubicBezTo>
                  <a:pt x="13469" y="18030"/>
                  <a:pt x="13446" y="17880"/>
                  <a:pt x="13469" y="17835"/>
                </a:cubicBezTo>
                <a:cubicBezTo>
                  <a:pt x="13521" y="17783"/>
                  <a:pt x="13540" y="17766"/>
                  <a:pt x="13593" y="17760"/>
                </a:cubicBezTo>
                <a:cubicBezTo>
                  <a:pt x="13660" y="17819"/>
                  <a:pt x="13745" y="17928"/>
                  <a:pt x="13692" y="18033"/>
                </a:cubicBezTo>
                <a:cubicBezTo>
                  <a:pt x="13684" y="18033"/>
                  <a:pt x="13675" y="18033"/>
                  <a:pt x="13667" y="18033"/>
                </a:cubicBezTo>
              </a:path>
              <a:path w="2779" h="869">
                <a:moveTo>
                  <a:pt x="13717" y="17314"/>
                </a:moveTo>
                <a:cubicBezTo>
                  <a:pt x="13779" y="17272"/>
                  <a:pt x="13883" y="17224"/>
                  <a:pt x="13940" y="17314"/>
                </a:cubicBezTo>
                <a:cubicBezTo>
                  <a:pt x="13999" y="17407"/>
                  <a:pt x="13948" y="17505"/>
                  <a:pt x="13866" y="17562"/>
                </a:cubicBezTo>
                <a:cubicBezTo>
                  <a:pt x="13858" y="17562"/>
                  <a:pt x="13849" y="17562"/>
                  <a:pt x="13841" y="17562"/>
                </a:cubicBezTo>
                <a:cubicBezTo>
                  <a:pt x="13920" y="17562"/>
                  <a:pt x="13987" y="17541"/>
                  <a:pt x="14064" y="17537"/>
                </a:cubicBezTo>
                <a:cubicBezTo>
                  <a:pt x="14081" y="17537"/>
                  <a:pt x="14097" y="17537"/>
                  <a:pt x="141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71920" y="2768760"/>
            <a:ext cx="785880" cy="455400"/>
          </a:xfrm>
          <a:custGeom>
            <a:avLst/>
            <a:gdLst/>
            <a:ahLst/>
            <a:rect l="l" t="t" r="r" b="b"/>
            <a:pathLst>
              <a:path w="2184" h="1266">
                <a:moveTo>
                  <a:pt x="9922" y="8062"/>
                </a:moveTo>
                <a:cubicBezTo>
                  <a:pt x="9959" y="8254"/>
                  <a:pt x="9971" y="8436"/>
                  <a:pt x="9971" y="8632"/>
                </a:cubicBezTo>
                <a:cubicBezTo>
                  <a:pt x="9939" y="8397"/>
                  <a:pt x="9949" y="8176"/>
                  <a:pt x="9971" y="7938"/>
                </a:cubicBezTo>
                <a:cubicBezTo>
                  <a:pt x="9991" y="7776"/>
                  <a:pt x="9969" y="7730"/>
                  <a:pt x="10071" y="7689"/>
                </a:cubicBezTo>
                <a:cubicBezTo>
                  <a:pt x="10263" y="7920"/>
                  <a:pt x="10411" y="8154"/>
                  <a:pt x="10468" y="8458"/>
                </a:cubicBezTo>
                <a:cubicBezTo>
                  <a:pt x="10468" y="8536"/>
                  <a:pt x="10483" y="8585"/>
                  <a:pt x="10443" y="8533"/>
                </a:cubicBezTo>
              </a:path>
              <a:path w="2184" h="1266">
                <a:moveTo>
                  <a:pt x="9947" y="8508"/>
                </a:moveTo>
                <a:cubicBezTo>
                  <a:pt x="10082" y="8441"/>
                  <a:pt x="10327" y="8264"/>
                  <a:pt x="10492" y="8334"/>
                </a:cubicBezTo>
                <a:cubicBezTo>
                  <a:pt x="10517" y="8359"/>
                  <a:pt x="10542" y="8384"/>
                  <a:pt x="10567" y="8409"/>
                </a:cubicBezTo>
              </a:path>
              <a:path w="2184" h="1266">
                <a:moveTo>
                  <a:pt x="10765" y="8582"/>
                </a:moveTo>
                <a:cubicBezTo>
                  <a:pt x="10765" y="8508"/>
                  <a:pt x="10765" y="8682"/>
                  <a:pt x="10765" y="8756"/>
                </a:cubicBezTo>
                <a:cubicBezTo>
                  <a:pt x="10765" y="8874"/>
                  <a:pt x="10779" y="8895"/>
                  <a:pt x="10740" y="8954"/>
                </a:cubicBezTo>
                <a:cubicBezTo>
                  <a:pt x="10895" y="8935"/>
                  <a:pt x="11028" y="8833"/>
                  <a:pt x="11187" y="8806"/>
                </a:cubicBezTo>
                <a:cubicBezTo>
                  <a:pt x="11225" y="8800"/>
                  <a:pt x="11354" y="8835"/>
                  <a:pt x="11361" y="8781"/>
                </a:cubicBezTo>
                <a:cubicBezTo>
                  <a:pt x="11373" y="8687"/>
                  <a:pt x="11351" y="8583"/>
                  <a:pt x="11361" y="8483"/>
                </a:cubicBezTo>
                <a:cubicBezTo>
                  <a:pt x="11192" y="8547"/>
                  <a:pt x="11014" y="8600"/>
                  <a:pt x="10840" y="8657"/>
                </a:cubicBezTo>
                <a:cubicBezTo>
                  <a:pt x="10823" y="8663"/>
                  <a:pt x="10764" y="8682"/>
                  <a:pt x="10815" y="8682"/>
                </a:cubicBezTo>
              </a:path>
              <a:path w="2184" h="1266">
                <a:moveTo>
                  <a:pt x="11633" y="8186"/>
                </a:moveTo>
                <a:cubicBezTo>
                  <a:pt x="11711" y="8147"/>
                  <a:pt x="11769" y="8111"/>
                  <a:pt x="11857" y="8111"/>
                </a:cubicBezTo>
              </a:path>
              <a:path w="2184" h="1266">
                <a:moveTo>
                  <a:pt x="11708" y="8384"/>
                </a:moveTo>
                <a:cubicBezTo>
                  <a:pt x="11848" y="8328"/>
                  <a:pt x="11957" y="8293"/>
                  <a:pt x="12105" y="82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84920" y="4991040"/>
            <a:ext cx="2374920" cy="223920"/>
          </a:xfrm>
          <a:custGeom>
            <a:avLst/>
            <a:gdLst/>
            <a:ahLst/>
            <a:rect l="l" t="t" r="r" b="b"/>
            <a:pathLst>
              <a:path w="6599" h="621">
                <a:moveTo>
                  <a:pt x="16346" y="13965"/>
                </a:moveTo>
                <a:cubicBezTo>
                  <a:pt x="16498" y="13927"/>
                  <a:pt x="16636" y="13877"/>
                  <a:pt x="16793" y="13866"/>
                </a:cubicBezTo>
              </a:path>
              <a:path w="6599" h="621">
                <a:moveTo>
                  <a:pt x="22820" y="14486"/>
                </a:moveTo>
                <a:cubicBezTo>
                  <a:pt x="22861" y="14478"/>
                  <a:pt x="22903" y="14469"/>
                  <a:pt x="22944" y="144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75200" y="4813200"/>
            <a:ext cx="1359000" cy="509760"/>
          </a:xfrm>
          <a:custGeom>
            <a:avLst/>
            <a:gdLst/>
            <a:ahLst/>
            <a:rect l="l" t="t" r="r" b="b"/>
            <a:pathLst>
              <a:path w="3772" h="1415">
                <a:moveTo>
                  <a:pt x="16321" y="13593"/>
                </a:moveTo>
                <a:cubicBezTo>
                  <a:pt x="16321" y="13553"/>
                  <a:pt x="16345" y="13928"/>
                  <a:pt x="16346" y="13965"/>
                </a:cubicBezTo>
                <a:cubicBezTo>
                  <a:pt x="16346" y="13998"/>
                  <a:pt x="16346" y="14031"/>
                  <a:pt x="16346" y="14064"/>
                </a:cubicBezTo>
                <a:cubicBezTo>
                  <a:pt x="16346" y="13877"/>
                  <a:pt x="16312" y="13759"/>
                  <a:pt x="16371" y="13568"/>
                </a:cubicBezTo>
                <a:cubicBezTo>
                  <a:pt x="16429" y="13452"/>
                  <a:pt x="16438" y="13436"/>
                  <a:pt x="16470" y="13370"/>
                </a:cubicBezTo>
                <a:cubicBezTo>
                  <a:pt x="16585" y="13536"/>
                  <a:pt x="16641" y="13731"/>
                  <a:pt x="16669" y="13940"/>
                </a:cubicBezTo>
                <a:cubicBezTo>
                  <a:pt x="16674" y="13981"/>
                  <a:pt x="16669" y="14056"/>
                  <a:pt x="16669" y="14015"/>
                </a:cubicBezTo>
              </a:path>
              <a:path w="3772" h="1415">
                <a:moveTo>
                  <a:pt x="17041" y="13717"/>
                </a:moveTo>
                <a:cubicBezTo>
                  <a:pt x="17022" y="13832"/>
                  <a:pt x="16992" y="13949"/>
                  <a:pt x="16966" y="14064"/>
                </a:cubicBezTo>
                <a:cubicBezTo>
                  <a:pt x="16934" y="14014"/>
                  <a:pt x="17008" y="13857"/>
                  <a:pt x="17041" y="13767"/>
                </a:cubicBezTo>
                <a:cubicBezTo>
                  <a:pt x="17077" y="13677"/>
                  <a:pt x="17057" y="13635"/>
                  <a:pt x="17115" y="13643"/>
                </a:cubicBezTo>
                <a:cubicBezTo>
                  <a:pt x="17252" y="13734"/>
                  <a:pt x="17296" y="13857"/>
                  <a:pt x="17413" y="13965"/>
                </a:cubicBezTo>
                <a:cubicBezTo>
                  <a:pt x="17421" y="13965"/>
                  <a:pt x="17430" y="13965"/>
                  <a:pt x="17438" y="13965"/>
                </a:cubicBezTo>
                <a:cubicBezTo>
                  <a:pt x="17281" y="14010"/>
                  <a:pt x="17122" y="14081"/>
                  <a:pt x="16966" y="14139"/>
                </a:cubicBezTo>
                <a:cubicBezTo>
                  <a:pt x="16909" y="14157"/>
                  <a:pt x="16884" y="14183"/>
                  <a:pt x="16892" y="14139"/>
                </a:cubicBezTo>
              </a:path>
              <a:path w="3772" h="1415">
                <a:moveTo>
                  <a:pt x="17636" y="13643"/>
                </a:moveTo>
                <a:cubicBezTo>
                  <a:pt x="17688" y="13658"/>
                  <a:pt x="17851" y="13639"/>
                  <a:pt x="17884" y="13667"/>
                </a:cubicBezTo>
                <a:cubicBezTo>
                  <a:pt x="17884" y="13675"/>
                  <a:pt x="17884" y="13684"/>
                  <a:pt x="17884" y="13692"/>
                </a:cubicBezTo>
              </a:path>
              <a:path w="3772" h="1415">
                <a:moveTo>
                  <a:pt x="17636" y="13841"/>
                </a:moveTo>
                <a:cubicBezTo>
                  <a:pt x="17727" y="13837"/>
                  <a:pt x="17861" y="13823"/>
                  <a:pt x="17934" y="13841"/>
                </a:cubicBezTo>
              </a:path>
              <a:path w="3772" h="1415">
                <a:moveTo>
                  <a:pt x="18405" y="13494"/>
                </a:moveTo>
                <a:cubicBezTo>
                  <a:pt x="18446" y="13658"/>
                  <a:pt x="18496" y="13821"/>
                  <a:pt x="18529" y="13990"/>
                </a:cubicBezTo>
                <a:cubicBezTo>
                  <a:pt x="18529" y="14121"/>
                  <a:pt x="18500" y="13904"/>
                  <a:pt x="18504" y="13891"/>
                </a:cubicBezTo>
                <a:cubicBezTo>
                  <a:pt x="18599" y="13602"/>
                  <a:pt x="18777" y="13645"/>
                  <a:pt x="18926" y="13816"/>
                </a:cubicBezTo>
                <a:cubicBezTo>
                  <a:pt x="18839" y="13990"/>
                  <a:pt x="18744" y="14080"/>
                  <a:pt x="18529" y="14015"/>
                </a:cubicBezTo>
                <a:cubicBezTo>
                  <a:pt x="18475" y="13961"/>
                  <a:pt x="18499" y="13927"/>
                  <a:pt x="18628" y="13891"/>
                </a:cubicBezTo>
              </a:path>
              <a:path w="3772" h="1415">
                <a:moveTo>
                  <a:pt x="19149" y="13494"/>
                </a:moveTo>
                <a:cubicBezTo>
                  <a:pt x="19194" y="13673"/>
                  <a:pt x="19252" y="13857"/>
                  <a:pt x="19298" y="14039"/>
                </a:cubicBezTo>
                <a:cubicBezTo>
                  <a:pt x="19306" y="14072"/>
                  <a:pt x="19315" y="14106"/>
                  <a:pt x="19323" y="14139"/>
                </a:cubicBezTo>
                <a:cubicBezTo>
                  <a:pt x="19240" y="14084"/>
                  <a:pt x="19247" y="13918"/>
                  <a:pt x="19298" y="13816"/>
                </a:cubicBezTo>
                <a:cubicBezTo>
                  <a:pt x="19315" y="13808"/>
                  <a:pt x="19331" y="13799"/>
                  <a:pt x="19348" y="13791"/>
                </a:cubicBezTo>
                <a:cubicBezTo>
                  <a:pt x="19517" y="13842"/>
                  <a:pt x="19521" y="13944"/>
                  <a:pt x="19546" y="14114"/>
                </a:cubicBezTo>
                <a:cubicBezTo>
                  <a:pt x="19546" y="14130"/>
                  <a:pt x="19546" y="14147"/>
                  <a:pt x="19546" y="14163"/>
                </a:cubicBezTo>
              </a:path>
              <a:path w="3772" h="1415">
                <a:moveTo>
                  <a:pt x="18628" y="14238"/>
                </a:moveTo>
                <a:cubicBezTo>
                  <a:pt x="18861" y="14183"/>
                  <a:pt x="19108" y="14156"/>
                  <a:pt x="19348" y="14139"/>
                </a:cubicBezTo>
                <a:cubicBezTo>
                  <a:pt x="19423" y="14134"/>
                  <a:pt x="19456" y="14118"/>
                  <a:pt x="19472" y="14163"/>
                </a:cubicBezTo>
              </a:path>
              <a:path w="3772" h="1415">
                <a:moveTo>
                  <a:pt x="18976" y="14412"/>
                </a:moveTo>
                <a:cubicBezTo>
                  <a:pt x="19124" y="14387"/>
                  <a:pt x="19174" y="14379"/>
                  <a:pt x="19273" y="14362"/>
                </a:cubicBezTo>
                <a:cubicBezTo>
                  <a:pt x="19347" y="14509"/>
                  <a:pt x="19214" y="14583"/>
                  <a:pt x="19100" y="14660"/>
                </a:cubicBezTo>
                <a:cubicBezTo>
                  <a:pt x="19001" y="14719"/>
                  <a:pt x="18973" y="14717"/>
                  <a:pt x="18951" y="14784"/>
                </a:cubicBezTo>
                <a:cubicBezTo>
                  <a:pt x="19080" y="14784"/>
                  <a:pt x="19196" y="14775"/>
                  <a:pt x="19323" y="14759"/>
                </a:cubicBezTo>
              </a:path>
              <a:path w="3772" h="1415">
                <a:moveTo>
                  <a:pt x="19794" y="14114"/>
                </a:moveTo>
                <a:cubicBezTo>
                  <a:pt x="19868" y="14114"/>
                  <a:pt x="19943" y="14114"/>
                  <a:pt x="20017" y="14114"/>
                </a:cubicBezTo>
              </a:path>
              <a:path w="3772" h="1415">
                <a:moveTo>
                  <a:pt x="19844" y="14337"/>
                </a:moveTo>
                <a:cubicBezTo>
                  <a:pt x="19928" y="14332"/>
                  <a:pt x="20176" y="14312"/>
                  <a:pt x="20092" y="14312"/>
                </a:cubicBezTo>
                <a:cubicBezTo>
                  <a:pt x="20084" y="14312"/>
                  <a:pt x="20075" y="14312"/>
                  <a:pt x="20067" y="143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240" y="4884840"/>
            <a:ext cx="1179720" cy="571320"/>
          </a:xfrm>
          <a:custGeom>
            <a:avLst/>
            <a:gdLst/>
            <a:ahLst/>
            <a:rect l="l" t="t" r="r" b="b"/>
            <a:pathLst>
              <a:path w="3275" h="1589">
                <a:moveTo>
                  <a:pt x="20960" y="13717"/>
                </a:moveTo>
                <a:cubicBezTo>
                  <a:pt x="20960" y="13789"/>
                  <a:pt x="20956" y="13844"/>
                  <a:pt x="20935" y="13915"/>
                </a:cubicBezTo>
                <a:cubicBezTo>
                  <a:pt x="20911" y="13996"/>
                  <a:pt x="20910" y="14056"/>
                  <a:pt x="20910" y="14139"/>
                </a:cubicBezTo>
                <a:cubicBezTo>
                  <a:pt x="20910" y="14155"/>
                  <a:pt x="20910" y="14172"/>
                  <a:pt x="20910" y="14188"/>
                </a:cubicBezTo>
                <a:cubicBezTo>
                  <a:pt x="21010" y="14188"/>
                  <a:pt x="21124" y="14204"/>
                  <a:pt x="21208" y="14163"/>
                </a:cubicBezTo>
                <a:cubicBezTo>
                  <a:pt x="21272" y="14132"/>
                  <a:pt x="21302" y="14097"/>
                  <a:pt x="21307" y="14039"/>
                </a:cubicBezTo>
                <a:cubicBezTo>
                  <a:pt x="21312" y="13985"/>
                  <a:pt x="21221" y="13968"/>
                  <a:pt x="21183" y="13965"/>
                </a:cubicBezTo>
                <a:cubicBezTo>
                  <a:pt x="21132" y="13961"/>
                  <a:pt x="21093" y="14047"/>
                  <a:pt x="21084" y="14089"/>
                </a:cubicBezTo>
                <a:cubicBezTo>
                  <a:pt x="21062" y="14188"/>
                  <a:pt x="21116" y="14192"/>
                  <a:pt x="21183" y="14163"/>
                </a:cubicBezTo>
              </a:path>
              <a:path w="3275" h="1589">
                <a:moveTo>
                  <a:pt x="21630" y="13667"/>
                </a:moveTo>
                <a:cubicBezTo>
                  <a:pt x="21574" y="13816"/>
                  <a:pt x="21474" y="13937"/>
                  <a:pt x="21506" y="14114"/>
                </a:cubicBezTo>
                <a:cubicBezTo>
                  <a:pt x="21518" y="14181"/>
                  <a:pt x="21607" y="14335"/>
                  <a:pt x="21654" y="14362"/>
                </a:cubicBezTo>
                <a:cubicBezTo>
                  <a:pt x="21689" y="14362"/>
                  <a:pt x="21702" y="14353"/>
                  <a:pt x="21704" y="14312"/>
                </a:cubicBezTo>
              </a:path>
              <a:path w="3275" h="1589">
                <a:moveTo>
                  <a:pt x="21729" y="13841"/>
                </a:moveTo>
                <a:cubicBezTo>
                  <a:pt x="21810" y="13825"/>
                  <a:pt x="21893" y="13785"/>
                  <a:pt x="21977" y="13767"/>
                </a:cubicBezTo>
                <a:cubicBezTo>
                  <a:pt x="21985" y="13767"/>
                  <a:pt x="21994" y="13767"/>
                  <a:pt x="22002" y="13767"/>
                </a:cubicBezTo>
                <a:cubicBezTo>
                  <a:pt x="21966" y="13910"/>
                  <a:pt x="21904" y="14032"/>
                  <a:pt x="21853" y="14163"/>
                </a:cubicBezTo>
                <a:cubicBezTo>
                  <a:pt x="21853" y="14188"/>
                  <a:pt x="21853" y="14196"/>
                  <a:pt x="21878" y="14188"/>
                </a:cubicBezTo>
              </a:path>
              <a:path w="3275" h="1589">
                <a:moveTo>
                  <a:pt x="22101" y="13568"/>
                </a:moveTo>
                <a:cubicBezTo>
                  <a:pt x="22306" y="13713"/>
                  <a:pt x="22551" y="13841"/>
                  <a:pt x="22448" y="14139"/>
                </a:cubicBezTo>
                <a:cubicBezTo>
                  <a:pt x="22431" y="14187"/>
                  <a:pt x="22274" y="14433"/>
                  <a:pt x="22250" y="14312"/>
                </a:cubicBezTo>
              </a:path>
              <a:path w="3275" h="1589">
                <a:moveTo>
                  <a:pt x="20811" y="14486"/>
                </a:moveTo>
                <a:cubicBezTo>
                  <a:pt x="21061" y="14486"/>
                  <a:pt x="21305" y="14445"/>
                  <a:pt x="21555" y="14436"/>
                </a:cubicBezTo>
                <a:cubicBezTo>
                  <a:pt x="21762" y="14428"/>
                  <a:pt x="21974" y="14427"/>
                  <a:pt x="22175" y="14461"/>
                </a:cubicBezTo>
              </a:path>
              <a:path w="3275" h="1589">
                <a:moveTo>
                  <a:pt x="21183" y="14684"/>
                </a:moveTo>
                <a:cubicBezTo>
                  <a:pt x="21286" y="14674"/>
                  <a:pt x="21357" y="14652"/>
                  <a:pt x="21456" y="14684"/>
                </a:cubicBezTo>
                <a:cubicBezTo>
                  <a:pt x="21415" y="14821"/>
                  <a:pt x="21314" y="14884"/>
                  <a:pt x="21208" y="14982"/>
                </a:cubicBezTo>
                <a:cubicBezTo>
                  <a:pt x="21366" y="15003"/>
                  <a:pt x="21496" y="14964"/>
                  <a:pt x="21654" y="14932"/>
                </a:cubicBezTo>
                <a:cubicBezTo>
                  <a:pt x="21662" y="14932"/>
                  <a:pt x="21671" y="14932"/>
                  <a:pt x="21679" y="14932"/>
                </a:cubicBezTo>
              </a:path>
              <a:path w="3275" h="1589">
                <a:moveTo>
                  <a:pt x="22721" y="14288"/>
                </a:moveTo>
                <a:cubicBezTo>
                  <a:pt x="22800" y="14288"/>
                  <a:pt x="22867" y="14274"/>
                  <a:pt x="22944" y="14263"/>
                </a:cubicBezTo>
              </a:path>
              <a:path w="3275" h="1589">
                <a:moveTo>
                  <a:pt x="23316" y="13816"/>
                </a:moveTo>
                <a:cubicBezTo>
                  <a:pt x="23316" y="13887"/>
                  <a:pt x="23301" y="13950"/>
                  <a:pt x="23292" y="14015"/>
                </a:cubicBezTo>
                <a:cubicBezTo>
                  <a:pt x="23274" y="14138"/>
                  <a:pt x="23607" y="13963"/>
                  <a:pt x="23664" y="13940"/>
                </a:cubicBezTo>
              </a:path>
              <a:path w="3275" h="1589">
                <a:moveTo>
                  <a:pt x="23614" y="13791"/>
                </a:moveTo>
                <a:cubicBezTo>
                  <a:pt x="23591" y="13939"/>
                  <a:pt x="23493" y="14354"/>
                  <a:pt x="23589" y="14238"/>
                </a:cubicBezTo>
                <a:cubicBezTo>
                  <a:pt x="23597" y="14213"/>
                  <a:pt x="23606" y="14188"/>
                  <a:pt x="23614" y="14163"/>
                </a:cubicBezTo>
              </a:path>
              <a:path w="3275" h="1589">
                <a:moveTo>
                  <a:pt x="23862" y="13742"/>
                </a:moveTo>
                <a:cubicBezTo>
                  <a:pt x="23917" y="13756"/>
                  <a:pt x="23978" y="13790"/>
                  <a:pt x="24036" y="13816"/>
                </a:cubicBezTo>
                <a:cubicBezTo>
                  <a:pt x="23984" y="13938"/>
                  <a:pt x="23925" y="14037"/>
                  <a:pt x="23837" y="14139"/>
                </a:cubicBezTo>
                <a:cubicBezTo>
                  <a:pt x="23920" y="14139"/>
                  <a:pt x="24002" y="14139"/>
                  <a:pt x="24085" y="14139"/>
                </a:cubicBezTo>
              </a:path>
              <a:path w="3275" h="1589">
                <a:moveTo>
                  <a:pt x="23242" y="14511"/>
                </a:moveTo>
                <a:cubicBezTo>
                  <a:pt x="23411" y="14484"/>
                  <a:pt x="23819" y="14348"/>
                  <a:pt x="23986" y="14412"/>
                </a:cubicBezTo>
                <a:cubicBezTo>
                  <a:pt x="23986" y="14420"/>
                  <a:pt x="23986" y="14428"/>
                  <a:pt x="23986" y="14436"/>
                </a:cubicBezTo>
              </a:path>
              <a:path w="3275" h="1589">
                <a:moveTo>
                  <a:pt x="23366" y="14808"/>
                </a:moveTo>
                <a:cubicBezTo>
                  <a:pt x="23460" y="14808"/>
                  <a:pt x="23546" y="14789"/>
                  <a:pt x="23639" y="14784"/>
                </a:cubicBezTo>
                <a:cubicBezTo>
                  <a:pt x="23647" y="14784"/>
                  <a:pt x="23656" y="14784"/>
                  <a:pt x="23664" y="14784"/>
                </a:cubicBezTo>
                <a:cubicBezTo>
                  <a:pt x="23638" y="14900"/>
                  <a:pt x="23554" y="14955"/>
                  <a:pt x="23490" y="15056"/>
                </a:cubicBezTo>
                <a:cubicBezTo>
                  <a:pt x="23468" y="15100"/>
                  <a:pt x="23465" y="15112"/>
                  <a:pt x="23440" y="15131"/>
                </a:cubicBezTo>
                <a:cubicBezTo>
                  <a:pt x="23546" y="15176"/>
                  <a:pt x="23627" y="15123"/>
                  <a:pt x="23738" y="15106"/>
                </a:cubicBezTo>
                <a:cubicBezTo>
                  <a:pt x="23779" y="15106"/>
                  <a:pt x="23787" y="15106"/>
                  <a:pt x="23812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8880" y="516096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2129" y="14337"/>
                </a:moveTo>
                <a:cubicBezTo>
                  <a:pt x="12203" y="14337"/>
                  <a:pt x="11912" y="14386"/>
                  <a:pt x="11906" y="14387"/>
                </a:cubicBezTo>
                <a:cubicBezTo>
                  <a:pt x="11859" y="14395"/>
                  <a:pt x="11881" y="14464"/>
                  <a:pt x="11881" y="14511"/>
                </a:cubicBezTo>
                <a:cubicBezTo>
                  <a:pt x="11881" y="14519"/>
                  <a:pt x="11881" y="14528"/>
                  <a:pt x="11881" y="14536"/>
                </a:cubicBezTo>
                <a:cubicBezTo>
                  <a:pt x="11950" y="14522"/>
                  <a:pt x="12006" y="14511"/>
                  <a:pt x="12080" y="14511"/>
                </a:cubicBezTo>
                <a:cubicBezTo>
                  <a:pt x="12109" y="14596"/>
                  <a:pt x="12124" y="14715"/>
                  <a:pt x="12005" y="14759"/>
                </a:cubicBezTo>
                <a:cubicBezTo>
                  <a:pt x="11956" y="14777"/>
                  <a:pt x="11869" y="14772"/>
                  <a:pt x="11857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75160" y="5160960"/>
            <a:ext cx="1177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5156" y="14337"/>
                </a:moveTo>
                <a:cubicBezTo>
                  <a:pt x="15115" y="14419"/>
                  <a:pt x="15110" y="14535"/>
                  <a:pt x="15106" y="14635"/>
                </a:cubicBezTo>
                <a:cubicBezTo>
                  <a:pt x="15106" y="14651"/>
                  <a:pt x="15106" y="14668"/>
                  <a:pt x="15106" y="14684"/>
                </a:cubicBezTo>
              </a:path>
              <a:path w="324" h="348">
                <a:moveTo>
                  <a:pt x="14932" y="14585"/>
                </a:moveTo>
                <a:cubicBezTo>
                  <a:pt x="15041" y="14577"/>
                  <a:pt x="15145" y="14560"/>
                  <a:pt x="1525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3040" y="5180040"/>
            <a:ext cx="106200" cy="17784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7661" y="14387"/>
                </a:moveTo>
                <a:cubicBezTo>
                  <a:pt x="17637" y="14482"/>
                  <a:pt x="17580" y="14605"/>
                  <a:pt x="17562" y="14709"/>
                </a:cubicBezTo>
                <a:cubicBezTo>
                  <a:pt x="17530" y="14897"/>
                  <a:pt x="17748" y="14842"/>
                  <a:pt x="17835" y="14759"/>
                </a:cubicBezTo>
                <a:cubicBezTo>
                  <a:pt x="17843" y="14742"/>
                  <a:pt x="17851" y="14726"/>
                  <a:pt x="17859" y="14709"/>
                </a:cubicBezTo>
                <a:cubicBezTo>
                  <a:pt x="17765" y="14677"/>
                  <a:pt x="17722" y="14729"/>
                  <a:pt x="17711" y="14833"/>
                </a:cubicBezTo>
                <a:cubicBezTo>
                  <a:pt x="17711" y="14874"/>
                  <a:pt x="17702" y="14891"/>
                  <a:pt x="17735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56080" y="276876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12452" y="7689"/>
                </a:moveTo>
                <a:cubicBezTo>
                  <a:pt x="12476" y="7905"/>
                  <a:pt x="12477" y="8116"/>
                  <a:pt x="12477" y="8334"/>
                </a:cubicBezTo>
                <a:cubicBezTo>
                  <a:pt x="12477" y="8422"/>
                  <a:pt x="12506" y="8465"/>
                  <a:pt x="12452" y="8483"/>
                </a:cubicBezTo>
                <a:cubicBezTo>
                  <a:pt x="12434" y="8302"/>
                  <a:pt x="12404" y="8027"/>
                  <a:pt x="12650" y="7987"/>
                </a:cubicBezTo>
                <a:cubicBezTo>
                  <a:pt x="12691" y="7995"/>
                  <a:pt x="12733" y="8004"/>
                  <a:pt x="12774" y="8012"/>
                </a:cubicBezTo>
                <a:cubicBezTo>
                  <a:pt x="12851" y="8252"/>
                  <a:pt x="12861" y="8432"/>
                  <a:pt x="12551" y="8508"/>
                </a:cubicBezTo>
                <a:cubicBezTo>
                  <a:pt x="12260" y="8579"/>
                  <a:pt x="12432" y="8429"/>
                  <a:pt x="12502" y="835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70280" y="2759040"/>
            <a:ext cx="231840" cy="295200"/>
          </a:xfrm>
          <a:custGeom>
            <a:avLst/>
            <a:gdLst/>
            <a:ahLst/>
            <a:rect l="l" t="t" r="r" b="b"/>
            <a:pathLst>
              <a:path w="646" h="819">
                <a:moveTo>
                  <a:pt x="12973" y="7665"/>
                </a:moveTo>
                <a:cubicBezTo>
                  <a:pt x="12997" y="7855"/>
                  <a:pt x="13048" y="8047"/>
                  <a:pt x="13072" y="8235"/>
                </a:cubicBezTo>
                <a:cubicBezTo>
                  <a:pt x="13072" y="8276"/>
                  <a:pt x="13072" y="8318"/>
                  <a:pt x="13072" y="8359"/>
                </a:cubicBezTo>
                <a:cubicBezTo>
                  <a:pt x="13072" y="8451"/>
                  <a:pt x="13082" y="8276"/>
                  <a:pt x="13097" y="8186"/>
                </a:cubicBezTo>
                <a:cubicBezTo>
                  <a:pt x="13099" y="8172"/>
                  <a:pt x="13179" y="7853"/>
                  <a:pt x="13295" y="8012"/>
                </a:cubicBezTo>
                <a:cubicBezTo>
                  <a:pt x="13375" y="8122"/>
                  <a:pt x="13305" y="8325"/>
                  <a:pt x="13395" y="8434"/>
                </a:cubicBezTo>
                <a:cubicBezTo>
                  <a:pt x="13484" y="8542"/>
                  <a:pt x="13548" y="8442"/>
                  <a:pt x="13618" y="838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4240" y="3232080"/>
            <a:ext cx="88920" cy="27000"/>
          </a:xfrm>
          <a:custGeom>
            <a:avLst/>
            <a:gdLst/>
            <a:ahLst/>
            <a:rect l="l" t="t" r="r" b="b"/>
            <a:pathLst>
              <a:path w="249" h="76">
                <a:moveTo>
                  <a:pt x="11757" y="9054"/>
                </a:moveTo>
                <a:cubicBezTo>
                  <a:pt x="11696" y="9022"/>
                  <a:pt x="11915" y="9009"/>
                  <a:pt x="11931" y="9004"/>
                </a:cubicBezTo>
                <a:cubicBezTo>
                  <a:pt x="11972" y="8984"/>
                  <a:pt x="11988" y="8965"/>
                  <a:pt x="11981" y="90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05160" y="3303720"/>
            <a:ext cx="10800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11683" y="9227"/>
                </a:moveTo>
                <a:cubicBezTo>
                  <a:pt x="11788" y="9195"/>
                  <a:pt x="11871" y="9178"/>
                  <a:pt x="11981" y="91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94160" y="3178080"/>
            <a:ext cx="1429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2601" y="8830"/>
                </a:moveTo>
                <a:cubicBezTo>
                  <a:pt x="12509" y="8830"/>
                  <a:pt x="12422" y="8851"/>
                  <a:pt x="12328" y="8855"/>
                </a:cubicBezTo>
                <a:cubicBezTo>
                  <a:pt x="12320" y="8855"/>
                  <a:pt x="12311" y="8855"/>
                  <a:pt x="12303" y="8855"/>
                </a:cubicBezTo>
                <a:cubicBezTo>
                  <a:pt x="12303" y="8930"/>
                  <a:pt x="12303" y="9004"/>
                  <a:pt x="12303" y="9079"/>
                </a:cubicBezTo>
                <a:cubicBezTo>
                  <a:pt x="12368" y="9079"/>
                  <a:pt x="12507" y="9056"/>
                  <a:pt x="12526" y="9153"/>
                </a:cubicBezTo>
                <a:cubicBezTo>
                  <a:pt x="12565" y="9353"/>
                  <a:pt x="12397" y="9345"/>
                  <a:pt x="12254" y="9351"/>
                </a:cubicBezTo>
                <a:cubicBezTo>
                  <a:pt x="12218" y="9353"/>
                  <a:pt x="12192" y="9345"/>
                  <a:pt x="12229" y="932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160800"/>
            <a:ext cx="54000" cy="287280"/>
          </a:xfrm>
          <a:custGeom>
            <a:avLst/>
            <a:gdLst/>
            <a:ahLst/>
            <a:rect l="l" t="t" r="r" b="b"/>
            <a:pathLst>
              <a:path w="150" h="795">
                <a:moveTo>
                  <a:pt x="12774" y="8806"/>
                </a:moveTo>
                <a:cubicBezTo>
                  <a:pt x="12782" y="8798"/>
                  <a:pt x="12791" y="8789"/>
                  <a:pt x="12799" y="8781"/>
                </a:cubicBezTo>
                <a:cubicBezTo>
                  <a:pt x="12799" y="8927"/>
                  <a:pt x="12744" y="9064"/>
                  <a:pt x="12700" y="9203"/>
                </a:cubicBezTo>
                <a:cubicBezTo>
                  <a:pt x="12679" y="9270"/>
                  <a:pt x="12589" y="9487"/>
                  <a:pt x="12700" y="9550"/>
                </a:cubicBezTo>
                <a:cubicBezTo>
                  <a:pt x="12731" y="9568"/>
                  <a:pt x="12759" y="9575"/>
                  <a:pt x="12799" y="957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97280" y="3197160"/>
            <a:ext cx="106560" cy="16056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3047" y="8905"/>
                </a:moveTo>
                <a:cubicBezTo>
                  <a:pt x="13140" y="8905"/>
                  <a:pt x="13228" y="8885"/>
                  <a:pt x="13320" y="8880"/>
                </a:cubicBezTo>
                <a:cubicBezTo>
                  <a:pt x="13328" y="8880"/>
                  <a:pt x="13337" y="8880"/>
                  <a:pt x="13345" y="8880"/>
                </a:cubicBezTo>
                <a:cubicBezTo>
                  <a:pt x="13304" y="9004"/>
                  <a:pt x="13209" y="9120"/>
                  <a:pt x="13171" y="9252"/>
                </a:cubicBezTo>
                <a:cubicBezTo>
                  <a:pt x="13156" y="9303"/>
                  <a:pt x="13165" y="9317"/>
                  <a:pt x="13196" y="932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57840" y="3106800"/>
            <a:ext cx="71280" cy="287280"/>
          </a:xfrm>
          <a:custGeom>
            <a:avLst/>
            <a:gdLst/>
            <a:ahLst/>
            <a:rect l="l" t="t" r="r" b="b"/>
            <a:pathLst>
              <a:path w="199" h="795">
                <a:moveTo>
                  <a:pt x="13494" y="8657"/>
                </a:moveTo>
                <a:cubicBezTo>
                  <a:pt x="13494" y="8613"/>
                  <a:pt x="13636" y="8839"/>
                  <a:pt x="13643" y="8855"/>
                </a:cubicBezTo>
                <a:cubicBezTo>
                  <a:pt x="13737" y="9064"/>
                  <a:pt x="13643" y="9201"/>
                  <a:pt x="13593" y="9401"/>
                </a:cubicBezTo>
                <a:cubicBezTo>
                  <a:pt x="13593" y="9426"/>
                  <a:pt x="13593" y="9434"/>
                  <a:pt x="13568" y="942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7240" y="3517920"/>
            <a:ext cx="810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11658" y="9773"/>
                </a:moveTo>
                <a:cubicBezTo>
                  <a:pt x="11732" y="9773"/>
                  <a:pt x="11807" y="9773"/>
                  <a:pt x="11881" y="97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4880" y="3581280"/>
            <a:ext cx="90360" cy="792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1708" y="9971"/>
                </a:moveTo>
                <a:cubicBezTo>
                  <a:pt x="11799" y="9971"/>
                  <a:pt x="11874" y="9981"/>
                  <a:pt x="11956" y="994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11800" y="3500280"/>
            <a:ext cx="115920" cy="18756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2353" y="9798"/>
                </a:moveTo>
                <a:cubicBezTo>
                  <a:pt x="12374" y="9755"/>
                  <a:pt x="12506" y="9670"/>
                  <a:pt x="12551" y="9748"/>
                </a:cubicBezTo>
                <a:cubicBezTo>
                  <a:pt x="12617" y="9861"/>
                  <a:pt x="12460" y="9930"/>
                  <a:pt x="12402" y="9971"/>
                </a:cubicBezTo>
                <a:cubicBezTo>
                  <a:pt x="12394" y="9971"/>
                  <a:pt x="12386" y="9971"/>
                  <a:pt x="12378" y="9971"/>
                </a:cubicBezTo>
                <a:cubicBezTo>
                  <a:pt x="12488" y="9971"/>
                  <a:pt x="12608" y="9969"/>
                  <a:pt x="12576" y="10120"/>
                </a:cubicBezTo>
                <a:cubicBezTo>
                  <a:pt x="12554" y="10227"/>
                  <a:pt x="12246" y="10291"/>
                  <a:pt x="12254" y="10220"/>
                </a:cubicBezTo>
                <a:cubicBezTo>
                  <a:pt x="12270" y="10195"/>
                  <a:pt x="12287" y="10170"/>
                  <a:pt x="12303" y="1014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554280"/>
            <a:ext cx="88920" cy="13356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2700" y="9872"/>
                </a:moveTo>
                <a:cubicBezTo>
                  <a:pt x="12700" y="9992"/>
                  <a:pt x="12775" y="9986"/>
                  <a:pt x="12874" y="10046"/>
                </a:cubicBezTo>
                <a:cubicBezTo>
                  <a:pt x="12980" y="10110"/>
                  <a:pt x="12970" y="10244"/>
                  <a:pt x="12824" y="10244"/>
                </a:cubicBezTo>
                <a:cubicBezTo>
                  <a:pt x="12742" y="10217"/>
                  <a:pt x="12715" y="10201"/>
                  <a:pt x="12725" y="101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19320" y="1600200"/>
            <a:ext cx="3352680" cy="1981080"/>
            <a:chOff x="1219320" y="1600200"/>
            <a:chExt cx="3352680" cy="19810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351880" y="1600200"/>
                  <a:ext cx="543600" cy="25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219320" y="2288880"/>
                  <a:ext cx="6339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"/>
            <p:cNvGrpSpPr/>
            <p:nvPr/>
          </p:nvGrpSpPr>
          <p:grpSpPr>
            <a:xfrm>
              <a:off x="1944000" y="1883880"/>
              <a:ext cx="2628000" cy="1337040"/>
              <a:chOff x="1944000" y="1883880"/>
              <a:chExt cx="2628000" cy="1337040"/>
            </a:xfrm>
          </p:grpSpPr>
          <p:sp>
            <p:nvSpPr>
              <p:cNvPr id="300" name=""/>
              <p:cNvSpPr/>
              <p:nvPr/>
            </p:nvSpPr>
            <p:spPr>
              <a:xfrm>
                <a:off x="1944000" y="1883880"/>
                <a:ext cx="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44000" y="188388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4000" y="3220920"/>
                <a:ext cx="262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3166920" y="1883880"/>
                <a:ext cx="140436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986200" y="3301920"/>
                  <a:ext cx="7246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3167280" y="1883880"/>
              <a:ext cx="45360" cy="1337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371600" y="403848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Rectangle + Area of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480060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Rectangle + Area of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480060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562720" y="2590920"/>
                <a:ext cx="25905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981080" y="2438280"/>
            <a:ext cx="3352680" cy="1981080"/>
            <a:chOff x="1981080" y="2438280"/>
            <a:chExt cx="3352680" cy="198108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3113640" y="2438280"/>
                  <a:ext cx="543600" cy="25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981080" y="3126960"/>
                  <a:ext cx="63432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2705760" y="2721960"/>
              <a:ext cx="2628000" cy="1337040"/>
              <a:chOff x="2705760" y="2721960"/>
              <a:chExt cx="2628000" cy="1337040"/>
            </a:xfrm>
          </p:grpSpPr>
          <p:sp>
            <p:nvSpPr>
              <p:cNvPr id="318" name=""/>
              <p:cNvSpPr/>
              <p:nvPr/>
            </p:nvSpPr>
            <p:spPr>
              <a:xfrm>
                <a:off x="2705760" y="2721960"/>
                <a:ext cx="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05760" y="272196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05760" y="4059000"/>
                <a:ext cx="262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3928680" y="2721960"/>
                <a:ext cx="140436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748320" y="4140000"/>
                  <a:ext cx="7246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3929400" y="2721960"/>
              <a:ext cx="45360" cy="1337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666880" y="5105520"/>
                <a:ext cx="3505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438280" y="34290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64832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648320" y="3733560"/>
            <a:ext cx="2743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81120" y="34286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4600" y="3733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429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952520" y="3886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419360" y="43434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956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72428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09720" y="32767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647960" y="48006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00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onal = 18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83120" y="2608200"/>
            <a:ext cx="561960" cy="480960"/>
          </a:xfrm>
          <a:custGeom>
            <a:avLst/>
            <a:gdLst/>
            <a:ahLst/>
            <a:rect l="l" t="t" r="r" b="b"/>
            <a:pathLst>
              <a:path w="1564" h="1340">
                <a:moveTo>
                  <a:pt x="14039" y="7541"/>
                </a:moveTo>
                <a:cubicBezTo>
                  <a:pt x="14039" y="7287"/>
                  <a:pt x="14003" y="7693"/>
                  <a:pt x="13990" y="7739"/>
                </a:cubicBezTo>
                <a:cubicBezTo>
                  <a:pt x="13923" y="7917"/>
                  <a:pt x="13910" y="7964"/>
                  <a:pt x="13841" y="8062"/>
                </a:cubicBezTo>
                <a:cubicBezTo>
                  <a:pt x="13863" y="7824"/>
                  <a:pt x="13895" y="7565"/>
                  <a:pt x="13990" y="7342"/>
                </a:cubicBezTo>
                <a:cubicBezTo>
                  <a:pt x="14029" y="7283"/>
                  <a:pt x="14033" y="7271"/>
                  <a:pt x="14064" y="7243"/>
                </a:cubicBezTo>
                <a:cubicBezTo>
                  <a:pt x="14172" y="7243"/>
                  <a:pt x="14209" y="7410"/>
                  <a:pt x="14238" y="7491"/>
                </a:cubicBezTo>
                <a:cubicBezTo>
                  <a:pt x="14261" y="7556"/>
                  <a:pt x="14394" y="7910"/>
                  <a:pt x="14387" y="7938"/>
                </a:cubicBezTo>
                <a:cubicBezTo>
                  <a:pt x="14379" y="7938"/>
                  <a:pt x="14370" y="7938"/>
                  <a:pt x="14362" y="7938"/>
                </a:cubicBezTo>
              </a:path>
              <a:path w="1564" h="1340">
                <a:moveTo>
                  <a:pt x="13940" y="7838"/>
                </a:moveTo>
                <a:cubicBezTo>
                  <a:pt x="14032" y="7838"/>
                  <a:pt x="14083" y="7795"/>
                  <a:pt x="14163" y="7764"/>
                </a:cubicBezTo>
                <a:cubicBezTo>
                  <a:pt x="14181" y="7757"/>
                  <a:pt x="14219" y="7764"/>
                  <a:pt x="14238" y="7764"/>
                </a:cubicBezTo>
              </a:path>
              <a:path w="1564" h="1340">
                <a:moveTo>
                  <a:pt x="14709" y="7987"/>
                </a:moveTo>
                <a:cubicBezTo>
                  <a:pt x="14679" y="8111"/>
                  <a:pt x="14626" y="8236"/>
                  <a:pt x="14585" y="8359"/>
                </a:cubicBezTo>
                <a:cubicBezTo>
                  <a:pt x="14585" y="8415"/>
                  <a:pt x="14696" y="8046"/>
                  <a:pt x="14709" y="8012"/>
                </a:cubicBezTo>
                <a:cubicBezTo>
                  <a:pt x="14726" y="7971"/>
                  <a:pt x="14742" y="7929"/>
                  <a:pt x="14759" y="7888"/>
                </a:cubicBezTo>
                <a:cubicBezTo>
                  <a:pt x="14845" y="7960"/>
                  <a:pt x="14938" y="8126"/>
                  <a:pt x="15007" y="8235"/>
                </a:cubicBezTo>
                <a:cubicBezTo>
                  <a:pt x="15091" y="8368"/>
                  <a:pt x="14776" y="8411"/>
                  <a:pt x="14709" y="8434"/>
                </a:cubicBezTo>
                <a:cubicBezTo>
                  <a:pt x="14620" y="8463"/>
                  <a:pt x="14608" y="8462"/>
                  <a:pt x="14734" y="8384"/>
                </a:cubicBezTo>
              </a:path>
              <a:path w="1564" h="1340">
                <a:moveTo>
                  <a:pt x="15379" y="8285"/>
                </a:moveTo>
                <a:cubicBezTo>
                  <a:pt x="15379" y="8207"/>
                  <a:pt x="15379" y="8507"/>
                  <a:pt x="15379" y="8508"/>
                </a:cubicBezTo>
                <a:cubicBezTo>
                  <a:pt x="15399" y="8548"/>
                  <a:pt x="15408" y="8555"/>
                  <a:pt x="15404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14280" y="2625840"/>
            <a:ext cx="7554960" cy="3598920"/>
          </a:xfrm>
          <a:custGeom>
            <a:avLst/>
            <a:gdLst/>
            <a:ahLst/>
            <a:rect l="l" t="t" r="r" b="b"/>
            <a:pathLst>
              <a:path w="20986" h="9997">
                <a:moveTo>
                  <a:pt x="6573" y="13742"/>
                </a:moveTo>
                <a:cubicBezTo>
                  <a:pt x="6581" y="13742"/>
                  <a:pt x="6590" y="13742"/>
                  <a:pt x="6598" y="13742"/>
                </a:cubicBezTo>
              </a:path>
              <a:path w="20986" h="9997">
                <a:moveTo>
                  <a:pt x="6747" y="12973"/>
                </a:moveTo>
                <a:cubicBezTo>
                  <a:pt x="6911" y="12951"/>
                  <a:pt x="7055" y="12934"/>
                  <a:pt x="7218" y="12898"/>
                </a:cubicBezTo>
                <a:cubicBezTo>
                  <a:pt x="7320" y="12875"/>
                  <a:pt x="7414" y="12852"/>
                  <a:pt x="7516" y="12824"/>
                </a:cubicBezTo>
                <a:cubicBezTo>
                  <a:pt x="7627" y="12794"/>
                  <a:pt x="7729" y="12757"/>
                  <a:pt x="7838" y="12725"/>
                </a:cubicBezTo>
                <a:cubicBezTo>
                  <a:pt x="8006" y="12676"/>
                  <a:pt x="8167" y="12615"/>
                  <a:pt x="8334" y="12576"/>
                </a:cubicBezTo>
                <a:cubicBezTo>
                  <a:pt x="8427" y="12555"/>
                  <a:pt x="8521" y="12548"/>
                  <a:pt x="8607" y="12526"/>
                </a:cubicBezTo>
                <a:cubicBezTo>
                  <a:pt x="8923" y="12445"/>
                  <a:pt x="9241" y="12338"/>
                  <a:pt x="9550" y="12254"/>
                </a:cubicBezTo>
                <a:cubicBezTo>
                  <a:pt x="9716" y="12209"/>
                  <a:pt x="9881" y="12162"/>
                  <a:pt x="10046" y="12129"/>
                </a:cubicBezTo>
                <a:cubicBezTo>
                  <a:pt x="10162" y="12106"/>
                  <a:pt x="10278" y="12070"/>
                  <a:pt x="10393" y="12055"/>
                </a:cubicBezTo>
                <a:cubicBezTo>
                  <a:pt x="10470" y="12045"/>
                  <a:pt x="10541" y="12043"/>
                  <a:pt x="10616" y="12030"/>
                </a:cubicBezTo>
                <a:cubicBezTo>
                  <a:pt x="10748" y="12008"/>
                  <a:pt x="10879" y="11973"/>
                  <a:pt x="11013" y="11956"/>
                </a:cubicBezTo>
                <a:cubicBezTo>
                  <a:pt x="11113" y="11943"/>
                  <a:pt x="11212" y="11944"/>
                  <a:pt x="11311" y="11931"/>
                </a:cubicBezTo>
                <a:cubicBezTo>
                  <a:pt x="11459" y="11912"/>
                  <a:pt x="11608" y="11877"/>
                  <a:pt x="11757" y="11857"/>
                </a:cubicBezTo>
                <a:cubicBezTo>
                  <a:pt x="11865" y="11843"/>
                  <a:pt x="11972" y="11843"/>
                  <a:pt x="12080" y="11832"/>
                </a:cubicBezTo>
                <a:cubicBezTo>
                  <a:pt x="12245" y="11816"/>
                  <a:pt x="12410" y="11796"/>
                  <a:pt x="12576" y="11782"/>
                </a:cubicBezTo>
                <a:cubicBezTo>
                  <a:pt x="12630" y="11777"/>
                  <a:pt x="12708" y="11761"/>
                  <a:pt x="12750" y="11757"/>
                </a:cubicBezTo>
                <a:cubicBezTo>
                  <a:pt x="12966" y="11739"/>
                  <a:pt x="13180" y="11706"/>
                  <a:pt x="13395" y="11683"/>
                </a:cubicBezTo>
                <a:cubicBezTo>
                  <a:pt x="13529" y="11669"/>
                  <a:pt x="13658" y="11656"/>
                  <a:pt x="13791" y="11633"/>
                </a:cubicBezTo>
                <a:cubicBezTo>
                  <a:pt x="13900" y="11614"/>
                  <a:pt x="14004" y="11596"/>
                  <a:pt x="14114" y="11584"/>
                </a:cubicBezTo>
                <a:cubicBezTo>
                  <a:pt x="14207" y="11574"/>
                  <a:pt x="14294" y="11572"/>
                  <a:pt x="14387" y="11559"/>
                </a:cubicBezTo>
                <a:cubicBezTo>
                  <a:pt x="14513" y="11541"/>
                  <a:pt x="14632" y="11509"/>
                  <a:pt x="14759" y="11485"/>
                </a:cubicBezTo>
                <a:cubicBezTo>
                  <a:pt x="14867" y="11465"/>
                  <a:pt x="14972" y="11433"/>
                  <a:pt x="15081" y="11410"/>
                </a:cubicBezTo>
                <a:cubicBezTo>
                  <a:pt x="15194" y="11386"/>
                  <a:pt x="15313" y="11360"/>
                  <a:pt x="15429" y="11336"/>
                </a:cubicBezTo>
                <a:cubicBezTo>
                  <a:pt x="15563" y="11309"/>
                  <a:pt x="15691" y="11284"/>
                  <a:pt x="15825" y="11261"/>
                </a:cubicBezTo>
                <a:cubicBezTo>
                  <a:pt x="15951" y="11239"/>
                  <a:pt x="16074" y="11209"/>
                  <a:pt x="16197" y="11187"/>
                </a:cubicBezTo>
                <a:cubicBezTo>
                  <a:pt x="16305" y="11167"/>
                  <a:pt x="16415" y="11160"/>
                  <a:pt x="16520" y="11137"/>
                </a:cubicBezTo>
                <a:cubicBezTo>
                  <a:pt x="16582" y="11123"/>
                  <a:pt x="16647" y="11101"/>
                  <a:pt x="16718" y="11088"/>
                </a:cubicBezTo>
                <a:cubicBezTo>
                  <a:pt x="16848" y="11065"/>
                  <a:pt x="16982" y="11031"/>
                  <a:pt x="17115" y="11013"/>
                </a:cubicBezTo>
                <a:cubicBezTo>
                  <a:pt x="17203" y="11001"/>
                  <a:pt x="17301" y="11006"/>
                  <a:pt x="17388" y="10988"/>
                </a:cubicBezTo>
                <a:cubicBezTo>
                  <a:pt x="17461" y="10973"/>
                  <a:pt x="17554" y="10930"/>
                  <a:pt x="17636" y="10914"/>
                </a:cubicBezTo>
                <a:cubicBezTo>
                  <a:pt x="17734" y="10895"/>
                  <a:pt x="17835" y="10884"/>
                  <a:pt x="17934" y="10864"/>
                </a:cubicBezTo>
                <a:cubicBezTo>
                  <a:pt x="18042" y="10843"/>
                  <a:pt x="18151" y="10837"/>
                  <a:pt x="18256" y="10815"/>
                </a:cubicBezTo>
                <a:cubicBezTo>
                  <a:pt x="18638" y="10736"/>
                  <a:pt x="19017" y="10617"/>
                  <a:pt x="19397" y="10542"/>
                </a:cubicBezTo>
                <a:cubicBezTo>
                  <a:pt x="19494" y="10523"/>
                  <a:pt x="19598" y="10509"/>
                  <a:pt x="19695" y="10492"/>
                </a:cubicBezTo>
                <a:cubicBezTo>
                  <a:pt x="19762" y="10480"/>
                  <a:pt x="19826" y="10480"/>
                  <a:pt x="19893" y="10468"/>
                </a:cubicBezTo>
                <a:cubicBezTo>
                  <a:pt x="20006" y="10448"/>
                  <a:pt x="20128" y="10441"/>
                  <a:pt x="20241" y="10418"/>
                </a:cubicBezTo>
                <a:cubicBezTo>
                  <a:pt x="20291" y="10408"/>
                  <a:pt x="20315" y="10379"/>
                  <a:pt x="20365" y="10368"/>
                </a:cubicBezTo>
                <a:cubicBezTo>
                  <a:pt x="20373" y="10368"/>
                  <a:pt x="20381" y="10368"/>
                  <a:pt x="20389" y="10368"/>
                </a:cubicBezTo>
              </a:path>
              <a:path w="20986" h="9997">
                <a:moveTo>
                  <a:pt x="24085" y="7516"/>
                </a:moveTo>
                <a:cubicBezTo>
                  <a:pt x="24200" y="7443"/>
                  <a:pt x="24273" y="7395"/>
                  <a:pt x="24358" y="7293"/>
                </a:cubicBezTo>
              </a:path>
              <a:path w="20986" h="9997">
                <a:moveTo>
                  <a:pt x="4415" y="15801"/>
                </a:moveTo>
                <a:lnTo>
                  <a:pt x="4415" y="15801"/>
                </a:lnTo>
              </a:path>
              <a:path w="20986" h="9997">
                <a:moveTo>
                  <a:pt x="5755" y="16098"/>
                </a:moveTo>
                <a:cubicBezTo>
                  <a:pt x="5933" y="16039"/>
                  <a:pt x="6043" y="16008"/>
                  <a:pt x="6226" y="15999"/>
                </a:cubicBezTo>
              </a:path>
              <a:path w="20986" h="9997">
                <a:moveTo>
                  <a:pt x="3423" y="16247"/>
                </a:moveTo>
                <a:cubicBezTo>
                  <a:pt x="3423" y="16521"/>
                  <a:pt x="3362" y="16819"/>
                  <a:pt x="3398" y="17090"/>
                </a:cubicBezTo>
                <a:cubicBezTo>
                  <a:pt x="3415" y="17140"/>
                  <a:pt x="3431" y="17189"/>
                  <a:pt x="3448" y="17239"/>
                </a:cubicBezTo>
                <a:cubicBezTo>
                  <a:pt x="3877" y="17311"/>
                  <a:pt x="4380" y="17142"/>
                  <a:pt x="4837" y="17140"/>
                </a:cubicBezTo>
                <a:cubicBezTo>
                  <a:pt x="5397" y="17137"/>
                  <a:pt x="5991" y="17140"/>
                  <a:pt x="6548" y="17214"/>
                </a:cubicBezTo>
                <a:cubicBezTo>
                  <a:pt x="6717" y="17237"/>
                  <a:pt x="6635" y="17267"/>
                  <a:pt x="6722" y="17115"/>
                </a:cubicBezTo>
                <a:cubicBezTo>
                  <a:pt x="6891" y="16820"/>
                  <a:pt x="6993" y="16395"/>
                  <a:pt x="7094" y="16073"/>
                </a:cubicBezTo>
                <a:cubicBezTo>
                  <a:pt x="7210" y="15705"/>
                  <a:pt x="7205" y="15407"/>
                  <a:pt x="7193" y="15032"/>
                </a:cubicBezTo>
                <a:cubicBezTo>
                  <a:pt x="7193" y="15024"/>
                  <a:pt x="7193" y="15015"/>
                  <a:pt x="7193" y="15007"/>
                </a:cubicBezTo>
                <a:cubicBezTo>
                  <a:pt x="7006" y="15068"/>
                  <a:pt x="6762" y="15156"/>
                  <a:pt x="6573" y="15205"/>
                </a:cubicBezTo>
                <a:cubicBezTo>
                  <a:pt x="5704" y="15432"/>
                  <a:pt x="4836" y="15538"/>
                  <a:pt x="3944" y="15602"/>
                </a:cubicBezTo>
                <a:cubicBezTo>
                  <a:pt x="3807" y="15612"/>
                  <a:pt x="3541" y="15574"/>
                  <a:pt x="3398" y="15627"/>
                </a:cubicBezTo>
                <a:cubicBezTo>
                  <a:pt x="3390" y="15652"/>
                  <a:pt x="3381" y="15676"/>
                  <a:pt x="3373" y="15701"/>
                </a:cubicBezTo>
              </a:path>
              <a:path w="20986" h="9997">
                <a:moveTo>
                  <a:pt x="3473" y="16148"/>
                </a:moveTo>
                <a:cubicBezTo>
                  <a:pt x="3516" y="16323"/>
                  <a:pt x="3524" y="16368"/>
                  <a:pt x="3572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4760" y="5626080"/>
            <a:ext cx="876240" cy="339840"/>
          </a:xfrm>
          <a:custGeom>
            <a:avLst/>
            <a:gdLst/>
            <a:ahLst/>
            <a:rect l="l" t="t" r="r" b="b"/>
            <a:pathLst>
              <a:path w="2432" h="944">
                <a:moveTo>
                  <a:pt x="4415" y="15900"/>
                </a:moveTo>
                <a:cubicBezTo>
                  <a:pt x="4380" y="16100"/>
                  <a:pt x="4328" y="16296"/>
                  <a:pt x="4291" y="16495"/>
                </a:cubicBezTo>
                <a:cubicBezTo>
                  <a:pt x="4280" y="16556"/>
                  <a:pt x="4340" y="16452"/>
                  <a:pt x="4366" y="16396"/>
                </a:cubicBezTo>
              </a:path>
              <a:path w="2432" h="944">
                <a:moveTo>
                  <a:pt x="4862" y="15900"/>
                </a:moveTo>
                <a:cubicBezTo>
                  <a:pt x="4741" y="16056"/>
                  <a:pt x="4622" y="16191"/>
                  <a:pt x="4614" y="16396"/>
                </a:cubicBezTo>
                <a:cubicBezTo>
                  <a:pt x="4636" y="16508"/>
                  <a:pt x="4634" y="16543"/>
                  <a:pt x="4713" y="16570"/>
                </a:cubicBezTo>
                <a:cubicBezTo>
                  <a:pt x="4906" y="16473"/>
                  <a:pt x="5130" y="16286"/>
                  <a:pt x="5011" y="16024"/>
                </a:cubicBezTo>
                <a:cubicBezTo>
                  <a:pt x="4951" y="15892"/>
                  <a:pt x="4743" y="15969"/>
                  <a:pt x="4738" y="15974"/>
                </a:cubicBezTo>
              </a:path>
              <a:path w="2432" h="944">
                <a:moveTo>
                  <a:pt x="5655" y="15850"/>
                </a:moveTo>
                <a:cubicBezTo>
                  <a:pt x="5512" y="15795"/>
                  <a:pt x="5472" y="15779"/>
                  <a:pt x="5333" y="15825"/>
                </a:cubicBezTo>
                <a:cubicBezTo>
                  <a:pt x="5353" y="16055"/>
                  <a:pt x="5448" y="16245"/>
                  <a:pt x="5482" y="16470"/>
                </a:cubicBezTo>
                <a:cubicBezTo>
                  <a:pt x="5482" y="16539"/>
                  <a:pt x="5485" y="16569"/>
                  <a:pt x="5457" y="16495"/>
                </a:cubicBezTo>
              </a:path>
              <a:path w="2432" h="944">
                <a:moveTo>
                  <a:pt x="5135" y="16148"/>
                </a:moveTo>
                <a:cubicBezTo>
                  <a:pt x="5391" y="16148"/>
                  <a:pt x="5611" y="16151"/>
                  <a:pt x="5854" y="16073"/>
                </a:cubicBezTo>
              </a:path>
              <a:path w="2432" h="944">
                <a:moveTo>
                  <a:pt x="5978" y="15825"/>
                </a:moveTo>
                <a:cubicBezTo>
                  <a:pt x="5978" y="16020"/>
                  <a:pt x="5938" y="16260"/>
                  <a:pt x="6003" y="16446"/>
                </a:cubicBezTo>
                <a:cubicBezTo>
                  <a:pt x="6049" y="16578"/>
                  <a:pt x="6291" y="16431"/>
                  <a:pt x="6350" y="16396"/>
                </a:cubicBezTo>
                <a:cubicBezTo>
                  <a:pt x="6358" y="16388"/>
                  <a:pt x="6367" y="16379"/>
                  <a:pt x="6375" y="16371"/>
                </a:cubicBezTo>
              </a:path>
              <a:path w="2432" h="944">
                <a:moveTo>
                  <a:pt x="6449" y="15627"/>
                </a:moveTo>
                <a:cubicBezTo>
                  <a:pt x="6513" y="15627"/>
                  <a:pt x="6694" y="15578"/>
                  <a:pt x="6672" y="15701"/>
                </a:cubicBezTo>
                <a:cubicBezTo>
                  <a:pt x="6652" y="15817"/>
                  <a:pt x="6396" y="15892"/>
                  <a:pt x="6499" y="15949"/>
                </a:cubicBezTo>
                <a:cubicBezTo>
                  <a:pt x="6573" y="15990"/>
                  <a:pt x="6642" y="15956"/>
                  <a:pt x="672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91080" y="5680080"/>
            <a:ext cx="662040" cy="419040"/>
          </a:xfrm>
          <a:custGeom>
            <a:avLst/>
            <a:gdLst/>
            <a:ahLst/>
            <a:rect l="l" t="t" r="r" b="b"/>
            <a:pathLst>
              <a:path w="1836" h="1167">
                <a:moveTo>
                  <a:pt x="15280" y="15925"/>
                </a:moveTo>
                <a:cubicBezTo>
                  <a:pt x="15289" y="16132"/>
                  <a:pt x="15304" y="16337"/>
                  <a:pt x="15304" y="16545"/>
                </a:cubicBezTo>
                <a:cubicBezTo>
                  <a:pt x="15254" y="16277"/>
                  <a:pt x="15253" y="16066"/>
                  <a:pt x="15304" y="15801"/>
                </a:cubicBezTo>
                <a:cubicBezTo>
                  <a:pt x="15488" y="15740"/>
                  <a:pt x="15618" y="16117"/>
                  <a:pt x="15677" y="16247"/>
                </a:cubicBezTo>
                <a:cubicBezTo>
                  <a:pt x="15700" y="16297"/>
                  <a:pt x="15775" y="16508"/>
                  <a:pt x="15751" y="16520"/>
                </a:cubicBezTo>
              </a:path>
              <a:path w="1836" h="1167">
                <a:moveTo>
                  <a:pt x="15304" y="16396"/>
                </a:moveTo>
                <a:cubicBezTo>
                  <a:pt x="15446" y="16354"/>
                  <a:pt x="15580" y="16324"/>
                  <a:pt x="15726" y="16297"/>
                </a:cubicBezTo>
              </a:path>
              <a:path w="1836" h="1167">
                <a:moveTo>
                  <a:pt x="16123" y="16272"/>
                </a:moveTo>
                <a:cubicBezTo>
                  <a:pt x="16110" y="16428"/>
                  <a:pt x="16092" y="16591"/>
                  <a:pt x="16049" y="16743"/>
                </a:cubicBezTo>
                <a:cubicBezTo>
                  <a:pt x="16006" y="16896"/>
                  <a:pt x="16080" y="16426"/>
                  <a:pt x="16123" y="16272"/>
                </a:cubicBezTo>
                <a:cubicBezTo>
                  <a:pt x="16140" y="16239"/>
                  <a:pt x="16156" y="16206"/>
                  <a:pt x="16173" y="16173"/>
                </a:cubicBezTo>
                <a:cubicBezTo>
                  <a:pt x="16196" y="16148"/>
                  <a:pt x="16295" y="16444"/>
                  <a:pt x="16321" y="16495"/>
                </a:cubicBezTo>
                <a:cubicBezTo>
                  <a:pt x="16362" y="16575"/>
                  <a:pt x="16413" y="16650"/>
                  <a:pt x="16470" y="16718"/>
                </a:cubicBezTo>
                <a:cubicBezTo>
                  <a:pt x="16379" y="16788"/>
                  <a:pt x="16207" y="16818"/>
                  <a:pt x="16098" y="16867"/>
                </a:cubicBezTo>
                <a:cubicBezTo>
                  <a:pt x="15999" y="16911"/>
                  <a:pt x="15999" y="16948"/>
                  <a:pt x="15999" y="16917"/>
                </a:cubicBezTo>
              </a:path>
              <a:path w="1836" h="1167">
                <a:moveTo>
                  <a:pt x="16644" y="16545"/>
                </a:moveTo>
                <a:cubicBezTo>
                  <a:pt x="16709" y="16584"/>
                  <a:pt x="16786" y="16570"/>
                  <a:pt x="16867" y="16570"/>
                </a:cubicBezTo>
                <a:cubicBezTo>
                  <a:pt x="16850" y="16707"/>
                  <a:pt x="16788" y="16768"/>
                  <a:pt x="16743" y="16892"/>
                </a:cubicBezTo>
                <a:cubicBezTo>
                  <a:pt x="16743" y="16900"/>
                  <a:pt x="16743" y="16909"/>
                  <a:pt x="16743" y="16917"/>
                </a:cubicBezTo>
                <a:cubicBezTo>
                  <a:pt x="16861" y="16900"/>
                  <a:pt x="16969" y="16854"/>
                  <a:pt x="17090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61000" y="2633760"/>
            <a:ext cx="2322360" cy="349200"/>
          </a:xfrm>
          <a:custGeom>
            <a:avLst/>
            <a:gdLst/>
            <a:ahLst/>
            <a:rect l="l" t="t" r="r" b="b"/>
            <a:pathLst>
              <a:path w="6450" h="969">
                <a:moveTo>
                  <a:pt x="15726" y="7714"/>
                </a:moveTo>
                <a:cubicBezTo>
                  <a:pt x="15891" y="7704"/>
                  <a:pt x="15992" y="7670"/>
                  <a:pt x="16148" y="7615"/>
                </a:cubicBezTo>
              </a:path>
              <a:path w="6450" h="969">
                <a:moveTo>
                  <a:pt x="17190" y="7888"/>
                </a:moveTo>
                <a:cubicBezTo>
                  <a:pt x="17256" y="8033"/>
                  <a:pt x="17297" y="8130"/>
                  <a:pt x="17314" y="8285"/>
                </a:cubicBezTo>
              </a:path>
              <a:path w="6450" h="969">
                <a:moveTo>
                  <a:pt x="18157" y="7590"/>
                </a:moveTo>
                <a:cubicBezTo>
                  <a:pt x="18115" y="7819"/>
                  <a:pt x="18017" y="8119"/>
                  <a:pt x="18281" y="8260"/>
                </a:cubicBezTo>
                <a:cubicBezTo>
                  <a:pt x="18306" y="8260"/>
                  <a:pt x="18330" y="8260"/>
                  <a:pt x="18355" y="8260"/>
                </a:cubicBezTo>
              </a:path>
              <a:path w="6450" h="969">
                <a:moveTo>
                  <a:pt x="18703" y="7317"/>
                </a:moveTo>
                <a:cubicBezTo>
                  <a:pt x="18920" y="7426"/>
                  <a:pt x="19147" y="7552"/>
                  <a:pt x="19199" y="7813"/>
                </a:cubicBezTo>
                <a:cubicBezTo>
                  <a:pt x="19222" y="7930"/>
                  <a:pt x="19117" y="8013"/>
                  <a:pt x="19050" y="8086"/>
                </a:cubicBezTo>
              </a:path>
              <a:path w="6450" h="969">
                <a:moveTo>
                  <a:pt x="22027" y="7838"/>
                </a:moveTo>
                <a:cubicBezTo>
                  <a:pt x="22081" y="7829"/>
                  <a:pt x="22125" y="7811"/>
                  <a:pt x="22175" y="7789"/>
                </a:cubicBezTo>
              </a:path>
              <a:path w="6450" h="969">
                <a:moveTo>
                  <a:pt x="21952" y="8037"/>
                </a:moveTo>
                <a:cubicBezTo>
                  <a:pt x="22042" y="8032"/>
                  <a:pt x="22092" y="8026"/>
                  <a:pt x="22175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99080" y="2697120"/>
            <a:ext cx="135000" cy="349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5553" y="7590"/>
                </a:moveTo>
                <a:cubicBezTo>
                  <a:pt x="15681" y="7544"/>
                  <a:pt x="15801" y="7525"/>
                  <a:pt x="15925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27840" y="2438280"/>
            <a:ext cx="758880" cy="436680"/>
          </a:xfrm>
          <a:custGeom>
            <a:avLst/>
            <a:gdLst/>
            <a:ahLst/>
            <a:rect l="l" t="t" r="r" b="b"/>
            <a:pathLst>
              <a:path w="2110" h="1216">
                <a:moveTo>
                  <a:pt x="16743" y="6945"/>
                </a:moveTo>
                <a:cubicBezTo>
                  <a:pt x="16837" y="7133"/>
                  <a:pt x="16915" y="7320"/>
                  <a:pt x="16991" y="7516"/>
                </a:cubicBezTo>
                <a:cubicBezTo>
                  <a:pt x="16991" y="7566"/>
                  <a:pt x="16954" y="7321"/>
                  <a:pt x="16966" y="7293"/>
                </a:cubicBezTo>
                <a:cubicBezTo>
                  <a:pt x="17080" y="7036"/>
                  <a:pt x="17265" y="7185"/>
                  <a:pt x="17338" y="7342"/>
                </a:cubicBezTo>
                <a:cubicBezTo>
                  <a:pt x="17226" y="7447"/>
                  <a:pt x="17170" y="7473"/>
                  <a:pt x="17016" y="7516"/>
                </a:cubicBezTo>
              </a:path>
              <a:path w="2110" h="1216">
                <a:moveTo>
                  <a:pt x="17537" y="6772"/>
                </a:moveTo>
                <a:cubicBezTo>
                  <a:pt x="17614" y="6925"/>
                  <a:pt x="17727" y="7083"/>
                  <a:pt x="17810" y="7243"/>
                </a:cubicBezTo>
                <a:cubicBezTo>
                  <a:pt x="17832" y="7287"/>
                  <a:pt x="17845" y="7308"/>
                  <a:pt x="17810" y="7268"/>
                </a:cubicBezTo>
                <a:cubicBezTo>
                  <a:pt x="17798" y="7098"/>
                  <a:pt x="17773" y="7040"/>
                  <a:pt x="17909" y="6921"/>
                </a:cubicBezTo>
                <a:cubicBezTo>
                  <a:pt x="18038" y="7014"/>
                  <a:pt x="18104" y="7080"/>
                  <a:pt x="18182" y="7218"/>
                </a:cubicBezTo>
              </a:path>
              <a:path w="2110" h="1216">
                <a:moveTo>
                  <a:pt x="18554" y="7689"/>
                </a:moveTo>
                <a:cubicBezTo>
                  <a:pt x="18589" y="7759"/>
                  <a:pt x="18573" y="7842"/>
                  <a:pt x="18604" y="7913"/>
                </a:cubicBezTo>
                <a:cubicBezTo>
                  <a:pt x="18690" y="7898"/>
                  <a:pt x="18756" y="7864"/>
                  <a:pt x="18827" y="7813"/>
                </a:cubicBezTo>
              </a:path>
              <a:path w="2110" h="1216">
                <a:moveTo>
                  <a:pt x="18728" y="7665"/>
                </a:moveTo>
                <a:cubicBezTo>
                  <a:pt x="18782" y="7761"/>
                  <a:pt x="18784" y="7894"/>
                  <a:pt x="18852" y="7987"/>
                </a:cubicBezTo>
                <a:cubicBezTo>
                  <a:pt x="18852" y="7979"/>
                  <a:pt x="18852" y="7970"/>
                  <a:pt x="1885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66040" y="2608200"/>
            <a:ext cx="384120" cy="473040"/>
          </a:xfrm>
          <a:custGeom>
            <a:avLst/>
            <a:gdLst/>
            <a:ahLst/>
            <a:rect l="l" t="t" r="r" b="b"/>
            <a:pathLst>
              <a:path w="1067" h="1316">
                <a:moveTo>
                  <a:pt x="20737" y="7466"/>
                </a:moveTo>
                <a:cubicBezTo>
                  <a:pt x="20845" y="7436"/>
                  <a:pt x="20947" y="7372"/>
                  <a:pt x="21059" y="7342"/>
                </a:cubicBezTo>
                <a:cubicBezTo>
                  <a:pt x="21067" y="7342"/>
                  <a:pt x="21076" y="7342"/>
                  <a:pt x="21084" y="7342"/>
                </a:cubicBezTo>
                <a:cubicBezTo>
                  <a:pt x="21075" y="7476"/>
                  <a:pt x="21041" y="7606"/>
                  <a:pt x="21034" y="7739"/>
                </a:cubicBezTo>
                <a:cubicBezTo>
                  <a:pt x="21034" y="7786"/>
                  <a:pt x="21052" y="7782"/>
                  <a:pt x="21109" y="7714"/>
                </a:cubicBezTo>
              </a:path>
              <a:path w="1067" h="1316">
                <a:moveTo>
                  <a:pt x="21332" y="7268"/>
                </a:moveTo>
                <a:cubicBezTo>
                  <a:pt x="21428" y="7250"/>
                  <a:pt x="21507" y="7243"/>
                  <a:pt x="21605" y="7243"/>
                </a:cubicBezTo>
                <a:cubicBezTo>
                  <a:pt x="21577" y="7396"/>
                  <a:pt x="21504" y="7494"/>
                  <a:pt x="21406" y="7615"/>
                </a:cubicBezTo>
                <a:cubicBezTo>
                  <a:pt x="21398" y="7623"/>
                  <a:pt x="21390" y="7632"/>
                  <a:pt x="21382" y="7640"/>
                </a:cubicBezTo>
                <a:cubicBezTo>
                  <a:pt x="21508" y="7623"/>
                  <a:pt x="21626" y="7581"/>
                  <a:pt x="21754" y="7565"/>
                </a:cubicBezTo>
              </a:path>
              <a:path w="1067" h="1316">
                <a:moveTo>
                  <a:pt x="20935" y="8012"/>
                </a:moveTo>
                <a:cubicBezTo>
                  <a:pt x="21192" y="7939"/>
                  <a:pt x="21445" y="7856"/>
                  <a:pt x="21704" y="7789"/>
                </a:cubicBezTo>
                <a:cubicBezTo>
                  <a:pt x="21737" y="7781"/>
                  <a:pt x="21770" y="7772"/>
                  <a:pt x="21803" y="7764"/>
                </a:cubicBezTo>
              </a:path>
              <a:path w="1067" h="1316">
                <a:moveTo>
                  <a:pt x="21233" y="8235"/>
                </a:moveTo>
                <a:cubicBezTo>
                  <a:pt x="21325" y="8228"/>
                  <a:pt x="21414" y="8217"/>
                  <a:pt x="21506" y="8210"/>
                </a:cubicBezTo>
                <a:cubicBezTo>
                  <a:pt x="21568" y="8360"/>
                  <a:pt x="21460" y="8424"/>
                  <a:pt x="21357" y="8533"/>
                </a:cubicBezTo>
                <a:cubicBezTo>
                  <a:pt x="21349" y="8541"/>
                  <a:pt x="21340" y="8550"/>
                  <a:pt x="21332" y="8558"/>
                </a:cubicBezTo>
                <a:cubicBezTo>
                  <a:pt x="21445" y="8524"/>
                  <a:pt x="21601" y="8504"/>
                  <a:pt x="21704" y="8458"/>
                </a:cubicBezTo>
                <a:cubicBezTo>
                  <a:pt x="21712" y="8450"/>
                  <a:pt x="21721" y="8442"/>
                  <a:pt x="21729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34120" y="2857680"/>
            <a:ext cx="223920" cy="1803240"/>
          </a:xfrm>
          <a:custGeom>
            <a:avLst/>
            <a:gdLst/>
            <a:ahLst/>
            <a:rect l="l" t="t" r="r" b="b"/>
            <a:pathLst>
              <a:path w="621" h="5011">
                <a:moveTo>
                  <a:pt x="20117" y="8012"/>
                </a:moveTo>
                <a:cubicBezTo>
                  <a:pt x="20191" y="7989"/>
                  <a:pt x="20268" y="7958"/>
                  <a:pt x="20340" y="7938"/>
                </a:cubicBezTo>
              </a:path>
              <a:path w="621" h="5011">
                <a:moveTo>
                  <a:pt x="20265" y="8136"/>
                </a:moveTo>
                <a:cubicBezTo>
                  <a:pt x="20371" y="8115"/>
                  <a:pt x="20398" y="8120"/>
                  <a:pt x="20439" y="8062"/>
                </a:cubicBezTo>
              </a:path>
              <a:path w="621" h="5011">
                <a:moveTo>
                  <a:pt x="19819" y="12750"/>
                </a:moveTo>
                <a:cubicBezTo>
                  <a:pt x="19915" y="12701"/>
                  <a:pt x="19946" y="12685"/>
                  <a:pt x="20017" y="12675"/>
                </a:cubicBezTo>
              </a:path>
              <a:path w="621" h="5011">
                <a:moveTo>
                  <a:pt x="19869" y="12948"/>
                </a:moveTo>
                <a:cubicBezTo>
                  <a:pt x="19918" y="12923"/>
                  <a:pt x="19968" y="12899"/>
                  <a:pt x="20017" y="12874"/>
                </a:cubicBezTo>
              </a:path>
              <a:path w="621" h="5011">
                <a:moveTo>
                  <a:pt x="20017" y="12874"/>
                </a:moveTo>
                <a:lnTo>
                  <a:pt x="20017" y="1287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23160" y="5187960"/>
            <a:ext cx="4464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21803" y="14412"/>
                </a:moveTo>
                <a:cubicBezTo>
                  <a:pt x="21701" y="14542"/>
                  <a:pt x="21723" y="14831"/>
                  <a:pt x="21754" y="15007"/>
                </a:cubicBezTo>
                <a:cubicBezTo>
                  <a:pt x="21792" y="15122"/>
                  <a:pt x="21773" y="15172"/>
                  <a:pt x="21853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58040" y="4367160"/>
            <a:ext cx="420840" cy="527040"/>
          </a:xfrm>
          <a:custGeom>
            <a:avLst/>
            <a:gdLst/>
            <a:ahLst/>
            <a:rect l="l" t="t" r="r" b="b"/>
            <a:pathLst>
              <a:path w="1167" h="1465">
                <a:moveTo>
                  <a:pt x="20439" y="12154"/>
                </a:moveTo>
                <a:cubicBezTo>
                  <a:pt x="20539" y="12344"/>
                  <a:pt x="20632" y="12539"/>
                  <a:pt x="20737" y="12725"/>
                </a:cubicBezTo>
                <a:cubicBezTo>
                  <a:pt x="20711" y="12620"/>
                  <a:pt x="20672" y="12517"/>
                  <a:pt x="20786" y="12427"/>
                </a:cubicBezTo>
                <a:cubicBezTo>
                  <a:pt x="20961" y="12289"/>
                  <a:pt x="21109" y="12555"/>
                  <a:pt x="20985" y="12700"/>
                </a:cubicBezTo>
                <a:cubicBezTo>
                  <a:pt x="20876" y="12827"/>
                  <a:pt x="20803" y="12806"/>
                  <a:pt x="20762" y="12725"/>
                </a:cubicBezTo>
              </a:path>
              <a:path w="1167" h="1465">
                <a:moveTo>
                  <a:pt x="20836" y="12129"/>
                </a:moveTo>
                <a:cubicBezTo>
                  <a:pt x="20924" y="12355"/>
                  <a:pt x="21022" y="12574"/>
                  <a:pt x="21109" y="12799"/>
                </a:cubicBezTo>
                <a:cubicBezTo>
                  <a:pt x="21099" y="12716"/>
                  <a:pt x="21036" y="12523"/>
                  <a:pt x="21183" y="12502"/>
                </a:cubicBezTo>
                <a:cubicBezTo>
                  <a:pt x="21406" y="12470"/>
                  <a:pt x="21440" y="12704"/>
                  <a:pt x="21431" y="12849"/>
                </a:cubicBezTo>
              </a:path>
              <a:path w="1167" h="1465">
                <a:moveTo>
                  <a:pt x="20737" y="13122"/>
                </a:moveTo>
                <a:cubicBezTo>
                  <a:pt x="20975" y="13022"/>
                  <a:pt x="21213" y="12936"/>
                  <a:pt x="21456" y="12849"/>
                </a:cubicBezTo>
              </a:path>
              <a:path w="1167" h="1465">
                <a:moveTo>
                  <a:pt x="21134" y="13221"/>
                </a:moveTo>
                <a:cubicBezTo>
                  <a:pt x="21248" y="13186"/>
                  <a:pt x="21328" y="13145"/>
                  <a:pt x="21431" y="13171"/>
                </a:cubicBezTo>
                <a:cubicBezTo>
                  <a:pt x="21363" y="13267"/>
                  <a:pt x="21190" y="13421"/>
                  <a:pt x="21183" y="13543"/>
                </a:cubicBezTo>
                <a:cubicBezTo>
                  <a:pt x="21191" y="13551"/>
                  <a:pt x="21200" y="13560"/>
                  <a:pt x="21208" y="13568"/>
                </a:cubicBezTo>
                <a:cubicBezTo>
                  <a:pt x="21365" y="13558"/>
                  <a:pt x="21461" y="13531"/>
                  <a:pt x="2160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12080" y="525924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2027" y="14610"/>
                </a:moveTo>
                <a:cubicBezTo>
                  <a:pt x="21988" y="14805"/>
                  <a:pt x="21955" y="14952"/>
                  <a:pt x="22027" y="15131"/>
                </a:cubicBezTo>
                <a:cubicBezTo>
                  <a:pt x="22201" y="15121"/>
                  <a:pt x="22292" y="15081"/>
                  <a:pt x="22275" y="14883"/>
                </a:cubicBezTo>
                <a:cubicBezTo>
                  <a:pt x="22196" y="14961"/>
                  <a:pt x="22161" y="15048"/>
                  <a:pt x="22299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31040" y="5143680"/>
            <a:ext cx="947880" cy="955440"/>
          </a:xfrm>
          <a:custGeom>
            <a:avLst/>
            <a:gdLst/>
            <a:ahLst/>
            <a:rect l="l" t="t" r="r" b="b"/>
            <a:pathLst>
              <a:path w="2630" h="2655">
                <a:moveTo>
                  <a:pt x="20365" y="14982"/>
                </a:moveTo>
                <a:cubicBezTo>
                  <a:pt x="20463" y="14937"/>
                  <a:pt x="20555" y="14899"/>
                  <a:pt x="20662" y="14883"/>
                </a:cubicBezTo>
              </a:path>
              <a:path w="2630" h="2655">
                <a:moveTo>
                  <a:pt x="20414" y="15230"/>
                </a:moveTo>
                <a:cubicBezTo>
                  <a:pt x="20548" y="15247"/>
                  <a:pt x="20568" y="15245"/>
                  <a:pt x="20687" y="15180"/>
                </a:cubicBezTo>
              </a:path>
              <a:path w="2630" h="2655">
                <a:moveTo>
                  <a:pt x="22349" y="14288"/>
                </a:moveTo>
                <a:cubicBezTo>
                  <a:pt x="22538" y="14504"/>
                  <a:pt x="22805" y="14764"/>
                  <a:pt x="22647" y="15081"/>
                </a:cubicBezTo>
                <a:cubicBezTo>
                  <a:pt x="22597" y="15131"/>
                  <a:pt x="22548" y="15180"/>
                  <a:pt x="22498" y="15230"/>
                </a:cubicBezTo>
              </a:path>
              <a:path w="2630" h="2655">
                <a:moveTo>
                  <a:pt x="20960" y="16942"/>
                </a:moveTo>
                <a:cubicBezTo>
                  <a:pt x="21016" y="16904"/>
                  <a:pt x="21019" y="16887"/>
                  <a:pt x="21059" y="16892"/>
                </a:cubicBezTo>
              </a:path>
              <a:path w="2630" h="2655">
                <a:moveTo>
                  <a:pt x="22423" y="16669"/>
                </a:moveTo>
                <a:cubicBezTo>
                  <a:pt x="22598" y="16642"/>
                  <a:pt x="22661" y="16640"/>
                  <a:pt x="22796" y="16545"/>
                </a:cubicBezTo>
              </a:path>
              <a:path w="2630" h="2655">
                <a:moveTo>
                  <a:pt x="22721" y="16594"/>
                </a:moveTo>
                <a:cubicBezTo>
                  <a:pt x="22815" y="16555"/>
                  <a:pt x="22903" y="16515"/>
                  <a:pt x="22994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99160" y="4537080"/>
            <a:ext cx="561960" cy="480960"/>
          </a:xfrm>
          <a:custGeom>
            <a:avLst/>
            <a:gdLst/>
            <a:ahLst/>
            <a:rect l="l" t="t" r="r" b="b"/>
            <a:pathLst>
              <a:path w="1563" h="1340">
                <a:moveTo>
                  <a:pt x="18331" y="12700"/>
                </a:moveTo>
                <a:cubicBezTo>
                  <a:pt x="18340" y="12858"/>
                  <a:pt x="18355" y="13012"/>
                  <a:pt x="18355" y="13171"/>
                </a:cubicBezTo>
                <a:cubicBezTo>
                  <a:pt x="18380" y="12970"/>
                  <a:pt x="18460" y="12792"/>
                  <a:pt x="18529" y="12601"/>
                </a:cubicBezTo>
                <a:cubicBezTo>
                  <a:pt x="18691" y="12601"/>
                  <a:pt x="18754" y="12849"/>
                  <a:pt x="18802" y="12973"/>
                </a:cubicBezTo>
                <a:cubicBezTo>
                  <a:pt x="18807" y="12985"/>
                  <a:pt x="18873" y="13366"/>
                  <a:pt x="18852" y="13295"/>
                </a:cubicBezTo>
                <a:cubicBezTo>
                  <a:pt x="18844" y="13270"/>
                  <a:pt x="18835" y="13246"/>
                  <a:pt x="18827" y="13221"/>
                </a:cubicBezTo>
              </a:path>
              <a:path w="1563" h="1340">
                <a:moveTo>
                  <a:pt x="18405" y="13171"/>
                </a:moveTo>
                <a:cubicBezTo>
                  <a:pt x="18532" y="13108"/>
                  <a:pt x="18661" y="13021"/>
                  <a:pt x="18802" y="12998"/>
                </a:cubicBezTo>
              </a:path>
              <a:path w="1563" h="1340">
                <a:moveTo>
                  <a:pt x="19149" y="13271"/>
                </a:moveTo>
                <a:cubicBezTo>
                  <a:pt x="19149" y="13430"/>
                  <a:pt x="19131" y="13584"/>
                  <a:pt x="19124" y="13742"/>
                </a:cubicBezTo>
                <a:cubicBezTo>
                  <a:pt x="19099" y="13703"/>
                  <a:pt x="19182" y="13381"/>
                  <a:pt x="19199" y="13320"/>
                </a:cubicBezTo>
                <a:cubicBezTo>
                  <a:pt x="19235" y="13230"/>
                  <a:pt x="19251" y="13224"/>
                  <a:pt x="19248" y="13171"/>
                </a:cubicBezTo>
                <a:cubicBezTo>
                  <a:pt x="19350" y="13302"/>
                  <a:pt x="19446" y="13457"/>
                  <a:pt x="19496" y="13618"/>
                </a:cubicBezTo>
                <a:cubicBezTo>
                  <a:pt x="19496" y="13634"/>
                  <a:pt x="19496" y="13651"/>
                  <a:pt x="19496" y="13667"/>
                </a:cubicBezTo>
                <a:cubicBezTo>
                  <a:pt x="19365" y="13705"/>
                  <a:pt x="19232" y="13772"/>
                  <a:pt x="19100" y="13816"/>
                </a:cubicBezTo>
                <a:cubicBezTo>
                  <a:pt x="19075" y="13816"/>
                  <a:pt x="19067" y="13816"/>
                  <a:pt x="19075" y="13841"/>
                </a:cubicBezTo>
              </a:path>
              <a:path w="1563" h="1340">
                <a:moveTo>
                  <a:pt x="19621" y="13643"/>
                </a:moveTo>
                <a:cubicBezTo>
                  <a:pt x="19678" y="13643"/>
                  <a:pt x="19844" y="13602"/>
                  <a:pt x="19819" y="13692"/>
                </a:cubicBezTo>
                <a:cubicBezTo>
                  <a:pt x="19767" y="13795"/>
                  <a:pt x="19748" y="13832"/>
                  <a:pt x="19695" y="13891"/>
                </a:cubicBezTo>
                <a:cubicBezTo>
                  <a:pt x="19612" y="14053"/>
                  <a:pt x="19878" y="13826"/>
                  <a:pt x="19893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83320" y="5259240"/>
            <a:ext cx="571680" cy="758880"/>
          </a:xfrm>
          <a:custGeom>
            <a:avLst/>
            <a:gdLst/>
            <a:ahLst/>
            <a:rect l="l" t="t" r="r" b="b"/>
            <a:pathLst>
              <a:path w="1589" h="2109">
                <a:moveTo>
                  <a:pt x="20910" y="14684"/>
                </a:moveTo>
                <a:cubicBezTo>
                  <a:pt x="21019" y="14890"/>
                  <a:pt x="21041" y="15051"/>
                  <a:pt x="21059" y="15280"/>
                </a:cubicBezTo>
                <a:cubicBezTo>
                  <a:pt x="21059" y="15263"/>
                  <a:pt x="21059" y="15247"/>
                  <a:pt x="21059" y="15230"/>
                </a:cubicBezTo>
              </a:path>
              <a:path w="1589" h="2109">
                <a:moveTo>
                  <a:pt x="21382" y="14610"/>
                </a:moveTo>
                <a:cubicBezTo>
                  <a:pt x="21247" y="14720"/>
                  <a:pt x="21190" y="14793"/>
                  <a:pt x="21307" y="14957"/>
                </a:cubicBezTo>
                <a:cubicBezTo>
                  <a:pt x="21422" y="15117"/>
                  <a:pt x="21526" y="15135"/>
                  <a:pt x="21332" y="15255"/>
                </a:cubicBezTo>
                <a:cubicBezTo>
                  <a:pt x="21210" y="15071"/>
                  <a:pt x="21349" y="14922"/>
                  <a:pt x="21481" y="14734"/>
                </a:cubicBezTo>
                <a:cubicBezTo>
                  <a:pt x="21509" y="14706"/>
                  <a:pt x="21513" y="14697"/>
                  <a:pt x="21456" y="14709"/>
                </a:cubicBezTo>
              </a:path>
              <a:path w="1589" h="2109">
                <a:moveTo>
                  <a:pt x="21382" y="15503"/>
                </a:moveTo>
                <a:cubicBezTo>
                  <a:pt x="21703" y="15427"/>
                  <a:pt x="22047" y="15295"/>
                  <a:pt x="22374" y="15255"/>
                </a:cubicBezTo>
                <a:cubicBezTo>
                  <a:pt x="22349" y="15263"/>
                  <a:pt x="22324" y="15272"/>
                  <a:pt x="22299" y="15280"/>
                </a:cubicBezTo>
              </a:path>
              <a:path w="1589" h="2109">
                <a:moveTo>
                  <a:pt x="21580" y="15701"/>
                </a:moveTo>
                <a:cubicBezTo>
                  <a:pt x="21713" y="15677"/>
                  <a:pt x="21822" y="15661"/>
                  <a:pt x="21952" y="15677"/>
                </a:cubicBezTo>
                <a:cubicBezTo>
                  <a:pt x="21915" y="15813"/>
                  <a:pt x="21823" y="15882"/>
                  <a:pt x="21754" y="15999"/>
                </a:cubicBezTo>
                <a:cubicBezTo>
                  <a:pt x="21754" y="16007"/>
                  <a:pt x="21754" y="16016"/>
                  <a:pt x="21754" y="16024"/>
                </a:cubicBezTo>
                <a:cubicBezTo>
                  <a:pt x="21860" y="15993"/>
                  <a:pt x="21967" y="15965"/>
                  <a:pt x="22076" y="15949"/>
                </a:cubicBezTo>
              </a:path>
              <a:path w="1589" h="2109">
                <a:moveTo>
                  <a:pt x="20786" y="16718"/>
                </a:moveTo>
                <a:cubicBezTo>
                  <a:pt x="20844" y="16718"/>
                  <a:pt x="20902" y="16718"/>
                  <a:pt x="2096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15200" y="5732640"/>
            <a:ext cx="250920" cy="30456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22820" y="16272"/>
                </a:moveTo>
                <a:cubicBezTo>
                  <a:pt x="22924" y="16298"/>
                  <a:pt x="22934" y="16427"/>
                  <a:pt x="22944" y="16520"/>
                </a:cubicBezTo>
                <a:cubicBezTo>
                  <a:pt x="22953" y="16606"/>
                  <a:pt x="22957" y="16683"/>
                  <a:pt x="22969" y="16768"/>
                </a:cubicBezTo>
                <a:cubicBezTo>
                  <a:pt x="23123" y="16751"/>
                  <a:pt x="23139" y="16711"/>
                  <a:pt x="23168" y="16570"/>
                </a:cubicBezTo>
              </a:path>
              <a:path w="696" h="844">
                <a:moveTo>
                  <a:pt x="23168" y="15925"/>
                </a:moveTo>
                <a:cubicBezTo>
                  <a:pt x="23247" y="15925"/>
                  <a:pt x="23366" y="15886"/>
                  <a:pt x="23341" y="16024"/>
                </a:cubicBezTo>
                <a:cubicBezTo>
                  <a:pt x="23331" y="16077"/>
                  <a:pt x="23247" y="16150"/>
                  <a:pt x="23217" y="16197"/>
                </a:cubicBezTo>
                <a:cubicBezTo>
                  <a:pt x="23321" y="16197"/>
                  <a:pt x="23374" y="16159"/>
                  <a:pt x="23465" y="16123"/>
                </a:cubicBezTo>
                <a:cubicBezTo>
                  <a:pt x="23490" y="16123"/>
                  <a:pt x="23498" y="16123"/>
                  <a:pt x="23515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4760" y="2562120"/>
            <a:ext cx="660240" cy="608040"/>
          </a:xfrm>
          <a:custGeom>
            <a:avLst/>
            <a:gdLst/>
            <a:ahLst/>
            <a:rect l="l" t="t" r="r" b="b"/>
            <a:pathLst>
              <a:path w="1836" h="1688">
                <a:moveTo>
                  <a:pt x="17587" y="7739"/>
                </a:moveTo>
                <a:cubicBezTo>
                  <a:pt x="17494" y="7811"/>
                  <a:pt x="17462" y="7814"/>
                  <a:pt x="17438" y="7913"/>
                </a:cubicBezTo>
                <a:cubicBezTo>
                  <a:pt x="17610" y="7985"/>
                  <a:pt x="17753" y="7989"/>
                  <a:pt x="17810" y="8161"/>
                </a:cubicBezTo>
                <a:cubicBezTo>
                  <a:pt x="17564" y="8143"/>
                  <a:pt x="17582" y="8111"/>
                  <a:pt x="17711" y="7913"/>
                </a:cubicBezTo>
                <a:cubicBezTo>
                  <a:pt x="17784" y="7804"/>
                  <a:pt x="17783" y="7788"/>
                  <a:pt x="17835" y="7739"/>
                </a:cubicBezTo>
              </a:path>
              <a:path w="1836" h="1688">
                <a:moveTo>
                  <a:pt x="17289" y="7516"/>
                </a:moveTo>
                <a:cubicBezTo>
                  <a:pt x="17556" y="7406"/>
                  <a:pt x="17810" y="7266"/>
                  <a:pt x="18083" y="7169"/>
                </a:cubicBezTo>
                <a:cubicBezTo>
                  <a:pt x="18214" y="7131"/>
                  <a:pt x="18229" y="7114"/>
                  <a:pt x="18306" y="7119"/>
                </a:cubicBezTo>
              </a:path>
              <a:path w="1836" h="1688">
                <a:moveTo>
                  <a:pt x="17537" y="7491"/>
                </a:moveTo>
                <a:cubicBezTo>
                  <a:pt x="17628" y="7445"/>
                  <a:pt x="17715" y="7403"/>
                  <a:pt x="17810" y="7367"/>
                </a:cubicBezTo>
                <a:cubicBezTo>
                  <a:pt x="17810" y="7439"/>
                  <a:pt x="17754" y="7448"/>
                  <a:pt x="17735" y="7516"/>
                </a:cubicBezTo>
                <a:cubicBezTo>
                  <a:pt x="17705" y="7624"/>
                  <a:pt x="18012" y="7460"/>
                  <a:pt x="18058" y="7441"/>
                </a:cubicBezTo>
              </a:path>
              <a:path w="1836" h="1688">
                <a:moveTo>
                  <a:pt x="17413" y="8558"/>
                </a:moveTo>
                <a:cubicBezTo>
                  <a:pt x="17812" y="8419"/>
                  <a:pt x="18237" y="8336"/>
                  <a:pt x="18653" y="8260"/>
                </a:cubicBezTo>
                <a:cubicBezTo>
                  <a:pt x="18926" y="8221"/>
                  <a:pt x="18968" y="8218"/>
                  <a:pt x="19124" y="8186"/>
                </a:cubicBezTo>
              </a:path>
              <a:path w="1836" h="1688">
                <a:moveTo>
                  <a:pt x="18058" y="8607"/>
                </a:moveTo>
                <a:cubicBezTo>
                  <a:pt x="18129" y="8560"/>
                  <a:pt x="18151" y="8544"/>
                  <a:pt x="18207" y="8533"/>
                </a:cubicBezTo>
                <a:cubicBezTo>
                  <a:pt x="18221" y="8639"/>
                  <a:pt x="18140" y="8698"/>
                  <a:pt x="18058" y="8781"/>
                </a:cubicBezTo>
                <a:cubicBezTo>
                  <a:pt x="18082" y="8854"/>
                  <a:pt x="18321" y="8725"/>
                  <a:pt x="18380" y="8706"/>
                </a:cubicBezTo>
                <a:cubicBezTo>
                  <a:pt x="18405" y="8698"/>
                  <a:pt x="18430" y="8690"/>
                  <a:pt x="1845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2280" y="2589120"/>
            <a:ext cx="731880" cy="322200"/>
          </a:xfrm>
          <a:custGeom>
            <a:avLst/>
            <a:gdLst/>
            <a:ahLst/>
            <a:rect l="l" t="t" r="r" b="b"/>
            <a:pathLst>
              <a:path w="2035" h="894">
                <a:moveTo>
                  <a:pt x="22423" y="7665"/>
                </a:moveTo>
                <a:cubicBezTo>
                  <a:pt x="22515" y="7653"/>
                  <a:pt x="22600" y="7623"/>
                  <a:pt x="22696" y="7615"/>
                </a:cubicBezTo>
                <a:cubicBezTo>
                  <a:pt x="22735" y="7752"/>
                  <a:pt x="22633" y="7786"/>
                  <a:pt x="22523" y="7863"/>
                </a:cubicBezTo>
                <a:cubicBezTo>
                  <a:pt x="22610" y="7853"/>
                  <a:pt x="22681" y="7843"/>
                  <a:pt x="22771" y="7838"/>
                </a:cubicBezTo>
                <a:cubicBezTo>
                  <a:pt x="22786" y="7986"/>
                  <a:pt x="22691" y="8078"/>
                  <a:pt x="22523" y="8086"/>
                </a:cubicBezTo>
                <a:cubicBezTo>
                  <a:pt x="22515" y="8078"/>
                  <a:pt x="22506" y="8070"/>
                  <a:pt x="22498" y="8062"/>
                </a:cubicBezTo>
              </a:path>
              <a:path w="2035" h="894">
                <a:moveTo>
                  <a:pt x="23019" y="7491"/>
                </a:moveTo>
                <a:cubicBezTo>
                  <a:pt x="23031" y="7627"/>
                  <a:pt x="23021" y="7780"/>
                  <a:pt x="23044" y="7913"/>
                </a:cubicBezTo>
                <a:cubicBezTo>
                  <a:pt x="23071" y="8071"/>
                  <a:pt x="23312" y="7950"/>
                  <a:pt x="23366" y="7888"/>
                </a:cubicBezTo>
                <a:cubicBezTo>
                  <a:pt x="23408" y="7805"/>
                  <a:pt x="23433" y="7789"/>
                  <a:pt x="23391" y="7739"/>
                </a:cubicBezTo>
                <a:cubicBezTo>
                  <a:pt x="23223" y="7777"/>
                  <a:pt x="23186" y="7836"/>
                  <a:pt x="23168" y="8012"/>
                </a:cubicBezTo>
                <a:cubicBezTo>
                  <a:pt x="23168" y="8020"/>
                  <a:pt x="23168" y="8029"/>
                  <a:pt x="23168" y="8037"/>
                </a:cubicBezTo>
              </a:path>
              <a:path w="2035" h="894">
                <a:moveTo>
                  <a:pt x="24036" y="7293"/>
                </a:moveTo>
                <a:cubicBezTo>
                  <a:pt x="23982" y="7266"/>
                  <a:pt x="23866" y="7129"/>
                  <a:pt x="23788" y="7218"/>
                </a:cubicBezTo>
                <a:cubicBezTo>
                  <a:pt x="23688" y="7333"/>
                  <a:pt x="23899" y="7619"/>
                  <a:pt x="23961" y="7714"/>
                </a:cubicBezTo>
                <a:cubicBezTo>
                  <a:pt x="23984" y="7737"/>
                  <a:pt x="23992" y="7741"/>
                  <a:pt x="23986" y="7764"/>
                </a:cubicBezTo>
              </a:path>
              <a:path w="2035" h="894">
                <a:moveTo>
                  <a:pt x="23713" y="7615"/>
                </a:moveTo>
                <a:cubicBezTo>
                  <a:pt x="23880" y="7567"/>
                  <a:pt x="23998" y="7536"/>
                  <a:pt x="24135" y="7441"/>
                </a:cubicBezTo>
              </a:path>
              <a:path w="2035" h="894">
                <a:moveTo>
                  <a:pt x="24036" y="7193"/>
                </a:moveTo>
                <a:cubicBezTo>
                  <a:pt x="24159" y="7336"/>
                  <a:pt x="24127" y="7418"/>
                  <a:pt x="24160" y="7590"/>
                </a:cubicBezTo>
                <a:cubicBezTo>
                  <a:pt x="24189" y="7739"/>
                  <a:pt x="24313" y="7677"/>
                  <a:pt x="24408" y="7615"/>
                </a:cubicBezTo>
                <a:cubicBezTo>
                  <a:pt x="24453" y="7569"/>
                  <a:pt x="24472" y="7557"/>
                  <a:pt x="24433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724960" y="2490840"/>
            <a:ext cx="142920" cy="11736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24234" y="6970"/>
                </a:moveTo>
                <a:cubicBezTo>
                  <a:pt x="24308" y="6946"/>
                  <a:pt x="24345" y="6925"/>
                  <a:pt x="24408" y="6945"/>
                </a:cubicBezTo>
                <a:cubicBezTo>
                  <a:pt x="24432" y="7063"/>
                  <a:pt x="24389" y="7131"/>
                  <a:pt x="24333" y="7243"/>
                </a:cubicBezTo>
                <a:cubicBezTo>
                  <a:pt x="24421" y="7233"/>
                  <a:pt x="24607" y="7199"/>
                  <a:pt x="24606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78800" y="5813280"/>
            <a:ext cx="474480" cy="29556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21555" y="16470"/>
                </a:moveTo>
                <a:cubicBezTo>
                  <a:pt x="21483" y="16470"/>
                  <a:pt x="21441" y="16520"/>
                  <a:pt x="21382" y="16545"/>
                </a:cubicBezTo>
                <a:cubicBezTo>
                  <a:pt x="21329" y="16567"/>
                  <a:pt x="21344" y="16687"/>
                  <a:pt x="21357" y="16743"/>
                </a:cubicBezTo>
                <a:cubicBezTo>
                  <a:pt x="21466" y="16725"/>
                  <a:pt x="21568" y="16628"/>
                  <a:pt x="21679" y="16694"/>
                </a:cubicBezTo>
                <a:cubicBezTo>
                  <a:pt x="21860" y="16801"/>
                  <a:pt x="21599" y="16951"/>
                  <a:pt x="21506" y="16966"/>
                </a:cubicBezTo>
                <a:cubicBezTo>
                  <a:pt x="21405" y="16966"/>
                  <a:pt x="21372" y="16965"/>
                  <a:pt x="21431" y="16867"/>
                </a:cubicBezTo>
              </a:path>
              <a:path w="1316" h="819">
                <a:moveTo>
                  <a:pt x="21828" y="16371"/>
                </a:moveTo>
                <a:cubicBezTo>
                  <a:pt x="21860" y="16472"/>
                  <a:pt x="21876" y="16678"/>
                  <a:pt x="22002" y="16718"/>
                </a:cubicBezTo>
                <a:cubicBezTo>
                  <a:pt x="22168" y="16771"/>
                  <a:pt x="22170" y="16586"/>
                  <a:pt x="22200" y="16495"/>
                </a:cubicBezTo>
              </a:path>
              <a:path w="1316" h="819">
                <a:moveTo>
                  <a:pt x="22076" y="16272"/>
                </a:moveTo>
                <a:cubicBezTo>
                  <a:pt x="22108" y="16479"/>
                  <a:pt x="22141" y="16686"/>
                  <a:pt x="22175" y="16892"/>
                </a:cubicBezTo>
                <a:cubicBezTo>
                  <a:pt x="22175" y="16900"/>
                  <a:pt x="22175" y="16909"/>
                  <a:pt x="22175" y="16917"/>
                </a:cubicBezTo>
              </a:path>
              <a:path w="1316" h="819">
                <a:moveTo>
                  <a:pt x="22622" y="16148"/>
                </a:moveTo>
                <a:cubicBezTo>
                  <a:pt x="22490" y="16163"/>
                  <a:pt x="22385" y="16239"/>
                  <a:pt x="22399" y="16396"/>
                </a:cubicBezTo>
                <a:cubicBezTo>
                  <a:pt x="22414" y="16564"/>
                  <a:pt x="22605" y="16632"/>
                  <a:pt x="22647" y="16793"/>
                </a:cubicBezTo>
                <a:cubicBezTo>
                  <a:pt x="22647" y="16809"/>
                  <a:pt x="22647" y="16826"/>
                  <a:pt x="22647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8840" y="56437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4415" y="15974"/>
                </a:moveTo>
                <a:cubicBezTo>
                  <a:pt x="4486" y="15950"/>
                  <a:pt x="4346" y="15754"/>
                  <a:pt x="4316" y="15726"/>
                </a:cubicBezTo>
                <a:cubicBezTo>
                  <a:pt x="4228" y="15644"/>
                  <a:pt x="4105" y="15654"/>
                  <a:pt x="4043" y="15751"/>
                </a:cubicBezTo>
                <a:cubicBezTo>
                  <a:pt x="3949" y="15898"/>
                  <a:pt x="3951" y="15963"/>
                  <a:pt x="4018" y="16098"/>
                </a:cubicBezTo>
                <a:cubicBezTo>
                  <a:pt x="4187" y="16065"/>
                  <a:pt x="4335" y="16023"/>
                  <a:pt x="4390" y="15850"/>
                </a:cubicBezTo>
                <a:cubicBezTo>
                  <a:pt x="4390" y="15834"/>
                  <a:pt x="4390" y="15817"/>
                  <a:pt x="4390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8920" y="46432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6896" y="12923"/>
                </a:moveTo>
                <a:cubicBezTo>
                  <a:pt x="6896" y="12949"/>
                  <a:pt x="6863" y="12903"/>
                  <a:pt x="6796" y="12898"/>
                </a:cubicBezTo>
                <a:cubicBezTo>
                  <a:pt x="6701" y="12891"/>
                  <a:pt x="6746" y="13035"/>
                  <a:pt x="6821" y="13047"/>
                </a:cubicBezTo>
                <a:cubicBezTo>
                  <a:pt x="6829" y="13047"/>
                  <a:pt x="6838" y="13047"/>
                  <a:pt x="6846" y="13047"/>
                </a:cubicBezTo>
                <a:cubicBezTo>
                  <a:pt x="6871" y="12956"/>
                  <a:pt x="6902" y="12919"/>
                  <a:pt x="6796" y="12898"/>
                </a:cubicBezTo>
                <a:cubicBezTo>
                  <a:pt x="6785" y="12972"/>
                  <a:pt x="6837" y="13113"/>
                  <a:pt x="6871" y="12973"/>
                </a:cubicBezTo>
                <a:cubicBezTo>
                  <a:pt x="6918" y="12778"/>
                  <a:pt x="6783" y="12982"/>
                  <a:pt x="6796" y="12998"/>
                </a:cubicBezTo>
                <a:cubicBezTo>
                  <a:pt x="6821" y="13006"/>
                  <a:pt x="6846" y="13014"/>
                  <a:pt x="6871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23120" y="3714840"/>
            <a:ext cx="7128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20513" y="10368"/>
                </a:moveTo>
                <a:cubicBezTo>
                  <a:pt x="20500" y="10408"/>
                  <a:pt x="20443" y="10380"/>
                  <a:pt x="20389" y="10393"/>
                </a:cubicBezTo>
                <a:cubicBezTo>
                  <a:pt x="20305" y="10422"/>
                  <a:pt x="20459" y="10411"/>
                  <a:pt x="20489" y="10393"/>
                </a:cubicBezTo>
                <a:cubicBezTo>
                  <a:pt x="20616" y="10315"/>
                  <a:pt x="20485" y="10314"/>
                  <a:pt x="20414" y="10368"/>
                </a:cubicBezTo>
                <a:cubicBezTo>
                  <a:pt x="20370" y="10413"/>
                  <a:pt x="20347" y="10430"/>
                  <a:pt x="20414" y="10418"/>
                </a:cubicBezTo>
                <a:cubicBezTo>
                  <a:pt x="20555" y="10309"/>
                  <a:pt x="20457" y="10349"/>
                  <a:pt x="2034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438280" y="34290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464832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648320" y="3733560"/>
            <a:ext cx="2743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5181120" y="34286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514600" y="3733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3429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952520" y="3886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4419360" y="43434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4956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72428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09720" y="32767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47960" y="48006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onal = 18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371600" y="205740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re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f 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22860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666880"/>
            <a:ext cx="5867280" cy="26672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712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934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99072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:  A=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733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 = 8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486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16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352680"/>
            <a:ext cx="3124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13320" y="3441600"/>
                <a:ext cx="8125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00080" y="6429240"/>
            <a:ext cx="2384640" cy="142920"/>
          </a:xfrm>
          <a:custGeom>
            <a:avLst/>
            <a:gdLst/>
            <a:ahLst/>
            <a:rect l="l" t="t" r="r" b="b"/>
            <a:pathLst>
              <a:path w="6624" h="398">
                <a:moveTo>
                  <a:pt x="9401" y="18157"/>
                </a:moveTo>
                <a:cubicBezTo>
                  <a:pt x="9393" y="18157"/>
                  <a:pt x="9384" y="18157"/>
                  <a:pt x="9376" y="18157"/>
                </a:cubicBezTo>
              </a:path>
              <a:path w="6624" h="398">
                <a:moveTo>
                  <a:pt x="4614" y="18256"/>
                </a:moveTo>
                <a:cubicBezTo>
                  <a:pt x="4622" y="18248"/>
                  <a:pt x="4630" y="18239"/>
                  <a:pt x="4638" y="18231"/>
                </a:cubicBezTo>
              </a:path>
              <a:path w="6624" h="398">
                <a:moveTo>
                  <a:pt x="2803" y="17859"/>
                </a:moveTo>
                <a:cubicBezTo>
                  <a:pt x="2803" y="17887"/>
                  <a:pt x="2801" y="17898"/>
                  <a:pt x="2778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4760" y="3500280"/>
            <a:ext cx="1625400" cy="1116000"/>
          </a:xfrm>
          <a:custGeom>
            <a:avLst/>
            <a:gdLst/>
            <a:ahLst/>
            <a:rect l="l" t="t" r="r" b="b"/>
            <a:pathLst>
              <a:path w="4515" h="3102">
                <a:moveTo>
                  <a:pt x="7541" y="10096"/>
                </a:moveTo>
                <a:cubicBezTo>
                  <a:pt x="7654" y="9971"/>
                  <a:pt x="7744" y="9814"/>
                  <a:pt x="7888" y="9723"/>
                </a:cubicBezTo>
                <a:cubicBezTo>
                  <a:pt x="7896" y="9723"/>
                  <a:pt x="7905" y="9723"/>
                  <a:pt x="7913" y="9723"/>
                </a:cubicBezTo>
              </a:path>
              <a:path w="4515" h="3102">
                <a:moveTo>
                  <a:pt x="11708" y="12328"/>
                </a:moveTo>
                <a:cubicBezTo>
                  <a:pt x="11834" y="12493"/>
                  <a:pt x="11951" y="12646"/>
                  <a:pt x="12055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33760" y="3348000"/>
            <a:ext cx="27756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7317" y="9500"/>
                </a:moveTo>
                <a:cubicBezTo>
                  <a:pt x="7397" y="9784"/>
                  <a:pt x="7522" y="10048"/>
                  <a:pt x="7640" y="10319"/>
                </a:cubicBezTo>
                <a:cubicBezTo>
                  <a:pt x="7648" y="10335"/>
                  <a:pt x="7657" y="10352"/>
                  <a:pt x="7665" y="10368"/>
                </a:cubicBezTo>
                <a:cubicBezTo>
                  <a:pt x="7570" y="10100"/>
                  <a:pt x="7475" y="9838"/>
                  <a:pt x="7441" y="9550"/>
                </a:cubicBezTo>
                <a:cubicBezTo>
                  <a:pt x="7441" y="9408"/>
                  <a:pt x="7431" y="9380"/>
                  <a:pt x="7466" y="9302"/>
                </a:cubicBezTo>
                <a:cubicBezTo>
                  <a:pt x="7723" y="9456"/>
                  <a:pt x="7846" y="9684"/>
                  <a:pt x="7987" y="9947"/>
                </a:cubicBezTo>
                <a:cubicBezTo>
                  <a:pt x="8042" y="10056"/>
                  <a:pt x="8036" y="10075"/>
                  <a:pt x="8086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010040"/>
            <a:ext cx="322200" cy="2491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9525" y="11286"/>
                </a:moveTo>
                <a:cubicBezTo>
                  <a:pt x="9673" y="11476"/>
                  <a:pt x="9817" y="11697"/>
                  <a:pt x="10021" y="11832"/>
                </a:cubicBezTo>
                <a:cubicBezTo>
                  <a:pt x="10021" y="11824"/>
                  <a:pt x="10021" y="11815"/>
                  <a:pt x="10021" y="11807"/>
                </a:cubicBezTo>
              </a:path>
              <a:path w="894" h="696">
                <a:moveTo>
                  <a:pt x="9798" y="11137"/>
                </a:moveTo>
                <a:cubicBezTo>
                  <a:pt x="9990" y="11294"/>
                  <a:pt x="10153" y="11474"/>
                  <a:pt x="10319" y="11658"/>
                </a:cubicBezTo>
                <a:cubicBezTo>
                  <a:pt x="10363" y="11703"/>
                  <a:pt x="10373" y="11720"/>
                  <a:pt x="1041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434016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11460" y="12278"/>
                </a:moveTo>
                <a:cubicBezTo>
                  <a:pt x="11557" y="12214"/>
                  <a:pt x="12182" y="11816"/>
                  <a:pt x="12105" y="12229"/>
                </a:cubicBezTo>
                <a:cubicBezTo>
                  <a:pt x="12094" y="12290"/>
                  <a:pt x="11931" y="12512"/>
                  <a:pt x="11906" y="12551"/>
                </a:cubicBezTo>
                <a:cubicBezTo>
                  <a:pt x="12122" y="12351"/>
                  <a:pt x="12238" y="12283"/>
                  <a:pt x="12477" y="12402"/>
                </a:cubicBezTo>
                <a:cubicBezTo>
                  <a:pt x="12418" y="12731"/>
                  <a:pt x="12328" y="12807"/>
                  <a:pt x="1200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4545000"/>
            <a:ext cx="268200" cy="438120"/>
          </a:xfrm>
          <a:custGeom>
            <a:avLst/>
            <a:gdLst/>
            <a:ahLst/>
            <a:rect l="l" t="t" r="r" b="b"/>
            <a:pathLst>
              <a:path w="745" h="1216">
                <a:moveTo>
                  <a:pt x="10641" y="12774"/>
                </a:moveTo>
                <a:cubicBezTo>
                  <a:pt x="10763" y="13052"/>
                  <a:pt x="10826" y="13322"/>
                  <a:pt x="10889" y="13618"/>
                </a:cubicBezTo>
                <a:cubicBezTo>
                  <a:pt x="10817" y="13832"/>
                  <a:pt x="10791" y="13280"/>
                  <a:pt x="10765" y="13171"/>
                </a:cubicBezTo>
                <a:cubicBezTo>
                  <a:pt x="10690" y="12857"/>
                  <a:pt x="10711" y="12881"/>
                  <a:pt x="10691" y="12626"/>
                </a:cubicBezTo>
                <a:cubicBezTo>
                  <a:pt x="10864" y="12736"/>
                  <a:pt x="10987" y="12884"/>
                  <a:pt x="11112" y="13047"/>
                </a:cubicBezTo>
                <a:cubicBezTo>
                  <a:pt x="11140" y="13084"/>
                  <a:pt x="11385" y="13351"/>
                  <a:pt x="11385" y="13395"/>
                </a:cubicBezTo>
                <a:cubicBezTo>
                  <a:pt x="11385" y="13400"/>
                  <a:pt x="10855" y="13735"/>
                  <a:pt x="10815" y="13767"/>
                </a:cubicBezTo>
                <a:cubicBezTo>
                  <a:pt x="10723" y="13857"/>
                  <a:pt x="10715" y="13866"/>
                  <a:pt x="10864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54280"/>
            <a:ext cx="268200" cy="393840"/>
          </a:xfrm>
          <a:custGeom>
            <a:avLst/>
            <a:gdLst/>
            <a:ahLst/>
            <a:rect l="l" t="t" r="r" b="b"/>
            <a:pathLst>
              <a:path w="745" h="1093">
                <a:moveTo>
                  <a:pt x="6350" y="10145"/>
                </a:moveTo>
                <a:cubicBezTo>
                  <a:pt x="6469" y="10390"/>
                  <a:pt x="6569" y="10655"/>
                  <a:pt x="6697" y="10889"/>
                </a:cubicBezTo>
                <a:cubicBezTo>
                  <a:pt x="6588" y="10603"/>
                  <a:pt x="6461" y="10318"/>
                  <a:pt x="6375" y="10021"/>
                </a:cubicBezTo>
                <a:cubicBezTo>
                  <a:pt x="6367" y="9980"/>
                  <a:pt x="6358" y="9938"/>
                  <a:pt x="6350" y="9897"/>
                </a:cubicBezTo>
                <a:cubicBezTo>
                  <a:pt x="6601" y="9872"/>
                  <a:pt x="6778" y="10086"/>
                  <a:pt x="6945" y="10269"/>
                </a:cubicBezTo>
                <a:cubicBezTo>
                  <a:pt x="7016" y="10347"/>
                  <a:pt x="7138" y="10430"/>
                  <a:pt x="7069" y="10542"/>
                </a:cubicBezTo>
                <a:cubicBezTo>
                  <a:pt x="6970" y="10702"/>
                  <a:pt x="6750" y="10813"/>
                  <a:pt x="6672" y="10964"/>
                </a:cubicBezTo>
                <a:cubicBezTo>
                  <a:pt x="6697" y="10964"/>
                  <a:pt x="6705" y="10964"/>
                  <a:pt x="672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89920" y="1312920"/>
            <a:ext cx="689040" cy="32220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22473" y="4539"/>
                </a:moveTo>
                <a:cubicBezTo>
                  <a:pt x="22606" y="4539"/>
                  <a:pt x="22656" y="4538"/>
                  <a:pt x="22746" y="4514"/>
                </a:cubicBezTo>
              </a:path>
              <a:path w="1911" h="894">
                <a:moveTo>
                  <a:pt x="22746" y="4514"/>
                </a:moveTo>
                <a:lnTo>
                  <a:pt x="22746" y="4514"/>
                </a:lnTo>
              </a:path>
              <a:path w="1911" h="894">
                <a:moveTo>
                  <a:pt x="23862" y="3845"/>
                </a:moveTo>
                <a:cubicBezTo>
                  <a:pt x="23844" y="3921"/>
                  <a:pt x="23740" y="4214"/>
                  <a:pt x="23887" y="4242"/>
                </a:cubicBezTo>
                <a:cubicBezTo>
                  <a:pt x="24010" y="4217"/>
                  <a:pt x="24051" y="4209"/>
                  <a:pt x="24110" y="4142"/>
                </a:cubicBezTo>
              </a:path>
              <a:path w="1911" h="894">
                <a:moveTo>
                  <a:pt x="24383" y="3646"/>
                </a:moveTo>
                <a:cubicBezTo>
                  <a:pt x="24383" y="3654"/>
                  <a:pt x="24383" y="3663"/>
                  <a:pt x="24383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9960" y="1143000"/>
            <a:ext cx="1706400" cy="662040"/>
          </a:xfrm>
          <a:custGeom>
            <a:avLst/>
            <a:gdLst/>
            <a:ahLst/>
            <a:rect l="l" t="t" r="r" b="b"/>
            <a:pathLst>
              <a:path w="4738" h="1837">
                <a:moveTo>
                  <a:pt x="20737" y="3274"/>
                </a:moveTo>
                <a:cubicBezTo>
                  <a:pt x="20737" y="3115"/>
                  <a:pt x="20799" y="3488"/>
                  <a:pt x="20811" y="3646"/>
                </a:cubicBezTo>
                <a:cubicBezTo>
                  <a:pt x="20811" y="3836"/>
                  <a:pt x="20811" y="3861"/>
                  <a:pt x="20811" y="3969"/>
                </a:cubicBezTo>
              </a:path>
              <a:path w="4738" h="1837">
                <a:moveTo>
                  <a:pt x="21282" y="3225"/>
                </a:moveTo>
                <a:cubicBezTo>
                  <a:pt x="21522" y="3344"/>
                  <a:pt x="21741" y="3513"/>
                  <a:pt x="21456" y="3770"/>
                </a:cubicBezTo>
                <a:cubicBezTo>
                  <a:pt x="21311" y="3853"/>
                  <a:pt x="21287" y="3886"/>
                  <a:pt x="21183" y="3870"/>
                </a:cubicBezTo>
                <a:cubicBezTo>
                  <a:pt x="21194" y="3679"/>
                  <a:pt x="21298" y="3529"/>
                  <a:pt x="21506" y="3696"/>
                </a:cubicBezTo>
                <a:cubicBezTo>
                  <a:pt x="21569" y="3781"/>
                  <a:pt x="21582" y="3801"/>
                  <a:pt x="21630" y="3845"/>
                </a:cubicBezTo>
              </a:path>
              <a:path w="4738" h="1837">
                <a:moveTo>
                  <a:pt x="22051" y="3175"/>
                </a:moveTo>
                <a:cubicBezTo>
                  <a:pt x="21863" y="3226"/>
                  <a:pt x="21831" y="3209"/>
                  <a:pt x="21729" y="3373"/>
                </a:cubicBezTo>
                <a:cubicBezTo>
                  <a:pt x="21811" y="3502"/>
                  <a:pt x="22118" y="3666"/>
                  <a:pt x="22126" y="3820"/>
                </a:cubicBezTo>
                <a:cubicBezTo>
                  <a:pt x="22077" y="3916"/>
                  <a:pt x="22064" y="3949"/>
                  <a:pt x="21977" y="3944"/>
                </a:cubicBezTo>
                <a:cubicBezTo>
                  <a:pt x="21943" y="3732"/>
                  <a:pt x="22045" y="3553"/>
                  <a:pt x="22200" y="3373"/>
                </a:cubicBezTo>
                <a:cubicBezTo>
                  <a:pt x="22225" y="3373"/>
                  <a:pt x="22233" y="3373"/>
                  <a:pt x="22200" y="3373"/>
                </a:cubicBezTo>
              </a:path>
              <a:path w="4738" h="1837">
                <a:moveTo>
                  <a:pt x="20613" y="4242"/>
                </a:moveTo>
                <a:cubicBezTo>
                  <a:pt x="21005" y="4151"/>
                  <a:pt x="21374" y="4085"/>
                  <a:pt x="21779" y="4068"/>
                </a:cubicBezTo>
                <a:cubicBezTo>
                  <a:pt x="21905" y="4063"/>
                  <a:pt x="22106" y="4053"/>
                  <a:pt x="22225" y="4093"/>
                </a:cubicBezTo>
              </a:path>
              <a:path w="4738" h="1837">
                <a:moveTo>
                  <a:pt x="21258" y="4589"/>
                </a:moveTo>
                <a:cubicBezTo>
                  <a:pt x="21567" y="4472"/>
                  <a:pt x="21652" y="4495"/>
                  <a:pt x="21803" y="4787"/>
                </a:cubicBezTo>
                <a:cubicBezTo>
                  <a:pt x="21615" y="4985"/>
                  <a:pt x="21586" y="4985"/>
                  <a:pt x="21307" y="5011"/>
                </a:cubicBezTo>
                <a:cubicBezTo>
                  <a:pt x="21222" y="4794"/>
                  <a:pt x="21540" y="4749"/>
                  <a:pt x="21729" y="4787"/>
                </a:cubicBezTo>
                <a:cubicBezTo>
                  <a:pt x="21912" y="4824"/>
                  <a:pt x="21816" y="4901"/>
                  <a:pt x="21977" y="4887"/>
                </a:cubicBezTo>
              </a:path>
              <a:path w="4738" h="1837">
                <a:moveTo>
                  <a:pt x="22547" y="4316"/>
                </a:moveTo>
                <a:cubicBezTo>
                  <a:pt x="22668" y="4300"/>
                  <a:pt x="22774" y="4291"/>
                  <a:pt x="22895" y="4291"/>
                </a:cubicBezTo>
              </a:path>
              <a:path w="4738" h="1837">
                <a:moveTo>
                  <a:pt x="23366" y="3746"/>
                </a:moveTo>
                <a:cubicBezTo>
                  <a:pt x="23313" y="3952"/>
                  <a:pt x="23217" y="4157"/>
                  <a:pt x="23168" y="4366"/>
                </a:cubicBezTo>
                <a:cubicBezTo>
                  <a:pt x="23145" y="4523"/>
                  <a:pt x="23134" y="4565"/>
                  <a:pt x="23168" y="4663"/>
                </a:cubicBezTo>
                <a:cubicBezTo>
                  <a:pt x="23365" y="4709"/>
                  <a:pt x="23482" y="4664"/>
                  <a:pt x="23614" y="4490"/>
                </a:cubicBezTo>
                <a:cubicBezTo>
                  <a:pt x="23716" y="4356"/>
                  <a:pt x="23705" y="4308"/>
                  <a:pt x="23614" y="4217"/>
                </a:cubicBezTo>
                <a:cubicBezTo>
                  <a:pt x="23550" y="4247"/>
                  <a:pt x="23167" y="4542"/>
                  <a:pt x="23341" y="4663"/>
                </a:cubicBezTo>
                <a:cubicBezTo>
                  <a:pt x="23366" y="4647"/>
                  <a:pt x="23391" y="4630"/>
                  <a:pt x="23416" y="4614"/>
                </a:cubicBezTo>
              </a:path>
              <a:path w="4738" h="1837">
                <a:moveTo>
                  <a:pt x="24036" y="3621"/>
                </a:moveTo>
                <a:cubicBezTo>
                  <a:pt x="24120" y="3852"/>
                  <a:pt x="24072" y="4095"/>
                  <a:pt x="24061" y="4341"/>
                </a:cubicBezTo>
                <a:cubicBezTo>
                  <a:pt x="24056" y="4449"/>
                  <a:pt x="24052" y="4494"/>
                  <a:pt x="24036" y="4589"/>
                </a:cubicBezTo>
              </a:path>
              <a:path w="4738" h="1837">
                <a:moveTo>
                  <a:pt x="24383" y="4217"/>
                </a:moveTo>
                <a:cubicBezTo>
                  <a:pt x="24459" y="4192"/>
                  <a:pt x="24341" y="4441"/>
                  <a:pt x="24333" y="4490"/>
                </a:cubicBezTo>
                <a:cubicBezTo>
                  <a:pt x="24333" y="4523"/>
                  <a:pt x="24333" y="4556"/>
                  <a:pt x="24333" y="4589"/>
                </a:cubicBezTo>
                <a:cubicBezTo>
                  <a:pt x="24484" y="4572"/>
                  <a:pt x="24569" y="4494"/>
                  <a:pt x="24656" y="4366"/>
                </a:cubicBezTo>
                <a:cubicBezTo>
                  <a:pt x="24672" y="4333"/>
                  <a:pt x="24689" y="4299"/>
                  <a:pt x="24705" y="4266"/>
                </a:cubicBezTo>
                <a:cubicBezTo>
                  <a:pt x="24705" y="4365"/>
                  <a:pt x="24705" y="4465"/>
                  <a:pt x="24705" y="4564"/>
                </a:cubicBezTo>
                <a:cubicBezTo>
                  <a:pt x="24724" y="4450"/>
                  <a:pt x="24780" y="4347"/>
                  <a:pt x="24829" y="4242"/>
                </a:cubicBezTo>
                <a:cubicBezTo>
                  <a:pt x="24864" y="4320"/>
                  <a:pt x="24872" y="4453"/>
                  <a:pt x="24929" y="4514"/>
                </a:cubicBezTo>
                <a:cubicBezTo>
                  <a:pt x="24993" y="4583"/>
                  <a:pt x="25078" y="4549"/>
                  <a:pt x="25152" y="4539"/>
                </a:cubicBezTo>
              </a:path>
              <a:path w="4738" h="1837">
                <a:moveTo>
                  <a:pt x="24954" y="3646"/>
                </a:moveTo>
                <a:cubicBezTo>
                  <a:pt x="25020" y="3622"/>
                  <a:pt x="25080" y="3606"/>
                  <a:pt x="25152" y="3597"/>
                </a:cubicBezTo>
                <a:cubicBezTo>
                  <a:pt x="25111" y="3685"/>
                  <a:pt x="25069" y="3747"/>
                  <a:pt x="25003" y="3820"/>
                </a:cubicBezTo>
                <a:cubicBezTo>
                  <a:pt x="25064" y="3816"/>
                  <a:pt x="25317" y="3822"/>
                  <a:pt x="25350" y="3770"/>
                </a:cubicBezTo>
                <a:cubicBezTo>
                  <a:pt x="25350" y="3754"/>
                  <a:pt x="25350" y="3737"/>
                  <a:pt x="25350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93920" y="2670120"/>
            <a:ext cx="5910120" cy="2616120"/>
          </a:xfrm>
          <a:custGeom>
            <a:avLst/>
            <a:gdLst/>
            <a:ahLst/>
            <a:rect l="l" t="t" r="r" b="b"/>
            <a:pathLst>
              <a:path w="16421" h="7268">
                <a:moveTo>
                  <a:pt x="3870" y="14684"/>
                </a:moveTo>
                <a:cubicBezTo>
                  <a:pt x="3892" y="14668"/>
                  <a:pt x="3901" y="14649"/>
                  <a:pt x="3919" y="14635"/>
                </a:cubicBezTo>
                <a:cubicBezTo>
                  <a:pt x="3957" y="14606"/>
                  <a:pt x="3983" y="14586"/>
                  <a:pt x="4018" y="14560"/>
                </a:cubicBezTo>
                <a:cubicBezTo>
                  <a:pt x="4074" y="14518"/>
                  <a:pt x="4081" y="14509"/>
                  <a:pt x="4118" y="14486"/>
                </a:cubicBezTo>
                <a:cubicBezTo>
                  <a:pt x="4268" y="14393"/>
                  <a:pt x="4412" y="14298"/>
                  <a:pt x="4564" y="14213"/>
                </a:cubicBezTo>
                <a:cubicBezTo>
                  <a:pt x="4620" y="14182"/>
                  <a:pt x="4697" y="14155"/>
                  <a:pt x="4762" y="14114"/>
                </a:cubicBezTo>
                <a:cubicBezTo>
                  <a:pt x="4844" y="14062"/>
                  <a:pt x="4951" y="14006"/>
                  <a:pt x="5011" y="13965"/>
                </a:cubicBezTo>
                <a:cubicBezTo>
                  <a:pt x="5151" y="13868"/>
                  <a:pt x="5293" y="13765"/>
                  <a:pt x="5432" y="13667"/>
                </a:cubicBezTo>
                <a:cubicBezTo>
                  <a:pt x="5480" y="13633"/>
                  <a:pt x="5507" y="13602"/>
                  <a:pt x="5556" y="13568"/>
                </a:cubicBezTo>
                <a:cubicBezTo>
                  <a:pt x="5618" y="13525"/>
                  <a:pt x="5701" y="13485"/>
                  <a:pt x="5755" y="13444"/>
                </a:cubicBezTo>
                <a:cubicBezTo>
                  <a:pt x="5830" y="13387"/>
                  <a:pt x="5905" y="13319"/>
                  <a:pt x="5978" y="13271"/>
                </a:cubicBezTo>
                <a:cubicBezTo>
                  <a:pt x="6048" y="13224"/>
                  <a:pt x="6104" y="13160"/>
                  <a:pt x="6176" y="13122"/>
                </a:cubicBezTo>
                <a:cubicBezTo>
                  <a:pt x="6284" y="13065"/>
                  <a:pt x="6427" y="13023"/>
                  <a:pt x="6548" y="12973"/>
                </a:cubicBezTo>
                <a:cubicBezTo>
                  <a:pt x="6630" y="12939"/>
                  <a:pt x="6710" y="12935"/>
                  <a:pt x="6796" y="12898"/>
                </a:cubicBezTo>
                <a:cubicBezTo>
                  <a:pt x="6972" y="12822"/>
                  <a:pt x="7123" y="12704"/>
                  <a:pt x="7293" y="12626"/>
                </a:cubicBezTo>
                <a:cubicBezTo>
                  <a:pt x="7572" y="12498"/>
                  <a:pt x="7853" y="12373"/>
                  <a:pt x="8136" y="12254"/>
                </a:cubicBezTo>
                <a:cubicBezTo>
                  <a:pt x="8261" y="12202"/>
                  <a:pt x="8386" y="12159"/>
                  <a:pt x="8508" y="12105"/>
                </a:cubicBezTo>
                <a:cubicBezTo>
                  <a:pt x="8795" y="11979"/>
                  <a:pt x="9079" y="11843"/>
                  <a:pt x="9376" y="11733"/>
                </a:cubicBezTo>
                <a:cubicBezTo>
                  <a:pt x="9499" y="11688"/>
                  <a:pt x="9625" y="11653"/>
                  <a:pt x="9748" y="11609"/>
                </a:cubicBezTo>
                <a:cubicBezTo>
                  <a:pt x="9888" y="11559"/>
                  <a:pt x="10029" y="11505"/>
                  <a:pt x="10170" y="11460"/>
                </a:cubicBezTo>
                <a:cubicBezTo>
                  <a:pt x="10797" y="11262"/>
                  <a:pt x="11459" y="11160"/>
                  <a:pt x="12080" y="10988"/>
                </a:cubicBezTo>
                <a:cubicBezTo>
                  <a:pt x="12244" y="10943"/>
                  <a:pt x="12407" y="10891"/>
                  <a:pt x="12576" y="10840"/>
                </a:cubicBezTo>
                <a:cubicBezTo>
                  <a:pt x="12841" y="10760"/>
                  <a:pt x="13109" y="10701"/>
                  <a:pt x="13370" y="10616"/>
                </a:cubicBezTo>
                <a:cubicBezTo>
                  <a:pt x="13491" y="10577"/>
                  <a:pt x="13599" y="10532"/>
                  <a:pt x="13717" y="10492"/>
                </a:cubicBezTo>
                <a:cubicBezTo>
                  <a:pt x="13810" y="10461"/>
                  <a:pt x="13896" y="10446"/>
                  <a:pt x="13990" y="10418"/>
                </a:cubicBezTo>
                <a:cubicBezTo>
                  <a:pt x="14074" y="10393"/>
                  <a:pt x="14153" y="10370"/>
                  <a:pt x="14238" y="10344"/>
                </a:cubicBezTo>
                <a:cubicBezTo>
                  <a:pt x="14541" y="10250"/>
                  <a:pt x="14840" y="10161"/>
                  <a:pt x="15131" y="10046"/>
                </a:cubicBezTo>
                <a:cubicBezTo>
                  <a:pt x="15355" y="9958"/>
                  <a:pt x="15650" y="9881"/>
                  <a:pt x="15850" y="9748"/>
                </a:cubicBezTo>
                <a:cubicBezTo>
                  <a:pt x="16030" y="9628"/>
                  <a:pt x="16169" y="9467"/>
                  <a:pt x="16371" y="9351"/>
                </a:cubicBezTo>
                <a:cubicBezTo>
                  <a:pt x="16460" y="9300"/>
                  <a:pt x="16556" y="9257"/>
                  <a:pt x="16644" y="9203"/>
                </a:cubicBezTo>
                <a:cubicBezTo>
                  <a:pt x="16844" y="9079"/>
                  <a:pt x="17040" y="8952"/>
                  <a:pt x="17239" y="8830"/>
                </a:cubicBezTo>
                <a:cubicBezTo>
                  <a:pt x="17332" y="8773"/>
                  <a:pt x="17417" y="8712"/>
                  <a:pt x="17512" y="8657"/>
                </a:cubicBezTo>
                <a:cubicBezTo>
                  <a:pt x="17605" y="8604"/>
                  <a:pt x="17684" y="8553"/>
                  <a:pt x="17785" y="8508"/>
                </a:cubicBezTo>
                <a:cubicBezTo>
                  <a:pt x="18022" y="8402"/>
                  <a:pt x="18285" y="8365"/>
                  <a:pt x="18529" y="8285"/>
                </a:cubicBezTo>
                <a:cubicBezTo>
                  <a:pt x="18639" y="8249"/>
                  <a:pt x="18744" y="8206"/>
                  <a:pt x="18852" y="8161"/>
                </a:cubicBezTo>
                <a:cubicBezTo>
                  <a:pt x="18994" y="8102"/>
                  <a:pt x="19122" y="8031"/>
                  <a:pt x="19248" y="7962"/>
                </a:cubicBezTo>
                <a:cubicBezTo>
                  <a:pt x="19406" y="7875"/>
                  <a:pt x="19545" y="7760"/>
                  <a:pt x="19695" y="7689"/>
                </a:cubicBezTo>
                <a:cubicBezTo>
                  <a:pt x="19883" y="7600"/>
                  <a:pt x="20085" y="7531"/>
                  <a:pt x="20265" y="7441"/>
                </a:cubicBezTo>
                <a:cubicBezTo>
                  <a:pt x="20290" y="7441"/>
                  <a:pt x="20298" y="7441"/>
                  <a:pt x="20290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90640"/>
            <a:ext cx="3927600" cy="26179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286000" y="2819520"/>
            <a:ext cx="4038480" cy="2745720"/>
            <a:chOff x="2286000" y="2819520"/>
            <a:chExt cx="4038480" cy="2745720"/>
          </a:xfrm>
        </p:grpSpPr>
        <p:sp>
          <p:nvSpPr>
            <p:cNvPr id="146" name=""/>
            <p:cNvSpPr/>
            <p:nvPr/>
          </p:nvSpPr>
          <p:spPr>
            <a:xfrm>
              <a:off x="2362320" y="2819520"/>
              <a:ext cx="3962160" cy="266688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2320" y="5181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828800" y="2133720"/>
                <a:ext cx="3927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igh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le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170320" y="2027160"/>
            <a:ext cx="633600" cy="500040"/>
          </a:xfrm>
          <a:custGeom>
            <a:avLst/>
            <a:gdLst/>
            <a:ahLst/>
            <a:rect l="l" t="t" r="r" b="b"/>
            <a:pathLst>
              <a:path w="1762" h="1390">
                <a:moveTo>
                  <a:pt x="14387" y="6747"/>
                </a:moveTo>
                <a:cubicBezTo>
                  <a:pt x="14383" y="6768"/>
                  <a:pt x="14346" y="6764"/>
                  <a:pt x="14412" y="6821"/>
                </a:cubicBezTo>
                <a:cubicBezTo>
                  <a:pt x="14427" y="6834"/>
                  <a:pt x="14488" y="6884"/>
                  <a:pt x="14511" y="6896"/>
                </a:cubicBezTo>
                <a:cubicBezTo>
                  <a:pt x="14600" y="6943"/>
                  <a:pt x="14639" y="6956"/>
                  <a:pt x="14734" y="6970"/>
                </a:cubicBezTo>
                <a:cubicBezTo>
                  <a:pt x="14823" y="6984"/>
                  <a:pt x="14919" y="7012"/>
                  <a:pt x="15007" y="7020"/>
                </a:cubicBezTo>
                <a:cubicBezTo>
                  <a:pt x="15120" y="7031"/>
                  <a:pt x="15246" y="7028"/>
                  <a:pt x="15354" y="6995"/>
                </a:cubicBezTo>
                <a:cubicBezTo>
                  <a:pt x="15461" y="6962"/>
                  <a:pt x="15573" y="6939"/>
                  <a:pt x="15677" y="6896"/>
                </a:cubicBezTo>
                <a:cubicBezTo>
                  <a:pt x="15760" y="6862"/>
                  <a:pt x="15804" y="6820"/>
                  <a:pt x="15875" y="6772"/>
                </a:cubicBezTo>
                <a:cubicBezTo>
                  <a:pt x="15958" y="6716"/>
                  <a:pt x="16001" y="6664"/>
                  <a:pt x="16049" y="6573"/>
                </a:cubicBezTo>
                <a:cubicBezTo>
                  <a:pt x="16082" y="6509"/>
                  <a:pt x="16112" y="6397"/>
                  <a:pt x="16123" y="6325"/>
                </a:cubicBezTo>
                <a:cubicBezTo>
                  <a:pt x="16137" y="6233"/>
                  <a:pt x="16126" y="6115"/>
                  <a:pt x="16098" y="6028"/>
                </a:cubicBezTo>
                <a:cubicBezTo>
                  <a:pt x="16082" y="5979"/>
                  <a:pt x="16050" y="5917"/>
                  <a:pt x="16024" y="5879"/>
                </a:cubicBezTo>
                <a:cubicBezTo>
                  <a:pt x="15979" y="5813"/>
                  <a:pt x="15922" y="5788"/>
                  <a:pt x="15875" y="5755"/>
                </a:cubicBezTo>
                <a:cubicBezTo>
                  <a:pt x="15767" y="5679"/>
                  <a:pt x="15734" y="5681"/>
                  <a:pt x="15602" y="5655"/>
                </a:cubicBezTo>
                <a:cubicBezTo>
                  <a:pt x="15513" y="5638"/>
                  <a:pt x="15398" y="5637"/>
                  <a:pt x="15304" y="5655"/>
                </a:cubicBezTo>
                <a:cubicBezTo>
                  <a:pt x="15207" y="5674"/>
                  <a:pt x="15037" y="5720"/>
                  <a:pt x="14957" y="5779"/>
                </a:cubicBezTo>
                <a:cubicBezTo>
                  <a:pt x="14893" y="5826"/>
                  <a:pt x="14827" y="5865"/>
                  <a:pt x="14784" y="5928"/>
                </a:cubicBezTo>
                <a:cubicBezTo>
                  <a:pt x="14740" y="5992"/>
                  <a:pt x="14696" y="6058"/>
                  <a:pt x="14660" y="6127"/>
                </a:cubicBezTo>
                <a:cubicBezTo>
                  <a:pt x="14635" y="6175"/>
                  <a:pt x="14630" y="6228"/>
                  <a:pt x="14610" y="6276"/>
                </a:cubicBezTo>
                <a:cubicBezTo>
                  <a:pt x="14574" y="6363"/>
                  <a:pt x="14568" y="6437"/>
                  <a:pt x="14536" y="6524"/>
                </a:cubicBezTo>
                <a:cubicBezTo>
                  <a:pt x="14512" y="6589"/>
                  <a:pt x="14511" y="6625"/>
                  <a:pt x="14511" y="6697"/>
                </a:cubicBezTo>
                <a:cubicBezTo>
                  <a:pt x="14511" y="6739"/>
                  <a:pt x="14511" y="6747"/>
                  <a:pt x="1451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5037120"/>
            <a:ext cx="26820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838" y="14238"/>
                </a:moveTo>
                <a:cubicBezTo>
                  <a:pt x="7806" y="14195"/>
                  <a:pt x="7714" y="14126"/>
                  <a:pt x="7640" y="14139"/>
                </a:cubicBezTo>
                <a:cubicBezTo>
                  <a:pt x="7533" y="14158"/>
                  <a:pt x="7537" y="14377"/>
                  <a:pt x="7541" y="14436"/>
                </a:cubicBezTo>
                <a:cubicBezTo>
                  <a:pt x="7561" y="14537"/>
                  <a:pt x="7558" y="14557"/>
                  <a:pt x="7590" y="14610"/>
                </a:cubicBezTo>
                <a:cubicBezTo>
                  <a:pt x="7670" y="14506"/>
                  <a:pt x="7695" y="14447"/>
                  <a:pt x="7714" y="14312"/>
                </a:cubicBezTo>
                <a:cubicBezTo>
                  <a:pt x="7733" y="14444"/>
                  <a:pt x="7786" y="14592"/>
                  <a:pt x="7813" y="14734"/>
                </a:cubicBezTo>
                <a:cubicBezTo>
                  <a:pt x="7824" y="14792"/>
                  <a:pt x="7838" y="14917"/>
                  <a:pt x="7838" y="14858"/>
                </a:cubicBezTo>
              </a:path>
              <a:path w="745" h="894">
                <a:moveTo>
                  <a:pt x="7962" y="14238"/>
                </a:moveTo>
                <a:cubicBezTo>
                  <a:pt x="7962" y="14349"/>
                  <a:pt x="7929" y="14446"/>
                  <a:pt x="7938" y="14560"/>
                </a:cubicBezTo>
                <a:cubicBezTo>
                  <a:pt x="7960" y="14672"/>
                  <a:pt x="7961" y="14703"/>
                  <a:pt x="8012" y="14759"/>
                </a:cubicBezTo>
                <a:cubicBezTo>
                  <a:pt x="8170" y="14727"/>
                  <a:pt x="8296" y="14614"/>
                  <a:pt x="8235" y="14412"/>
                </a:cubicBezTo>
                <a:cubicBezTo>
                  <a:pt x="8197" y="14284"/>
                  <a:pt x="8068" y="14234"/>
                  <a:pt x="7962" y="14263"/>
                </a:cubicBezTo>
                <a:cubicBezTo>
                  <a:pt x="7937" y="14271"/>
                  <a:pt x="7913" y="14280"/>
                  <a:pt x="7888" y="14288"/>
                </a:cubicBezTo>
              </a:path>
              <a:path w="745" h="894">
                <a:moveTo>
                  <a:pt x="8210" y="14039"/>
                </a:moveTo>
                <a:cubicBezTo>
                  <a:pt x="8133" y="14062"/>
                  <a:pt x="8136" y="14077"/>
                  <a:pt x="8136" y="14163"/>
                </a:cubicBezTo>
                <a:cubicBezTo>
                  <a:pt x="8221" y="14154"/>
                  <a:pt x="8306" y="14131"/>
                  <a:pt x="8285" y="14015"/>
                </a:cubicBezTo>
                <a:cubicBezTo>
                  <a:pt x="8281" y="13996"/>
                  <a:pt x="8160" y="13990"/>
                  <a:pt x="8136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wo right triangles = One rectangle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2860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76520" y="2438280"/>
            <a:ext cx="5333400" cy="3583800"/>
            <a:chOff x="1676520" y="2438280"/>
            <a:chExt cx="5333400" cy="3583800"/>
          </a:xfrm>
        </p:grpSpPr>
        <p:sp>
          <p:nvSpPr>
            <p:cNvPr id="157" name=""/>
            <p:cNvSpPr txBox="1"/>
            <p:nvPr/>
          </p:nvSpPr>
          <p:spPr>
            <a:xfrm>
              <a:off x="2221560" y="4404600"/>
              <a:ext cx="2666880" cy="1209960"/>
            </a:xfrm>
            <a:prstGeom prst="rect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5638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562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24382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04760" y="1981080"/>
            <a:ext cx="5486760" cy="3987720"/>
            <a:chOff x="1904760" y="1981080"/>
            <a:chExt cx="5486760" cy="3987720"/>
          </a:xfrm>
        </p:grpSpPr>
        <p:sp>
          <p:nvSpPr>
            <p:cNvPr id="163" name=""/>
            <p:cNvSpPr/>
            <p:nvPr/>
          </p:nvSpPr>
          <p:spPr>
            <a:xfrm rot="10800000">
              <a:off x="1904760" y="2057400"/>
              <a:ext cx="5257800" cy="365760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2057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236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49528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340000" y="5419800"/>
            <a:ext cx="268200" cy="403200"/>
          </a:xfrm>
          <a:custGeom>
            <a:avLst/>
            <a:gdLst/>
            <a:ahLst/>
            <a:rect l="l" t="t" r="r" b="b"/>
            <a:pathLst>
              <a:path w="745" h="1118">
                <a:moveTo>
                  <a:pt x="6796" y="15553"/>
                </a:moveTo>
                <a:cubicBezTo>
                  <a:pt x="6708" y="15499"/>
                  <a:pt x="6692" y="15448"/>
                  <a:pt x="6573" y="15429"/>
                </a:cubicBezTo>
                <a:cubicBezTo>
                  <a:pt x="6483" y="15531"/>
                  <a:pt x="6461" y="15725"/>
                  <a:pt x="6573" y="15850"/>
                </a:cubicBezTo>
                <a:cubicBezTo>
                  <a:pt x="6647" y="15933"/>
                  <a:pt x="6673" y="15686"/>
                  <a:pt x="6697" y="15577"/>
                </a:cubicBezTo>
                <a:cubicBezTo>
                  <a:pt x="6770" y="15747"/>
                  <a:pt x="6825" y="15909"/>
                  <a:pt x="6871" y="16098"/>
                </a:cubicBezTo>
                <a:cubicBezTo>
                  <a:pt x="6890" y="16156"/>
                  <a:pt x="6899" y="16199"/>
                  <a:pt x="6896" y="16148"/>
                </a:cubicBezTo>
              </a:path>
              <a:path w="745" h="1118">
                <a:moveTo>
                  <a:pt x="6945" y="15602"/>
                </a:moveTo>
                <a:cubicBezTo>
                  <a:pt x="6989" y="15841"/>
                  <a:pt x="6981" y="15885"/>
                  <a:pt x="7144" y="16049"/>
                </a:cubicBezTo>
                <a:cubicBezTo>
                  <a:pt x="7237" y="15898"/>
                  <a:pt x="7336" y="15609"/>
                  <a:pt x="7119" y="15478"/>
                </a:cubicBezTo>
                <a:cubicBezTo>
                  <a:pt x="7063" y="15444"/>
                  <a:pt x="6929" y="15495"/>
                  <a:pt x="6871" y="15503"/>
                </a:cubicBezTo>
              </a:path>
              <a:path w="745" h="1118">
                <a:moveTo>
                  <a:pt x="7144" y="15106"/>
                </a:moveTo>
                <a:cubicBezTo>
                  <a:pt x="7129" y="15189"/>
                  <a:pt x="7092" y="15245"/>
                  <a:pt x="7144" y="15280"/>
                </a:cubicBezTo>
                <a:cubicBezTo>
                  <a:pt x="7187" y="15210"/>
                  <a:pt x="7340" y="15012"/>
                  <a:pt x="7144" y="15081"/>
                </a:cubicBezTo>
                <a:cubicBezTo>
                  <a:pt x="7127" y="15089"/>
                  <a:pt x="7111" y="15098"/>
                  <a:pt x="7094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40320" y="2214720"/>
            <a:ext cx="26856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7884" y="6548"/>
                </a:moveTo>
                <a:cubicBezTo>
                  <a:pt x="17837" y="6406"/>
                  <a:pt x="17702" y="6592"/>
                  <a:pt x="17661" y="6672"/>
                </a:cubicBezTo>
                <a:cubicBezTo>
                  <a:pt x="17620" y="6795"/>
                  <a:pt x="17603" y="6817"/>
                  <a:pt x="17611" y="6896"/>
                </a:cubicBezTo>
                <a:cubicBezTo>
                  <a:pt x="17803" y="6817"/>
                  <a:pt x="17815" y="6737"/>
                  <a:pt x="17934" y="6598"/>
                </a:cubicBezTo>
                <a:cubicBezTo>
                  <a:pt x="17934" y="6775"/>
                  <a:pt x="17924" y="6944"/>
                  <a:pt x="17909" y="7119"/>
                </a:cubicBezTo>
                <a:cubicBezTo>
                  <a:pt x="17909" y="7179"/>
                  <a:pt x="17912" y="7186"/>
                  <a:pt x="17934" y="7094"/>
                </a:cubicBezTo>
              </a:path>
              <a:path w="745" h="1018">
                <a:moveTo>
                  <a:pt x="18083" y="6524"/>
                </a:moveTo>
                <a:cubicBezTo>
                  <a:pt x="18039" y="6726"/>
                  <a:pt x="18029" y="6800"/>
                  <a:pt x="18083" y="6995"/>
                </a:cubicBezTo>
                <a:cubicBezTo>
                  <a:pt x="18234" y="6960"/>
                  <a:pt x="18388" y="6840"/>
                  <a:pt x="18331" y="6648"/>
                </a:cubicBezTo>
                <a:cubicBezTo>
                  <a:pt x="18294" y="6523"/>
                  <a:pt x="18195" y="6543"/>
                  <a:pt x="18107" y="6499"/>
                </a:cubicBezTo>
              </a:path>
              <a:path w="745" h="1018">
                <a:moveTo>
                  <a:pt x="18231" y="6251"/>
                </a:moveTo>
                <a:cubicBezTo>
                  <a:pt x="18287" y="6361"/>
                  <a:pt x="18409" y="6243"/>
                  <a:pt x="18355" y="6176"/>
                </a:cubicBezTo>
                <a:cubicBezTo>
                  <a:pt x="18282" y="6152"/>
                  <a:pt x="18259" y="6144"/>
                  <a:pt x="18207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a of a Right Triang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86200" y="5181480"/>
                <a:ext cx="1295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752480" y="3505320"/>
                <a:ext cx="1143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2819520" y="2362320"/>
            <a:ext cx="4038480" cy="2745720"/>
            <a:chOff x="2819520" y="2362320"/>
            <a:chExt cx="4038480" cy="2745720"/>
          </a:xfrm>
        </p:grpSpPr>
        <p:sp>
          <p:nvSpPr>
            <p:cNvPr id="174" name=""/>
            <p:cNvSpPr/>
            <p:nvPr/>
          </p:nvSpPr>
          <p:spPr>
            <a:xfrm>
              <a:off x="2895840" y="2362320"/>
              <a:ext cx="3962160" cy="266688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84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25909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86200" y="5029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2666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29000" y="3886200"/>
                <a:ext cx="116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81480" y="2590920"/>
                <a:ext cx="1828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126200" y="1160640"/>
            <a:ext cx="1554120" cy="928440"/>
          </a:xfrm>
          <a:custGeom>
            <a:avLst/>
            <a:gdLst/>
            <a:ahLst/>
            <a:rect l="l" t="t" r="r" b="b"/>
            <a:pathLst>
              <a:path w="4317" h="2580">
                <a:moveTo>
                  <a:pt x="20141" y="3572"/>
                </a:moveTo>
                <a:cubicBezTo>
                  <a:pt x="20033" y="3865"/>
                  <a:pt x="19926" y="4156"/>
                  <a:pt x="19794" y="4440"/>
                </a:cubicBezTo>
                <a:cubicBezTo>
                  <a:pt x="19877" y="4138"/>
                  <a:pt x="19963" y="3826"/>
                  <a:pt x="20117" y="3547"/>
                </a:cubicBezTo>
                <a:cubicBezTo>
                  <a:pt x="20252" y="3353"/>
                  <a:pt x="20263" y="3316"/>
                  <a:pt x="20365" y="3225"/>
                </a:cubicBezTo>
                <a:cubicBezTo>
                  <a:pt x="20470" y="3569"/>
                  <a:pt x="20479" y="3908"/>
                  <a:pt x="20513" y="4266"/>
                </a:cubicBezTo>
                <a:cubicBezTo>
                  <a:pt x="20518" y="4314"/>
                  <a:pt x="20588" y="4664"/>
                  <a:pt x="20513" y="4638"/>
                </a:cubicBezTo>
              </a:path>
              <a:path w="4317" h="2580">
                <a:moveTo>
                  <a:pt x="21010" y="4465"/>
                </a:moveTo>
                <a:cubicBezTo>
                  <a:pt x="20947" y="4658"/>
                  <a:pt x="20926" y="4907"/>
                  <a:pt x="20836" y="5085"/>
                </a:cubicBezTo>
                <a:cubicBezTo>
                  <a:pt x="20836" y="5077"/>
                  <a:pt x="20836" y="5068"/>
                  <a:pt x="20836" y="5060"/>
                </a:cubicBezTo>
                <a:cubicBezTo>
                  <a:pt x="20883" y="4803"/>
                  <a:pt x="20928" y="4599"/>
                  <a:pt x="21084" y="4390"/>
                </a:cubicBezTo>
                <a:cubicBezTo>
                  <a:pt x="21214" y="4610"/>
                  <a:pt x="21300" y="4788"/>
                  <a:pt x="21357" y="5035"/>
                </a:cubicBezTo>
                <a:cubicBezTo>
                  <a:pt x="21376" y="5113"/>
                  <a:pt x="21368" y="5130"/>
                  <a:pt x="21406" y="5159"/>
                </a:cubicBezTo>
                <a:cubicBezTo>
                  <a:pt x="21217" y="5142"/>
                  <a:pt x="21053" y="5129"/>
                  <a:pt x="20861" y="5159"/>
                </a:cubicBezTo>
                <a:cubicBezTo>
                  <a:pt x="20828" y="5167"/>
                  <a:pt x="20795" y="5176"/>
                  <a:pt x="20762" y="5184"/>
                </a:cubicBezTo>
              </a:path>
              <a:path w="4317" h="2580">
                <a:moveTo>
                  <a:pt x="21406" y="4217"/>
                </a:moveTo>
                <a:cubicBezTo>
                  <a:pt x="21548" y="4181"/>
                  <a:pt x="21683" y="4188"/>
                  <a:pt x="21828" y="4217"/>
                </a:cubicBezTo>
              </a:path>
              <a:path w="4317" h="2580">
                <a:moveTo>
                  <a:pt x="22275" y="3497"/>
                </a:moveTo>
                <a:cubicBezTo>
                  <a:pt x="22323" y="3822"/>
                  <a:pt x="22430" y="4142"/>
                  <a:pt x="22498" y="4465"/>
                </a:cubicBezTo>
                <a:cubicBezTo>
                  <a:pt x="22519" y="4613"/>
                  <a:pt x="22528" y="4646"/>
                  <a:pt x="22523" y="4738"/>
                </a:cubicBezTo>
                <a:cubicBezTo>
                  <a:pt x="22523" y="4565"/>
                  <a:pt x="22491" y="4359"/>
                  <a:pt x="22547" y="4192"/>
                </a:cubicBezTo>
                <a:cubicBezTo>
                  <a:pt x="22619" y="4073"/>
                  <a:pt x="22638" y="4033"/>
                  <a:pt x="22746" y="4043"/>
                </a:cubicBezTo>
                <a:cubicBezTo>
                  <a:pt x="22891" y="4172"/>
                  <a:pt x="23048" y="4415"/>
                  <a:pt x="22845" y="4614"/>
                </a:cubicBezTo>
                <a:cubicBezTo>
                  <a:pt x="22680" y="4775"/>
                  <a:pt x="22408" y="4861"/>
                  <a:pt x="22423" y="4589"/>
                </a:cubicBezTo>
              </a:path>
              <a:path w="4317" h="2580">
                <a:moveTo>
                  <a:pt x="22994" y="3597"/>
                </a:moveTo>
                <a:cubicBezTo>
                  <a:pt x="23013" y="3801"/>
                  <a:pt x="23041" y="4017"/>
                  <a:pt x="23093" y="4217"/>
                </a:cubicBezTo>
                <a:cubicBezTo>
                  <a:pt x="23136" y="4381"/>
                  <a:pt x="23181" y="4498"/>
                  <a:pt x="23192" y="4663"/>
                </a:cubicBezTo>
                <a:cubicBezTo>
                  <a:pt x="23192" y="4509"/>
                  <a:pt x="23134" y="4239"/>
                  <a:pt x="23242" y="4118"/>
                </a:cubicBezTo>
                <a:cubicBezTo>
                  <a:pt x="23338" y="4011"/>
                  <a:pt x="23516" y="4077"/>
                  <a:pt x="23564" y="4192"/>
                </a:cubicBezTo>
                <a:cubicBezTo>
                  <a:pt x="23614" y="4311"/>
                  <a:pt x="23488" y="4604"/>
                  <a:pt x="23564" y="4688"/>
                </a:cubicBezTo>
                <a:cubicBezTo>
                  <a:pt x="23620" y="4750"/>
                  <a:pt x="23717" y="4738"/>
                  <a:pt x="23812" y="4738"/>
                </a:cubicBezTo>
                <a:cubicBezTo>
                  <a:pt x="23820" y="4738"/>
                  <a:pt x="23829" y="4738"/>
                  <a:pt x="23837" y="4738"/>
                </a:cubicBezTo>
              </a:path>
              <a:path w="4317" h="2580">
                <a:moveTo>
                  <a:pt x="22299" y="4961"/>
                </a:moveTo>
                <a:cubicBezTo>
                  <a:pt x="22557" y="4961"/>
                  <a:pt x="22811" y="4941"/>
                  <a:pt x="23068" y="4936"/>
                </a:cubicBezTo>
                <a:cubicBezTo>
                  <a:pt x="23407" y="4929"/>
                  <a:pt x="23746" y="4911"/>
                  <a:pt x="24085" y="4911"/>
                </a:cubicBezTo>
                <a:cubicBezTo>
                  <a:pt x="24093" y="4911"/>
                  <a:pt x="24102" y="4911"/>
                  <a:pt x="24110" y="4911"/>
                </a:cubicBezTo>
              </a:path>
              <a:path w="4317" h="2580">
                <a:moveTo>
                  <a:pt x="23019" y="5234"/>
                </a:moveTo>
                <a:cubicBezTo>
                  <a:pt x="22939" y="5207"/>
                  <a:pt x="23061" y="5133"/>
                  <a:pt x="23093" y="5110"/>
                </a:cubicBezTo>
                <a:cubicBezTo>
                  <a:pt x="23182" y="5046"/>
                  <a:pt x="23254" y="5039"/>
                  <a:pt x="23341" y="5110"/>
                </a:cubicBezTo>
                <a:cubicBezTo>
                  <a:pt x="23435" y="5188"/>
                  <a:pt x="23344" y="5278"/>
                  <a:pt x="23267" y="5333"/>
                </a:cubicBezTo>
                <a:cubicBezTo>
                  <a:pt x="23154" y="5414"/>
                  <a:pt x="23055" y="5470"/>
                  <a:pt x="22969" y="5581"/>
                </a:cubicBezTo>
                <a:cubicBezTo>
                  <a:pt x="22907" y="5661"/>
                  <a:pt x="22891" y="5724"/>
                  <a:pt x="22845" y="5804"/>
                </a:cubicBezTo>
                <a:cubicBezTo>
                  <a:pt x="22895" y="5720"/>
                  <a:pt x="22963" y="5588"/>
                  <a:pt x="23068" y="5556"/>
                </a:cubicBezTo>
                <a:cubicBezTo>
                  <a:pt x="23134" y="5536"/>
                  <a:pt x="23210" y="5600"/>
                  <a:pt x="23242" y="5655"/>
                </a:cubicBezTo>
                <a:cubicBezTo>
                  <a:pt x="23310" y="5771"/>
                  <a:pt x="23363" y="5664"/>
                  <a:pt x="23416" y="5631"/>
                </a:cubicBezTo>
                <a:cubicBezTo>
                  <a:pt x="23424" y="5631"/>
                  <a:pt x="23432" y="5631"/>
                  <a:pt x="2344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53200" y="1517760"/>
            <a:ext cx="1000080" cy="3670200"/>
          </a:xfrm>
          <a:custGeom>
            <a:avLst/>
            <a:gdLst/>
            <a:ahLst/>
            <a:rect l="l" t="t" r="r" b="b"/>
            <a:pathLst>
              <a:path w="2779" h="10196">
                <a:moveTo>
                  <a:pt x="19869" y="4390"/>
                </a:moveTo>
                <a:cubicBezTo>
                  <a:pt x="20078" y="4309"/>
                  <a:pt x="20266" y="4239"/>
                  <a:pt x="20489" y="4217"/>
                </a:cubicBezTo>
              </a:path>
              <a:path w="2779" h="10196">
                <a:moveTo>
                  <a:pt x="21605" y="4490"/>
                </a:moveTo>
                <a:cubicBezTo>
                  <a:pt x="21791" y="4463"/>
                  <a:pt x="21860" y="4451"/>
                  <a:pt x="21977" y="4390"/>
                </a:cubicBezTo>
              </a:path>
              <a:path w="2779" h="10196">
                <a:moveTo>
                  <a:pt x="22547" y="13692"/>
                </a:moveTo>
                <a:cubicBezTo>
                  <a:pt x="22567" y="13910"/>
                  <a:pt x="22623" y="14120"/>
                  <a:pt x="22647" y="14337"/>
                </a:cubicBezTo>
                <a:cubicBezTo>
                  <a:pt x="22647" y="14362"/>
                  <a:pt x="22647" y="14387"/>
                  <a:pt x="22647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77040" y="4027320"/>
            <a:ext cx="669960" cy="679680"/>
          </a:xfrm>
          <a:custGeom>
            <a:avLst/>
            <a:gdLst/>
            <a:ahLst/>
            <a:rect l="l" t="t" r="r" b="b"/>
            <a:pathLst>
              <a:path w="1861" h="1886">
                <a:moveTo>
                  <a:pt x="20290" y="11485"/>
                </a:moveTo>
                <a:cubicBezTo>
                  <a:pt x="20310" y="11763"/>
                  <a:pt x="20312" y="12049"/>
                  <a:pt x="20265" y="12328"/>
                </a:cubicBezTo>
                <a:cubicBezTo>
                  <a:pt x="20230" y="12435"/>
                  <a:pt x="20213" y="12441"/>
                  <a:pt x="20216" y="12502"/>
                </a:cubicBezTo>
                <a:cubicBezTo>
                  <a:pt x="20230" y="12093"/>
                  <a:pt x="20266" y="11714"/>
                  <a:pt x="20439" y="11336"/>
                </a:cubicBezTo>
                <a:cubicBezTo>
                  <a:pt x="20523" y="11209"/>
                  <a:pt x="20530" y="11159"/>
                  <a:pt x="20638" y="11187"/>
                </a:cubicBezTo>
                <a:cubicBezTo>
                  <a:pt x="20823" y="11528"/>
                  <a:pt x="20864" y="11809"/>
                  <a:pt x="20836" y="12204"/>
                </a:cubicBezTo>
                <a:cubicBezTo>
                  <a:pt x="20818" y="12312"/>
                  <a:pt x="20810" y="12319"/>
                  <a:pt x="20811" y="12378"/>
                </a:cubicBezTo>
              </a:path>
              <a:path w="1861" h="1886">
                <a:moveTo>
                  <a:pt x="20290" y="12254"/>
                </a:moveTo>
                <a:cubicBezTo>
                  <a:pt x="20455" y="12197"/>
                  <a:pt x="20612" y="12126"/>
                  <a:pt x="20786" y="12105"/>
                </a:cubicBezTo>
              </a:path>
              <a:path w="1861" h="1886">
                <a:moveTo>
                  <a:pt x="21084" y="12402"/>
                </a:moveTo>
                <a:cubicBezTo>
                  <a:pt x="21049" y="12576"/>
                  <a:pt x="20947" y="12742"/>
                  <a:pt x="20910" y="12923"/>
                </a:cubicBezTo>
                <a:cubicBezTo>
                  <a:pt x="20910" y="12981"/>
                  <a:pt x="20910" y="13023"/>
                  <a:pt x="20910" y="12973"/>
                </a:cubicBezTo>
                <a:cubicBezTo>
                  <a:pt x="20992" y="12739"/>
                  <a:pt x="21064" y="12523"/>
                  <a:pt x="21183" y="12303"/>
                </a:cubicBezTo>
                <a:cubicBezTo>
                  <a:pt x="21253" y="12320"/>
                  <a:pt x="21282" y="12603"/>
                  <a:pt x="21332" y="12725"/>
                </a:cubicBezTo>
                <a:cubicBezTo>
                  <a:pt x="21369" y="12814"/>
                  <a:pt x="21426" y="12873"/>
                  <a:pt x="21456" y="12948"/>
                </a:cubicBezTo>
                <a:cubicBezTo>
                  <a:pt x="21289" y="12976"/>
                  <a:pt x="21128" y="12970"/>
                  <a:pt x="20960" y="13022"/>
                </a:cubicBezTo>
                <a:cubicBezTo>
                  <a:pt x="20927" y="13039"/>
                  <a:pt x="20894" y="13055"/>
                  <a:pt x="20861" y="13072"/>
                </a:cubicBezTo>
              </a:path>
              <a:path w="1861" h="1886">
                <a:moveTo>
                  <a:pt x="21729" y="12105"/>
                </a:moveTo>
                <a:cubicBezTo>
                  <a:pt x="21832" y="12085"/>
                  <a:pt x="21921" y="12080"/>
                  <a:pt x="22027" y="12080"/>
                </a:cubicBezTo>
              </a:path>
              <a:path w="1861" h="1886">
                <a:moveTo>
                  <a:pt x="21754" y="12328"/>
                </a:moveTo>
                <a:cubicBezTo>
                  <a:pt x="21861" y="12303"/>
                  <a:pt x="21969" y="12279"/>
                  <a:pt x="22076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43920" y="4037040"/>
            <a:ext cx="741240" cy="579240"/>
          </a:xfrm>
          <a:custGeom>
            <a:avLst/>
            <a:gdLst/>
            <a:ahLst/>
            <a:rect l="l" t="t" r="r" b="b"/>
            <a:pathLst>
              <a:path w="2060" h="1613">
                <a:moveTo>
                  <a:pt x="22845" y="11237"/>
                </a:moveTo>
                <a:cubicBezTo>
                  <a:pt x="22845" y="11030"/>
                  <a:pt x="22884" y="11600"/>
                  <a:pt x="22895" y="11807"/>
                </a:cubicBezTo>
                <a:cubicBezTo>
                  <a:pt x="22899" y="11888"/>
                  <a:pt x="22895" y="11973"/>
                  <a:pt x="22895" y="12055"/>
                </a:cubicBezTo>
              </a:path>
              <a:path w="2060" h="1613">
                <a:moveTo>
                  <a:pt x="22622" y="12105"/>
                </a:moveTo>
                <a:cubicBezTo>
                  <a:pt x="22843" y="12051"/>
                  <a:pt x="23068" y="11988"/>
                  <a:pt x="23292" y="11956"/>
                </a:cubicBezTo>
              </a:path>
              <a:path w="2060" h="1613">
                <a:moveTo>
                  <a:pt x="22820" y="12204"/>
                </a:moveTo>
                <a:cubicBezTo>
                  <a:pt x="22820" y="12364"/>
                  <a:pt x="22830" y="12517"/>
                  <a:pt x="22845" y="12675"/>
                </a:cubicBezTo>
                <a:cubicBezTo>
                  <a:pt x="22845" y="12571"/>
                  <a:pt x="22840" y="12501"/>
                  <a:pt x="22895" y="12402"/>
                </a:cubicBezTo>
                <a:cubicBezTo>
                  <a:pt x="22986" y="12236"/>
                  <a:pt x="23176" y="12357"/>
                  <a:pt x="23192" y="12502"/>
                </a:cubicBezTo>
                <a:cubicBezTo>
                  <a:pt x="23211" y="12670"/>
                  <a:pt x="23011" y="12775"/>
                  <a:pt x="22870" y="12750"/>
                </a:cubicBezTo>
                <a:cubicBezTo>
                  <a:pt x="22870" y="12722"/>
                  <a:pt x="22872" y="12711"/>
                  <a:pt x="22895" y="12700"/>
                </a:cubicBezTo>
              </a:path>
              <a:path w="2060" h="1613">
                <a:moveTo>
                  <a:pt x="22647" y="12328"/>
                </a:moveTo>
                <a:cubicBezTo>
                  <a:pt x="22750" y="12276"/>
                  <a:pt x="22947" y="12156"/>
                  <a:pt x="22994" y="12353"/>
                </a:cubicBezTo>
                <a:cubicBezTo>
                  <a:pt x="23027" y="12489"/>
                  <a:pt x="22821" y="12676"/>
                  <a:pt x="22746" y="12774"/>
                </a:cubicBezTo>
                <a:cubicBezTo>
                  <a:pt x="22870" y="12757"/>
                  <a:pt x="23000" y="12717"/>
                  <a:pt x="23118" y="12675"/>
                </a:cubicBezTo>
                <a:cubicBezTo>
                  <a:pt x="23135" y="12667"/>
                  <a:pt x="23151" y="12658"/>
                  <a:pt x="23168" y="12650"/>
                </a:cubicBezTo>
              </a:path>
              <a:path w="2060" h="1613">
                <a:moveTo>
                  <a:pt x="22796" y="12303"/>
                </a:moveTo>
                <a:cubicBezTo>
                  <a:pt x="22729" y="12270"/>
                  <a:pt x="22922" y="12233"/>
                  <a:pt x="22969" y="12229"/>
                </a:cubicBezTo>
                <a:cubicBezTo>
                  <a:pt x="23198" y="12209"/>
                  <a:pt x="22891" y="12641"/>
                  <a:pt x="22870" y="12675"/>
                </a:cubicBezTo>
                <a:cubicBezTo>
                  <a:pt x="22815" y="12768"/>
                  <a:pt x="22816" y="12783"/>
                  <a:pt x="22771" y="12824"/>
                </a:cubicBezTo>
                <a:cubicBezTo>
                  <a:pt x="22923" y="12802"/>
                  <a:pt x="23043" y="12714"/>
                  <a:pt x="23192" y="12675"/>
                </a:cubicBezTo>
                <a:cubicBezTo>
                  <a:pt x="23217" y="12668"/>
                  <a:pt x="23264" y="12675"/>
                  <a:pt x="23292" y="12675"/>
                </a:cubicBezTo>
              </a:path>
              <a:path w="2060" h="1613">
                <a:moveTo>
                  <a:pt x="23564" y="11609"/>
                </a:moveTo>
                <a:cubicBezTo>
                  <a:pt x="23486" y="11662"/>
                  <a:pt x="23554" y="11988"/>
                  <a:pt x="23564" y="12080"/>
                </a:cubicBezTo>
                <a:cubicBezTo>
                  <a:pt x="23575" y="12181"/>
                  <a:pt x="23580" y="12337"/>
                  <a:pt x="23614" y="12427"/>
                </a:cubicBezTo>
                <a:cubicBezTo>
                  <a:pt x="23599" y="12305"/>
                  <a:pt x="23553" y="12149"/>
                  <a:pt x="23614" y="12030"/>
                </a:cubicBezTo>
                <a:cubicBezTo>
                  <a:pt x="23639" y="12005"/>
                  <a:pt x="23663" y="11981"/>
                  <a:pt x="23688" y="11956"/>
                </a:cubicBezTo>
                <a:cubicBezTo>
                  <a:pt x="23860" y="11988"/>
                  <a:pt x="24024" y="12097"/>
                  <a:pt x="23887" y="12303"/>
                </a:cubicBezTo>
                <a:cubicBezTo>
                  <a:pt x="23803" y="12430"/>
                  <a:pt x="23643" y="12423"/>
                  <a:pt x="23589" y="12328"/>
                </a:cubicBezTo>
              </a:path>
              <a:path w="2060" h="1613">
                <a:moveTo>
                  <a:pt x="24036" y="11485"/>
                </a:moveTo>
                <a:cubicBezTo>
                  <a:pt x="24069" y="11646"/>
                  <a:pt x="24127" y="11816"/>
                  <a:pt x="24160" y="11981"/>
                </a:cubicBezTo>
                <a:cubicBezTo>
                  <a:pt x="24182" y="12113"/>
                  <a:pt x="24187" y="12147"/>
                  <a:pt x="24209" y="12229"/>
                </a:cubicBezTo>
                <a:cubicBezTo>
                  <a:pt x="24209" y="12131"/>
                  <a:pt x="24190" y="12022"/>
                  <a:pt x="24234" y="11931"/>
                </a:cubicBezTo>
                <a:cubicBezTo>
                  <a:pt x="24266" y="11864"/>
                  <a:pt x="24392" y="11792"/>
                  <a:pt x="24457" y="11857"/>
                </a:cubicBezTo>
                <a:cubicBezTo>
                  <a:pt x="24549" y="11949"/>
                  <a:pt x="24473" y="12158"/>
                  <a:pt x="24532" y="12229"/>
                </a:cubicBezTo>
                <a:cubicBezTo>
                  <a:pt x="24571" y="12277"/>
                  <a:pt x="24637" y="12235"/>
                  <a:pt x="24681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86800" y="5045040"/>
            <a:ext cx="928440" cy="465120"/>
          </a:xfrm>
          <a:custGeom>
            <a:avLst/>
            <a:gdLst/>
            <a:ahLst/>
            <a:rect l="l" t="t" r="r" b="b"/>
            <a:pathLst>
              <a:path w="2580" h="1290">
                <a:moveTo>
                  <a:pt x="21630" y="14163"/>
                </a:moveTo>
                <a:cubicBezTo>
                  <a:pt x="21730" y="14163"/>
                  <a:pt x="21860" y="14129"/>
                  <a:pt x="21952" y="14139"/>
                </a:cubicBezTo>
                <a:cubicBezTo>
                  <a:pt x="21952" y="14163"/>
                  <a:pt x="21952" y="14171"/>
                  <a:pt x="21977" y="14163"/>
                </a:cubicBezTo>
              </a:path>
              <a:path w="2580" h="1290">
                <a:moveTo>
                  <a:pt x="21754" y="14412"/>
                </a:moveTo>
                <a:cubicBezTo>
                  <a:pt x="21833" y="14385"/>
                  <a:pt x="21922" y="14391"/>
                  <a:pt x="22002" y="14362"/>
                </a:cubicBezTo>
                <a:cubicBezTo>
                  <a:pt x="22018" y="14354"/>
                  <a:pt x="22035" y="14345"/>
                  <a:pt x="22051" y="14337"/>
                </a:cubicBezTo>
              </a:path>
              <a:path w="2580" h="1290">
                <a:moveTo>
                  <a:pt x="22324" y="14536"/>
                </a:moveTo>
                <a:cubicBezTo>
                  <a:pt x="22538" y="14488"/>
                  <a:pt x="22755" y="14429"/>
                  <a:pt x="22969" y="14387"/>
                </a:cubicBezTo>
              </a:path>
              <a:path w="2580" h="1290">
                <a:moveTo>
                  <a:pt x="22547" y="14734"/>
                </a:moveTo>
                <a:cubicBezTo>
                  <a:pt x="22680" y="14712"/>
                  <a:pt x="22714" y="14699"/>
                  <a:pt x="22796" y="14734"/>
                </a:cubicBezTo>
                <a:cubicBezTo>
                  <a:pt x="22810" y="14958"/>
                  <a:pt x="22701" y="15067"/>
                  <a:pt x="22547" y="15230"/>
                </a:cubicBezTo>
                <a:cubicBezTo>
                  <a:pt x="22522" y="15255"/>
                  <a:pt x="22498" y="15279"/>
                  <a:pt x="22473" y="15304"/>
                </a:cubicBezTo>
                <a:cubicBezTo>
                  <a:pt x="22642" y="15290"/>
                  <a:pt x="22764" y="15233"/>
                  <a:pt x="22920" y="15180"/>
                </a:cubicBezTo>
                <a:cubicBezTo>
                  <a:pt x="23002" y="15160"/>
                  <a:pt x="23035" y="15169"/>
                  <a:pt x="23019" y="15106"/>
                </a:cubicBezTo>
              </a:path>
              <a:path w="2580" h="1290">
                <a:moveTo>
                  <a:pt x="23143" y="14089"/>
                </a:moveTo>
                <a:cubicBezTo>
                  <a:pt x="23092" y="14343"/>
                  <a:pt x="23162" y="14555"/>
                  <a:pt x="23192" y="14808"/>
                </a:cubicBezTo>
                <a:cubicBezTo>
                  <a:pt x="23192" y="14899"/>
                  <a:pt x="23192" y="14907"/>
                  <a:pt x="23192" y="14957"/>
                </a:cubicBezTo>
                <a:cubicBezTo>
                  <a:pt x="23174" y="14843"/>
                  <a:pt x="23142" y="14726"/>
                  <a:pt x="23192" y="14610"/>
                </a:cubicBezTo>
                <a:cubicBezTo>
                  <a:pt x="23242" y="14560"/>
                  <a:pt x="23258" y="14544"/>
                  <a:pt x="23292" y="14511"/>
                </a:cubicBezTo>
                <a:cubicBezTo>
                  <a:pt x="23456" y="14607"/>
                  <a:pt x="23460" y="14694"/>
                  <a:pt x="23465" y="14883"/>
                </a:cubicBezTo>
                <a:cubicBezTo>
                  <a:pt x="23465" y="14908"/>
                  <a:pt x="23465" y="14932"/>
                  <a:pt x="23465" y="14957"/>
                </a:cubicBezTo>
              </a:path>
              <a:path w="2580" h="1290">
                <a:moveTo>
                  <a:pt x="23837" y="14015"/>
                </a:moveTo>
                <a:cubicBezTo>
                  <a:pt x="23908" y="14253"/>
                  <a:pt x="23973" y="14493"/>
                  <a:pt x="24036" y="14734"/>
                </a:cubicBezTo>
                <a:cubicBezTo>
                  <a:pt x="24044" y="14767"/>
                  <a:pt x="24053" y="14800"/>
                  <a:pt x="24061" y="14833"/>
                </a:cubicBezTo>
                <a:cubicBezTo>
                  <a:pt x="24041" y="14672"/>
                  <a:pt x="24046" y="14584"/>
                  <a:pt x="24110" y="14436"/>
                </a:cubicBezTo>
                <a:cubicBezTo>
                  <a:pt x="24244" y="14583"/>
                  <a:pt x="24223" y="14656"/>
                  <a:pt x="24061" y="14784"/>
                </a:cubicBezTo>
                <a:cubicBezTo>
                  <a:pt x="23992" y="14838"/>
                  <a:pt x="23919" y="14858"/>
                  <a:pt x="2403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044800" y="1852920"/>
            <a:ext cx="4978440" cy="4752360"/>
            <a:chOff x="2044800" y="1852920"/>
            <a:chExt cx="4978440" cy="4752360"/>
          </a:xfrm>
        </p:grpSpPr>
        <p:sp>
          <p:nvSpPr>
            <p:cNvPr id="190" name=""/>
            <p:cNvSpPr/>
            <p:nvPr/>
          </p:nvSpPr>
          <p:spPr>
            <a:xfrm rot="4595400">
              <a:off x="2590560" y="2133360"/>
              <a:ext cx="3886200" cy="419112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1440" y="2754360"/>
              <a:ext cx="70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115360" y="3051000"/>
              <a:ext cx="29664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143000" y="380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2819520"/>
                <a:ext cx="2362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19520" y="1905120"/>
                <a:ext cx="1371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2480" y="4114800"/>
                <a:ext cx="363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375240" y="1204920"/>
            <a:ext cx="1268640" cy="679320"/>
          </a:xfrm>
          <a:custGeom>
            <a:avLst/>
            <a:gdLst/>
            <a:ahLst/>
            <a:rect l="l" t="t" r="r" b="b"/>
            <a:pathLst>
              <a:path w="3523" h="1886">
                <a:moveTo>
                  <a:pt x="17785" y="3547"/>
                </a:moveTo>
                <a:cubicBezTo>
                  <a:pt x="17778" y="3780"/>
                  <a:pt x="17772" y="4011"/>
                  <a:pt x="17735" y="4242"/>
                </a:cubicBezTo>
                <a:cubicBezTo>
                  <a:pt x="17727" y="4275"/>
                  <a:pt x="17719" y="4308"/>
                  <a:pt x="17711" y="4341"/>
                </a:cubicBezTo>
                <a:cubicBezTo>
                  <a:pt x="17718" y="4151"/>
                  <a:pt x="17729" y="3979"/>
                  <a:pt x="17785" y="3795"/>
                </a:cubicBezTo>
                <a:cubicBezTo>
                  <a:pt x="17843" y="3606"/>
                  <a:pt x="17909" y="3515"/>
                  <a:pt x="18033" y="3373"/>
                </a:cubicBezTo>
                <a:cubicBezTo>
                  <a:pt x="18257" y="3356"/>
                  <a:pt x="18286" y="3619"/>
                  <a:pt x="18306" y="3820"/>
                </a:cubicBezTo>
                <a:cubicBezTo>
                  <a:pt x="18329" y="4051"/>
                  <a:pt x="18281" y="4283"/>
                  <a:pt x="18281" y="4514"/>
                </a:cubicBezTo>
              </a:path>
              <a:path w="3523" h="1886">
                <a:moveTo>
                  <a:pt x="17983" y="4018"/>
                </a:moveTo>
                <a:cubicBezTo>
                  <a:pt x="18089" y="4018"/>
                  <a:pt x="18204" y="3999"/>
                  <a:pt x="18306" y="3969"/>
                </a:cubicBezTo>
                <a:cubicBezTo>
                  <a:pt x="18346" y="3949"/>
                  <a:pt x="18362" y="3930"/>
                  <a:pt x="18355" y="3969"/>
                </a:cubicBezTo>
              </a:path>
              <a:path w="3523" h="1886">
                <a:moveTo>
                  <a:pt x="18777" y="4266"/>
                </a:moveTo>
                <a:cubicBezTo>
                  <a:pt x="18690" y="4295"/>
                  <a:pt x="18634" y="4534"/>
                  <a:pt x="18604" y="4589"/>
                </a:cubicBezTo>
                <a:cubicBezTo>
                  <a:pt x="18537" y="4712"/>
                  <a:pt x="18405" y="4906"/>
                  <a:pt x="18479" y="4787"/>
                </a:cubicBezTo>
                <a:cubicBezTo>
                  <a:pt x="18589" y="4610"/>
                  <a:pt x="18679" y="4417"/>
                  <a:pt x="18777" y="4242"/>
                </a:cubicBezTo>
                <a:cubicBezTo>
                  <a:pt x="18895" y="4270"/>
                  <a:pt x="18967" y="4462"/>
                  <a:pt x="19000" y="4564"/>
                </a:cubicBezTo>
                <a:cubicBezTo>
                  <a:pt x="19021" y="4689"/>
                  <a:pt x="19022" y="4716"/>
                  <a:pt x="19050" y="4787"/>
                </a:cubicBezTo>
                <a:cubicBezTo>
                  <a:pt x="18944" y="4787"/>
                  <a:pt x="18830" y="4779"/>
                  <a:pt x="18728" y="4812"/>
                </a:cubicBezTo>
                <a:cubicBezTo>
                  <a:pt x="18640" y="4840"/>
                  <a:pt x="18588" y="4895"/>
                  <a:pt x="18504" y="4911"/>
                </a:cubicBezTo>
              </a:path>
              <a:path w="3523" h="1886">
                <a:moveTo>
                  <a:pt x="19273" y="3845"/>
                </a:moveTo>
                <a:cubicBezTo>
                  <a:pt x="19391" y="3854"/>
                  <a:pt x="19501" y="3870"/>
                  <a:pt x="19621" y="3870"/>
                </a:cubicBezTo>
              </a:path>
              <a:path w="3523" h="1886">
                <a:moveTo>
                  <a:pt x="19298" y="4167"/>
                </a:moveTo>
                <a:cubicBezTo>
                  <a:pt x="19414" y="4157"/>
                  <a:pt x="19529" y="4137"/>
                  <a:pt x="19645" y="4118"/>
                </a:cubicBezTo>
              </a:path>
              <a:path w="3523" h="1886">
                <a:moveTo>
                  <a:pt x="20067" y="3448"/>
                </a:moveTo>
                <a:cubicBezTo>
                  <a:pt x="20086" y="3596"/>
                  <a:pt x="20116" y="3746"/>
                  <a:pt x="20141" y="3894"/>
                </a:cubicBezTo>
                <a:cubicBezTo>
                  <a:pt x="20154" y="3974"/>
                  <a:pt x="20185" y="4092"/>
                  <a:pt x="20191" y="4142"/>
                </a:cubicBezTo>
                <a:cubicBezTo>
                  <a:pt x="20191" y="4167"/>
                  <a:pt x="20191" y="4175"/>
                  <a:pt x="20191" y="4192"/>
                </a:cubicBezTo>
                <a:cubicBezTo>
                  <a:pt x="20203" y="4095"/>
                  <a:pt x="20222" y="3858"/>
                  <a:pt x="20365" y="3845"/>
                </a:cubicBezTo>
                <a:cubicBezTo>
                  <a:pt x="20565" y="3826"/>
                  <a:pt x="20692" y="4078"/>
                  <a:pt x="20513" y="4192"/>
                </a:cubicBezTo>
                <a:cubicBezTo>
                  <a:pt x="20416" y="4254"/>
                  <a:pt x="20204" y="4324"/>
                  <a:pt x="20290" y="4167"/>
                </a:cubicBezTo>
              </a:path>
              <a:path w="3523" h="1886">
                <a:moveTo>
                  <a:pt x="20638" y="3448"/>
                </a:moveTo>
                <a:cubicBezTo>
                  <a:pt x="20704" y="3691"/>
                  <a:pt x="20771" y="3947"/>
                  <a:pt x="20811" y="4192"/>
                </a:cubicBezTo>
                <a:cubicBezTo>
                  <a:pt x="20811" y="4054"/>
                  <a:pt x="20822" y="3944"/>
                  <a:pt x="20886" y="3820"/>
                </a:cubicBezTo>
                <a:cubicBezTo>
                  <a:pt x="20894" y="3812"/>
                  <a:pt x="20902" y="3803"/>
                  <a:pt x="20910" y="3795"/>
                </a:cubicBezTo>
                <a:cubicBezTo>
                  <a:pt x="21074" y="3890"/>
                  <a:pt x="21123" y="4018"/>
                  <a:pt x="21109" y="4217"/>
                </a:cubicBezTo>
                <a:cubicBezTo>
                  <a:pt x="21088" y="4299"/>
                  <a:pt x="21080" y="4315"/>
                  <a:pt x="21084" y="4366"/>
                </a:cubicBezTo>
              </a:path>
              <a:path w="3523" h="1886">
                <a:moveTo>
                  <a:pt x="20315" y="4514"/>
                </a:moveTo>
                <a:cubicBezTo>
                  <a:pt x="20537" y="4514"/>
                  <a:pt x="20766" y="4484"/>
                  <a:pt x="20985" y="4490"/>
                </a:cubicBezTo>
                <a:cubicBezTo>
                  <a:pt x="21124" y="4494"/>
                  <a:pt x="21192" y="4494"/>
                  <a:pt x="21233" y="4589"/>
                </a:cubicBezTo>
              </a:path>
              <a:path w="3523" h="1886">
                <a:moveTo>
                  <a:pt x="20687" y="4837"/>
                </a:moveTo>
                <a:cubicBezTo>
                  <a:pt x="20812" y="4797"/>
                  <a:pt x="20869" y="4764"/>
                  <a:pt x="20985" y="4787"/>
                </a:cubicBezTo>
                <a:cubicBezTo>
                  <a:pt x="20962" y="5011"/>
                  <a:pt x="20907" y="5064"/>
                  <a:pt x="20737" y="5209"/>
                </a:cubicBezTo>
                <a:cubicBezTo>
                  <a:pt x="20729" y="5217"/>
                  <a:pt x="20720" y="5226"/>
                  <a:pt x="20712" y="5234"/>
                </a:cubicBezTo>
                <a:cubicBezTo>
                  <a:pt x="20830" y="5234"/>
                  <a:pt x="20941" y="5214"/>
                  <a:pt x="21059" y="5209"/>
                </a:cubicBezTo>
                <a:cubicBezTo>
                  <a:pt x="21084" y="5209"/>
                  <a:pt x="21092" y="5209"/>
                  <a:pt x="21109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42000" y="2108160"/>
            <a:ext cx="2357280" cy="1357200"/>
          </a:xfrm>
          <a:custGeom>
            <a:avLst/>
            <a:gdLst/>
            <a:ahLst/>
            <a:rect l="l" t="t" r="r" b="b"/>
            <a:pathLst>
              <a:path w="6550" h="3771">
                <a:moveTo>
                  <a:pt x="17636" y="7293"/>
                </a:moveTo>
                <a:cubicBezTo>
                  <a:pt x="17594" y="7279"/>
                  <a:pt x="17605" y="7253"/>
                  <a:pt x="17636" y="7218"/>
                </a:cubicBezTo>
                <a:cubicBezTo>
                  <a:pt x="17707" y="7138"/>
                  <a:pt x="17838" y="7113"/>
                  <a:pt x="17909" y="7218"/>
                </a:cubicBezTo>
                <a:cubicBezTo>
                  <a:pt x="18014" y="7375"/>
                  <a:pt x="17787" y="7638"/>
                  <a:pt x="17686" y="7739"/>
                </a:cubicBezTo>
                <a:cubicBezTo>
                  <a:pt x="17567" y="7858"/>
                  <a:pt x="17491" y="7884"/>
                  <a:pt x="17462" y="8062"/>
                </a:cubicBezTo>
                <a:cubicBezTo>
                  <a:pt x="17462" y="8078"/>
                  <a:pt x="17462" y="8095"/>
                  <a:pt x="17462" y="8111"/>
                </a:cubicBezTo>
                <a:cubicBezTo>
                  <a:pt x="17462" y="8141"/>
                  <a:pt x="17522" y="8029"/>
                  <a:pt x="17562" y="7987"/>
                </a:cubicBezTo>
                <a:cubicBezTo>
                  <a:pt x="17675" y="7870"/>
                  <a:pt x="17814" y="7900"/>
                  <a:pt x="17909" y="8037"/>
                </a:cubicBezTo>
                <a:cubicBezTo>
                  <a:pt x="17986" y="8148"/>
                  <a:pt x="17986" y="8148"/>
                  <a:pt x="18132" y="8111"/>
                </a:cubicBezTo>
              </a:path>
              <a:path w="6550" h="3771">
                <a:moveTo>
                  <a:pt x="18529" y="7293"/>
                </a:moveTo>
                <a:cubicBezTo>
                  <a:pt x="18401" y="7300"/>
                  <a:pt x="18325" y="7318"/>
                  <a:pt x="18207" y="7367"/>
                </a:cubicBezTo>
                <a:cubicBezTo>
                  <a:pt x="18143" y="7557"/>
                  <a:pt x="18311" y="7589"/>
                  <a:pt x="18430" y="7714"/>
                </a:cubicBezTo>
                <a:cubicBezTo>
                  <a:pt x="18575" y="7867"/>
                  <a:pt x="18544" y="7912"/>
                  <a:pt x="18455" y="8062"/>
                </a:cubicBezTo>
                <a:cubicBezTo>
                  <a:pt x="18330" y="8040"/>
                  <a:pt x="18205" y="8007"/>
                  <a:pt x="18281" y="7838"/>
                </a:cubicBezTo>
                <a:cubicBezTo>
                  <a:pt x="18348" y="7689"/>
                  <a:pt x="18526" y="7699"/>
                  <a:pt x="18628" y="7590"/>
                </a:cubicBezTo>
                <a:cubicBezTo>
                  <a:pt x="18741" y="7469"/>
                  <a:pt x="18675" y="7325"/>
                  <a:pt x="18529" y="7293"/>
                </a:cubicBezTo>
                <a:cubicBezTo>
                  <a:pt x="18415" y="7268"/>
                  <a:pt x="18421" y="7312"/>
                  <a:pt x="18405" y="7392"/>
                </a:cubicBezTo>
              </a:path>
              <a:path w="6550" h="3771">
                <a:moveTo>
                  <a:pt x="19075" y="7590"/>
                </a:moveTo>
                <a:cubicBezTo>
                  <a:pt x="19143" y="7590"/>
                  <a:pt x="19204" y="7569"/>
                  <a:pt x="19273" y="7565"/>
                </a:cubicBezTo>
                <a:cubicBezTo>
                  <a:pt x="19281" y="7565"/>
                  <a:pt x="19290" y="7565"/>
                  <a:pt x="19298" y="7565"/>
                </a:cubicBezTo>
              </a:path>
              <a:path w="6550" h="3771">
                <a:moveTo>
                  <a:pt x="19124" y="7813"/>
                </a:moveTo>
                <a:cubicBezTo>
                  <a:pt x="19206" y="7834"/>
                  <a:pt x="19263" y="7838"/>
                  <a:pt x="19348" y="7838"/>
                </a:cubicBezTo>
              </a:path>
              <a:path w="6550" h="3771">
                <a:moveTo>
                  <a:pt x="19596" y="7218"/>
                </a:moveTo>
                <a:cubicBezTo>
                  <a:pt x="19604" y="7467"/>
                  <a:pt x="19635" y="7713"/>
                  <a:pt x="19645" y="7962"/>
                </a:cubicBezTo>
                <a:cubicBezTo>
                  <a:pt x="19647" y="8006"/>
                  <a:pt x="19645" y="8408"/>
                  <a:pt x="19645" y="8384"/>
                </a:cubicBezTo>
                <a:cubicBezTo>
                  <a:pt x="19645" y="8244"/>
                  <a:pt x="19649" y="8096"/>
                  <a:pt x="19695" y="7962"/>
                </a:cubicBezTo>
                <a:cubicBezTo>
                  <a:pt x="19734" y="7848"/>
                  <a:pt x="19859" y="7700"/>
                  <a:pt x="19993" y="7789"/>
                </a:cubicBezTo>
                <a:cubicBezTo>
                  <a:pt x="20126" y="7877"/>
                  <a:pt x="20214" y="8109"/>
                  <a:pt x="20141" y="8260"/>
                </a:cubicBezTo>
                <a:cubicBezTo>
                  <a:pt x="20069" y="8409"/>
                  <a:pt x="19854" y="8405"/>
                  <a:pt x="19720" y="8409"/>
                </a:cubicBezTo>
                <a:cubicBezTo>
                  <a:pt x="19678" y="8409"/>
                  <a:pt x="19662" y="8417"/>
                  <a:pt x="19670" y="8384"/>
                </a:cubicBezTo>
              </a:path>
              <a:path w="6550" h="3771">
                <a:moveTo>
                  <a:pt x="20365" y="7342"/>
                </a:moveTo>
                <a:cubicBezTo>
                  <a:pt x="20365" y="7428"/>
                  <a:pt x="20383" y="7505"/>
                  <a:pt x="20389" y="7590"/>
                </a:cubicBezTo>
                <a:cubicBezTo>
                  <a:pt x="20389" y="7598"/>
                  <a:pt x="20389" y="7607"/>
                  <a:pt x="20389" y="7615"/>
                </a:cubicBezTo>
                <a:cubicBezTo>
                  <a:pt x="20389" y="7526"/>
                  <a:pt x="20351" y="7339"/>
                  <a:pt x="20464" y="7293"/>
                </a:cubicBezTo>
                <a:cubicBezTo>
                  <a:pt x="20502" y="7277"/>
                  <a:pt x="20591" y="7268"/>
                  <a:pt x="20638" y="7268"/>
                </a:cubicBezTo>
                <a:cubicBezTo>
                  <a:pt x="20687" y="7268"/>
                  <a:pt x="20737" y="7268"/>
                  <a:pt x="20786" y="7268"/>
                </a:cubicBezTo>
                <a:cubicBezTo>
                  <a:pt x="20764" y="7523"/>
                  <a:pt x="20689" y="7762"/>
                  <a:pt x="20638" y="8012"/>
                </a:cubicBezTo>
                <a:cubicBezTo>
                  <a:pt x="20622" y="8093"/>
                  <a:pt x="20603" y="8160"/>
                  <a:pt x="20588" y="8235"/>
                </a:cubicBezTo>
              </a:path>
              <a:path w="6550" h="3771">
                <a:moveTo>
                  <a:pt x="19397" y="8458"/>
                </a:moveTo>
                <a:cubicBezTo>
                  <a:pt x="19671" y="8458"/>
                  <a:pt x="19943" y="8487"/>
                  <a:pt x="20216" y="8508"/>
                </a:cubicBezTo>
                <a:cubicBezTo>
                  <a:pt x="20426" y="8524"/>
                  <a:pt x="20629" y="8582"/>
                  <a:pt x="20836" y="8582"/>
                </a:cubicBezTo>
              </a:path>
              <a:path w="6550" h="3771">
                <a:moveTo>
                  <a:pt x="19918" y="8830"/>
                </a:moveTo>
                <a:cubicBezTo>
                  <a:pt x="20013" y="8788"/>
                  <a:pt x="20177" y="8677"/>
                  <a:pt x="20241" y="8806"/>
                </a:cubicBezTo>
                <a:cubicBezTo>
                  <a:pt x="20336" y="8999"/>
                  <a:pt x="20036" y="9173"/>
                  <a:pt x="19918" y="9277"/>
                </a:cubicBezTo>
                <a:cubicBezTo>
                  <a:pt x="19893" y="9302"/>
                  <a:pt x="19885" y="9310"/>
                  <a:pt x="19918" y="9327"/>
                </a:cubicBezTo>
                <a:cubicBezTo>
                  <a:pt x="20069" y="9317"/>
                  <a:pt x="20248" y="9295"/>
                  <a:pt x="20389" y="9252"/>
                </a:cubicBezTo>
                <a:cubicBezTo>
                  <a:pt x="20444" y="9235"/>
                  <a:pt x="20408" y="9210"/>
                  <a:pt x="20464" y="9252"/>
                </a:cubicBezTo>
              </a:path>
              <a:path w="6550" h="3771">
                <a:moveTo>
                  <a:pt x="20935" y="8384"/>
                </a:moveTo>
                <a:cubicBezTo>
                  <a:pt x="20970" y="8367"/>
                  <a:pt x="21121" y="8567"/>
                  <a:pt x="21183" y="8632"/>
                </a:cubicBezTo>
                <a:cubicBezTo>
                  <a:pt x="21191" y="8640"/>
                  <a:pt x="21200" y="8649"/>
                  <a:pt x="21208" y="8657"/>
                </a:cubicBezTo>
              </a:path>
              <a:path w="6550" h="3771">
                <a:moveTo>
                  <a:pt x="21158" y="8260"/>
                </a:moveTo>
                <a:cubicBezTo>
                  <a:pt x="21087" y="8419"/>
                  <a:pt x="21048" y="8607"/>
                  <a:pt x="20960" y="8756"/>
                </a:cubicBezTo>
                <a:cubicBezTo>
                  <a:pt x="20952" y="8764"/>
                  <a:pt x="20943" y="8773"/>
                  <a:pt x="20935" y="8781"/>
                </a:cubicBezTo>
              </a:path>
              <a:path w="6550" h="3771">
                <a:moveTo>
                  <a:pt x="16594" y="7888"/>
                </a:moveTo>
                <a:cubicBezTo>
                  <a:pt x="16622" y="7832"/>
                  <a:pt x="16754" y="8042"/>
                  <a:pt x="16793" y="8086"/>
                </a:cubicBezTo>
                <a:cubicBezTo>
                  <a:pt x="16831" y="8125"/>
                  <a:pt x="16848" y="8127"/>
                  <a:pt x="16842" y="8161"/>
                </a:cubicBezTo>
              </a:path>
              <a:path w="6550" h="3771">
                <a:moveTo>
                  <a:pt x="16818" y="7739"/>
                </a:moveTo>
                <a:cubicBezTo>
                  <a:pt x="16730" y="7871"/>
                  <a:pt x="16642" y="8007"/>
                  <a:pt x="16594" y="8161"/>
                </a:cubicBezTo>
                <a:cubicBezTo>
                  <a:pt x="16594" y="8194"/>
                  <a:pt x="16586" y="8202"/>
                  <a:pt x="16545" y="8186"/>
                </a:cubicBezTo>
              </a:path>
              <a:path w="6550" h="3771">
                <a:moveTo>
                  <a:pt x="15974" y="7590"/>
                </a:moveTo>
                <a:cubicBezTo>
                  <a:pt x="16067" y="7483"/>
                  <a:pt x="16177" y="7480"/>
                  <a:pt x="16272" y="7615"/>
                </a:cubicBezTo>
                <a:cubicBezTo>
                  <a:pt x="16403" y="7802"/>
                  <a:pt x="16265" y="8008"/>
                  <a:pt x="16073" y="8062"/>
                </a:cubicBezTo>
                <a:cubicBezTo>
                  <a:pt x="15981" y="8062"/>
                  <a:pt x="15950" y="8068"/>
                  <a:pt x="15949" y="7987"/>
                </a:cubicBezTo>
                <a:cubicBezTo>
                  <a:pt x="16020" y="7848"/>
                  <a:pt x="16176" y="7864"/>
                  <a:pt x="16321" y="7938"/>
                </a:cubicBezTo>
                <a:cubicBezTo>
                  <a:pt x="16360" y="7976"/>
                  <a:pt x="16377" y="7978"/>
                  <a:pt x="16371" y="8012"/>
                </a:cubicBezTo>
              </a:path>
              <a:path w="6550" h="3771">
                <a:moveTo>
                  <a:pt x="21555" y="7590"/>
                </a:moveTo>
                <a:cubicBezTo>
                  <a:pt x="21555" y="7702"/>
                  <a:pt x="21685" y="7505"/>
                  <a:pt x="21729" y="7466"/>
                </a:cubicBezTo>
                <a:cubicBezTo>
                  <a:pt x="21991" y="7606"/>
                  <a:pt x="21936" y="7804"/>
                  <a:pt x="21754" y="8037"/>
                </a:cubicBezTo>
                <a:cubicBezTo>
                  <a:pt x="21652" y="8119"/>
                  <a:pt x="21638" y="8152"/>
                  <a:pt x="21555" y="8136"/>
                </a:cubicBezTo>
                <a:cubicBezTo>
                  <a:pt x="21590" y="7985"/>
                  <a:pt x="21710" y="7832"/>
                  <a:pt x="21903" y="7888"/>
                </a:cubicBezTo>
                <a:cubicBezTo>
                  <a:pt x="22002" y="7917"/>
                  <a:pt x="22028" y="8004"/>
                  <a:pt x="22051" y="8086"/>
                </a:cubicBezTo>
              </a:path>
              <a:path w="6550" h="3771">
                <a:moveTo>
                  <a:pt x="19372" y="9624"/>
                </a:moveTo>
                <a:cubicBezTo>
                  <a:pt x="19387" y="9608"/>
                  <a:pt x="19410" y="9590"/>
                  <a:pt x="19422" y="9575"/>
                </a:cubicBezTo>
                <a:cubicBezTo>
                  <a:pt x="19513" y="9467"/>
                  <a:pt x="19602" y="9384"/>
                  <a:pt x="19720" y="9302"/>
                </a:cubicBezTo>
                <a:cubicBezTo>
                  <a:pt x="19906" y="9173"/>
                  <a:pt x="20088" y="9044"/>
                  <a:pt x="20265" y="8905"/>
                </a:cubicBezTo>
                <a:cubicBezTo>
                  <a:pt x="20444" y="8765"/>
                  <a:pt x="20585" y="8600"/>
                  <a:pt x="20737" y="8434"/>
                </a:cubicBezTo>
                <a:cubicBezTo>
                  <a:pt x="20849" y="8312"/>
                  <a:pt x="20974" y="8205"/>
                  <a:pt x="21084" y="8086"/>
                </a:cubicBezTo>
                <a:cubicBezTo>
                  <a:pt x="21183" y="7979"/>
                  <a:pt x="21294" y="7901"/>
                  <a:pt x="21406" y="7813"/>
                </a:cubicBezTo>
                <a:cubicBezTo>
                  <a:pt x="21541" y="7707"/>
                  <a:pt x="21663" y="7591"/>
                  <a:pt x="21803" y="7491"/>
                </a:cubicBezTo>
                <a:cubicBezTo>
                  <a:pt x="21858" y="7452"/>
                  <a:pt x="21915" y="7402"/>
                  <a:pt x="21952" y="7367"/>
                </a:cubicBezTo>
                <a:cubicBezTo>
                  <a:pt x="21962" y="7357"/>
                  <a:pt x="22021" y="7295"/>
                  <a:pt x="22027" y="7293"/>
                </a:cubicBezTo>
                <a:cubicBezTo>
                  <a:pt x="22035" y="7301"/>
                  <a:pt x="22043" y="7309"/>
                  <a:pt x="22051" y="7317"/>
                </a:cubicBezTo>
              </a:path>
              <a:path w="6550" h="3771">
                <a:moveTo>
                  <a:pt x="21630" y="8458"/>
                </a:moveTo>
                <a:cubicBezTo>
                  <a:pt x="21630" y="8430"/>
                  <a:pt x="21627" y="8420"/>
                  <a:pt x="21605" y="8409"/>
                </a:cubicBezTo>
                <a:cubicBezTo>
                  <a:pt x="21762" y="8409"/>
                  <a:pt x="21897" y="8383"/>
                  <a:pt x="22051" y="8359"/>
                </a:cubicBezTo>
                <a:cubicBezTo>
                  <a:pt x="22059" y="8359"/>
                  <a:pt x="22068" y="8359"/>
                  <a:pt x="22076" y="8359"/>
                </a:cubicBezTo>
              </a:path>
              <a:path w="6550" h="3771">
                <a:moveTo>
                  <a:pt x="21779" y="8533"/>
                </a:moveTo>
                <a:cubicBezTo>
                  <a:pt x="21779" y="8702"/>
                  <a:pt x="21775" y="8863"/>
                  <a:pt x="21754" y="9029"/>
                </a:cubicBezTo>
                <a:cubicBezTo>
                  <a:pt x="21754" y="9037"/>
                  <a:pt x="21754" y="9046"/>
                  <a:pt x="21754" y="9054"/>
                </a:cubicBezTo>
              </a:path>
              <a:path w="6550" h="3771">
                <a:moveTo>
                  <a:pt x="22423" y="5879"/>
                </a:moveTo>
                <a:cubicBezTo>
                  <a:pt x="22367" y="5938"/>
                  <a:pt x="22339" y="5957"/>
                  <a:pt x="22299" y="6028"/>
                </a:cubicBezTo>
                <a:cubicBezTo>
                  <a:pt x="22262" y="6121"/>
                  <a:pt x="22269" y="6140"/>
                  <a:pt x="22225" y="6176"/>
                </a:cubicBezTo>
                <a:cubicBezTo>
                  <a:pt x="22261" y="6205"/>
                  <a:pt x="22360" y="6263"/>
                  <a:pt x="22349" y="6325"/>
                </a:cubicBezTo>
                <a:cubicBezTo>
                  <a:pt x="22328" y="6442"/>
                  <a:pt x="22265" y="6554"/>
                  <a:pt x="22250" y="6672"/>
                </a:cubicBezTo>
                <a:cubicBezTo>
                  <a:pt x="22310" y="6713"/>
                  <a:pt x="22333" y="6677"/>
                  <a:pt x="22324" y="6772"/>
                </a:cubicBezTo>
                <a:cubicBezTo>
                  <a:pt x="22312" y="6906"/>
                  <a:pt x="22192" y="7146"/>
                  <a:pt x="22275" y="7268"/>
                </a:cubicBezTo>
                <a:cubicBezTo>
                  <a:pt x="22309" y="7319"/>
                  <a:pt x="22361" y="7340"/>
                  <a:pt x="22399" y="7417"/>
                </a:cubicBezTo>
                <a:cubicBezTo>
                  <a:pt x="22433" y="7486"/>
                  <a:pt x="22427" y="7481"/>
                  <a:pt x="2249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760" y="3732120"/>
            <a:ext cx="366480" cy="304920"/>
          </a:xfrm>
          <a:custGeom>
            <a:avLst/>
            <a:gdLst/>
            <a:ahLst/>
            <a:rect l="l" t="t" r="r" b="b"/>
            <a:pathLst>
              <a:path w="1018" h="845">
                <a:moveTo>
                  <a:pt x="17289" y="10368"/>
                </a:moveTo>
                <a:cubicBezTo>
                  <a:pt x="17229" y="10390"/>
                  <a:pt x="17025" y="10411"/>
                  <a:pt x="17016" y="10443"/>
                </a:cubicBezTo>
                <a:cubicBezTo>
                  <a:pt x="16976" y="10589"/>
                  <a:pt x="16991" y="10740"/>
                  <a:pt x="16991" y="10889"/>
                </a:cubicBezTo>
                <a:cubicBezTo>
                  <a:pt x="17172" y="10838"/>
                  <a:pt x="17216" y="10817"/>
                  <a:pt x="17388" y="10889"/>
                </a:cubicBezTo>
                <a:cubicBezTo>
                  <a:pt x="17380" y="11025"/>
                  <a:pt x="17202" y="11361"/>
                  <a:pt x="16991" y="11187"/>
                </a:cubicBezTo>
                <a:cubicBezTo>
                  <a:pt x="16991" y="11154"/>
                  <a:pt x="16991" y="11121"/>
                  <a:pt x="16991" y="11088"/>
                </a:cubicBezTo>
              </a:path>
              <a:path w="1018" h="845">
                <a:moveTo>
                  <a:pt x="17512" y="10393"/>
                </a:moveTo>
                <a:cubicBezTo>
                  <a:pt x="17512" y="10520"/>
                  <a:pt x="17524" y="10665"/>
                  <a:pt x="17537" y="10790"/>
                </a:cubicBezTo>
                <a:cubicBezTo>
                  <a:pt x="17553" y="10944"/>
                  <a:pt x="17628" y="11190"/>
                  <a:pt x="17835" y="11088"/>
                </a:cubicBezTo>
                <a:cubicBezTo>
                  <a:pt x="18011" y="11002"/>
                  <a:pt x="17996" y="10906"/>
                  <a:pt x="17959" y="10765"/>
                </a:cubicBezTo>
                <a:cubicBezTo>
                  <a:pt x="17803" y="10765"/>
                  <a:pt x="17710" y="10866"/>
                  <a:pt x="17661" y="11038"/>
                </a:cubicBezTo>
                <a:cubicBezTo>
                  <a:pt x="17661" y="11063"/>
                  <a:pt x="17661" y="11087"/>
                  <a:pt x="1766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53200" y="3606840"/>
            <a:ext cx="419040" cy="349200"/>
          </a:xfrm>
          <a:custGeom>
            <a:avLst/>
            <a:gdLst/>
            <a:ahLst/>
            <a:rect l="l" t="t" r="r" b="b"/>
            <a:pathLst>
              <a:path w="1166" h="968">
                <a:moveTo>
                  <a:pt x="19869" y="10120"/>
                </a:moveTo>
                <a:cubicBezTo>
                  <a:pt x="19933" y="10331"/>
                  <a:pt x="20057" y="10543"/>
                  <a:pt x="20117" y="10765"/>
                </a:cubicBezTo>
                <a:cubicBezTo>
                  <a:pt x="20136" y="10883"/>
                  <a:pt x="20130" y="10904"/>
                  <a:pt x="20166" y="10964"/>
                </a:cubicBezTo>
                <a:cubicBezTo>
                  <a:pt x="20078" y="10875"/>
                  <a:pt x="20095" y="10739"/>
                  <a:pt x="20141" y="10616"/>
                </a:cubicBezTo>
                <a:cubicBezTo>
                  <a:pt x="20191" y="10517"/>
                  <a:pt x="20207" y="10484"/>
                  <a:pt x="20290" y="10468"/>
                </a:cubicBezTo>
                <a:cubicBezTo>
                  <a:pt x="20430" y="10542"/>
                  <a:pt x="20557" y="10674"/>
                  <a:pt x="20464" y="10864"/>
                </a:cubicBezTo>
                <a:cubicBezTo>
                  <a:pt x="20395" y="11005"/>
                  <a:pt x="20197" y="10988"/>
                  <a:pt x="20067" y="10988"/>
                </a:cubicBezTo>
              </a:path>
              <a:path w="1166" h="968">
                <a:moveTo>
                  <a:pt x="20638" y="10170"/>
                </a:moveTo>
                <a:cubicBezTo>
                  <a:pt x="20672" y="10369"/>
                  <a:pt x="20667" y="10371"/>
                  <a:pt x="20613" y="10170"/>
                </a:cubicBezTo>
                <a:cubicBezTo>
                  <a:pt x="20613" y="10162"/>
                  <a:pt x="20613" y="10153"/>
                  <a:pt x="20613" y="10145"/>
                </a:cubicBezTo>
                <a:cubicBezTo>
                  <a:pt x="20716" y="10100"/>
                  <a:pt x="20827" y="10052"/>
                  <a:pt x="20935" y="10021"/>
                </a:cubicBezTo>
                <a:cubicBezTo>
                  <a:pt x="20960" y="10021"/>
                  <a:pt x="20968" y="10021"/>
                  <a:pt x="20985" y="10021"/>
                </a:cubicBezTo>
                <a:cubicBezTo>
                  <a:pt x="20985" y="10206"/>
                  <a:pt x="20995" y="10408"/>
                  <a:pt x="21010" y="10592"/>
                </a:cubicBezTo>
                <a:cubicBezTo>
                  <a:pt x="21017" y="10674"/>
                  <a:pt x="21034" y="10719"/>
                  <a:pt x="21034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5080" y="3643200"/>
            <a:ext cx="26820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051" y="10294"/>
                </a:moveTo>
                <a:cubicBezTo>
                  <a:pt x="21921" y="10214"/>
                  <a:pt x="21870" y="10441"/>
                  <a:pt x="21903" y="10542"/>
                </a:cubicBezTo>
                <a:cubicBezTo>
                  <a:pt x="21928" y="10567"/>
                  <a:pt x="21952" y="10591"/>
                  <a:pt x="21977" y="10616"/>
                </a:cubicBezTo>
                <a:cubicBezTo>
                  <a:pt x="22107" y="10559"/>
                  <a:pt x="22340" y="10369"/>
                  <a:pt x="22076" y="10269"/>
                </a:cubicBezTo>
                <a:cubicBezTo>
                  <a:pt x="22002" y="10269"/>
                  <a:pt x="21969" y="10244"/>
                  <a:pt x="21977" y="10294"/>
                </a:cubicBezTo>
              </a:path>
              <a:path w="745" h="497">
                <a:moveTo>
                  <a:pt x="22448" y="10443"/>
                </a:moveTo>
                <a:cubicBezTo>
                  <a:pt x="22491" y="10486"/>
                  <a:pt x="22418" y="10342"/>
                  <a:pt x="22448" y="10269"/>
                </a:cubicBezTo>
                <a:cubicBezTo>
                  <a:pt x="22525" y="10167"/>
                  <a:pt x="22553" y="10133"/>
                  <a:pt x="22647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48760" y="3562200"/>
            <a:ext cx="447480" cy="260640"/>
          </a:xfrm>
          <a:custGeom>
            <a:avLst/>
            <a:gdLst/>
            <a:ahLst/>
            <a:rect l="l" t="t" r="r" b="b"/>
            <a:pathLst>
              <a:path w="1242" h="720">
                <a:moveTo>
                  <a:pt x="23192" y="10021"/>
                </a:moveTo>
                <a:cubicBezTo>
                  <a:pt x="23358" y="9988"/>
                  <a:pt x="23520" y="9937"/>
                  <a:pt x="23688" y="9922"/>
                </a:cubicBezTo>
                <a:cubicBezTo>
                  <a:pt x="23768" y="10054"/>
                  <a:pt x="23736" y="10288"/>
                  <a:pt x="23738" y="10443"/>
                </a:cubicBezTo>
                <a:cubicBezTo>
                  <a:pt x="23739" y="10539"/>
                  <a:pt x="23704" y="10597"/>
                  <a:pt x="23763" y="10616"/>
                </a:cubicBezTo>
              </a:path>
              <a:path w="1242" h="720">
                <a:moveTo>
                  <a:pt x="23961" y="9897"/>
                </a:moveTo>
                <a:cubicBezTo>
                  <a:pt x="24023" y="10119"/>
                  <a:pt x="24114" y="10316"/>
                  <a:pt x="24085" y="10542"/>
                </a:cubicBezTo>
                <a:cubicBezTo>
                  <a:pt x="24085" y="10439"/>
                  <a:pt x="24030" y="10223"/>
                  <a:pt x="24160" y="10170"/>
                </a:cubicBezTo>
                <a:cubicBezTo>
                  <a:pt x="24314" y="10107"/>
                  <a:pt x="24371" y="10250"/>
                  <a:pt x="24433" y="10344"/>
                </a:cubicBezTo>
                <a:cubicBezTo>
                  <a:pt x="24329" y="10458"/>
                  <a:pt x="24241" y="10495"/>
                  <a:pt x="24085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05680" y="2133720"/>
            <a:ext cx="2046240" cy="3733560"/>
          </a:xfrm>
          <a:custGeom>
            <a:avLst/>
            <a:gdLst/>
            <a:ahLst/>
            <a:rect l="l" t="t" r="r" b="b"/>
            <a:pathLst>
              <a:path w="5682" h="10370">
                <a:moveTo>
                  <a:pt x="17711" y="12328"/>
                </a:moveTo>
                <a:cubicBezTo>
                  <a:pt x="17617" y="12344"/>
                  <a:pt x="17452" y="12406"/>
                  <a:pt x="17388" y="12477"/>
                </a:cubicBezTo>
                <a:cubicBezTo>
                  <a:pt x="17338" y="12533"/>
                  <a:pt x="17363" y="12703"/>
                  <a:pt x="17363" y="12774"/>
                </a:cubicBezTo>
                <a:cubicBezTo>
                  <a:pt x="17363" y="12782"/>
                  <a:pt x="17363" y="12791"/>
                  <a:pt x="17363" y="12799"/>
                </a:cubicBezTo>
                <a:cubicBezTo>
                  <a:pt x="17501" y="12784"/>
                  <a:pt x="17652" y="12713"/>
                  <a:pt x="17760" y="12849"/>
                </a:cubicBezTo>
                <a:cubicBezTo>
                  <a:pt x="17865" y="12981"/>
                  <a:pt x="17464" y="13159"/>
                  <a:pt x="17388" y="13146"/>
                </a:cubicBezTo>
                <a:cubicBezTo>
                  <a:pt x="17371" y="13121"/>
                  <a:pt x="17355" y="13097"/>
                  <a:pt x="17338" y="13072"/>
                </a:cubicBezTo>
              </a:path>
              <a:path w="5682" h="10370">
                <a:moveTo>
                  <a:pt x="17884" y="12303"/>
                </a:moveTo>
                <a:cubicBezTo>
                  <a:pt x="17905" y="12469"/>
                  <a:pt x="17924" y="12664"/>
                  <a:pt x="17959" y="12824"/>
                </a:cubicBezTo>
                <a:cubicBezTo>
                  <a:pt x="17995" y="12986"/>
                  <a:pt x="18166" y="13130"/>
                  <a:pt x="18306" y="12948"/>
                </a:cubicBezTo>
                <a:cubicBezTo>
                  <a:pt x="18414" y="12808"/>
                  <a:pt x="18394" y="12727"/>
                  <a:pt x="18306" y="12626"/>
                </a:cubicBezTo>
                <a:cubicBezTo>
                  <a:pt x="18160" y="12722"/>
                  <a:pt x="18132" y="12798"/>
                  <a:pt x="18157" y="12973"/>
                </a:cubicBezTo>
              </a:path>
              <a:path w="5682" h="10370">
                <a:moveTo>
                  <a:pt x="18554" y="12477"/>
                </a:moveTo>
                <a:cubicBezTo>
                  <a:pt x="18653" y="12477"/>
                  <a:pt x="18753" y="12477"/>
                  <a:pt x="18852" y="12477"/>
                </a:cubicBezTo>
              </a:path>
              <a:path w="5682" h="10370">
                <a:moveTo>
                  <a:pt x="18579" y="12750"/>
                </a:moveTo>
                <a:cubicBezTo>
                  <a:pt x="18691" y="12739"/>
                  <a:pt x="18790" y="12700"/>
                  <a:pt x="18901" y="12700"/>
                </a:cubicBezTo>
              </a:path>
              <a:path w="5682" h="10370">
                <a:moveTo>
                  <a:pt x="19174" y="12229"/>
                </a:moveTo>
                <a:cubicBezTo>
                  <a:pt x="19305" y="12229"/>
                  <a:pt x="19417" y="12196"/>
                  <a:pt x="19546" y="12179"/>
                </a:cubicBezTo>
                <a:cubicBezTo>
                  <a:pt x="19563" y="12179"/>
                  <a:pt x="19579" y="12179"/>
                  <a:pt x="19596" y="12179"/>
                </a:cubicBezTo>
                <a:cubicBezTo>
                  <a:pt x="19638" y="12333"/>
                  <a:pt x="19600" y="12488"/>
                  <a:pt x="19596" y="12650"/>
                </a:cubicBezTo>
                <a:cubicBezTo>
                  <a:pt x="19596" y="12716"/>
                  <a:pt x="19596" y="12733"/>
                  <a:pt x="19596" y="12774"/>
                </a:cubicBezTo>
              </a:path>
              <a:path w="5682" h="10370">
                <a:moveTo>
                  <a:pt x="19695" y="12080"/>
                </a:moveTo>
                <a:cubicBezTo>
                  <a:pt x="19796" y="12181"/>
                  <a:pt x="19872" y="12448"/>
                  <a:pt x="19918" y="12601"/>
                </a:cubicBezTo>
                <a:cubicBezTo>
                  <a:pt x="19938" y="12702"/>
                  <a:pt x="19936" y="12722"/>
                  <a:pt x="19968" y="12774"/>
                </a:cubicBezTo>
                <a:cubicBezTo>
                  <a:pt x="19925" y="12662"/>
                  <a:pt x="19934" y="12475"/>
                  <a:pt x="20067" y="12402"/>
                </a:cubicBezTo>
                <a:cubicBezTo>
                  <a:pt x="20183" y="12380"/>
                  <a:pt x="20216" y="12370"/>
                  <a:pt x="20290" y="12402"/>
                </a:cubicBezTo>
                <a:cubicBezTo>
                  <a:pt x="20338" y="12556"/>
                  <a:pt x="20339" y="12682"/>
                  <a:pt x="20166" y="12774"/>
                </a:cubicBezTo>
                <a:cubicBezTo>
                  <a:pt x="20100" y="12809"/>
                  <a:pt x="20044" y="12814"/>
                  <a:pt x="20017" y="12774"/>
                </a:cubicBezTo>
              </a:path>
              <a:path w="5682" h="10370">
                <a:moveTo>
                  <a:pt x="17884" y="16272"/>
                </a:moveTo>
                <a:cubicBezTo>
                  <a:pt x="17861" y="16295"/>
                  <a:pt x="17853" y="16306"/>
                  <a:pt x="17859" y="16272"/>
                </a:cubicBezTo>
              </a:path>
              <a:path w="5682" h="10370">
                <a:moveTo>
                  <a:pt x="19422" y="12998"/>
                </a:moveTo>
                <a:cubicBezTo>
                  <a:pt x="19614" y="12998"/>
                  <a:pt x="20446" y="12887"/>
                  <a:pt x="20538" y="13022"/>
                </a:cubicBezTo>
              </a:path>
              <a:path w="5682" h="10370">
                <a:moveTo>
                  <a:pt x="19571" y="13246"/>
                </a:moveTo>
                <a:cubicBezTo>
                  <a:pt x="19662" y="13276"/>
                  <a:pt x="19809" y="13214"/>
                  <a:pt x="19918" y="13196"/>
                </a:cubicBezTo>
                <a:cubicBezTo>
                  <a:pt x="19943" y="13196"/>
                  <a:pt x="19951" y="13196"/>
                  <a:pt x="19968" y="13196"/>
                </a:cubicBezTo>
                <a:cubicBezTo>
                  <a:pt x="19934" y="13350"/>
                  <a:pt x="19907" y="13511"/>
                  <a:pt x="19869" y="13667"/>
                </a:cubicBezTo>
                <a:cubicBezTo>
                  <a:pt x="19850" y="13725"/>
                  <a:pt x="19841" y="13732"/>
                  <a:pt x="19844" y="13767"/>
                </a:cubicBezTo>
              </a:path>
              <a:path w="5682" h="10370">
                <a:moveTo>
                  <a:pt x="17239" y="13246"/>
                </a:moveTo>
                <a:cubicBezTo>
                  <a:pt x="17468" y="13217"/>
                  <a:pt x="17704" y="13163"/>
                  <a:pt x="17934" y="13146"/>
                </a:cubicBezTo>
                <a:cubicBezTo>
                  <a:pt x="17970" y="13143"/>
                  <a:pt x="18407" y="13083"/>
                  <a:pt x="18455" y="13122"/>
                </a:cubicBezTo>
                <a:cubicBezTo>
                  <a:pt x="18455" y="13130"/>
                  <a:pt x="18455" y="13138"/>
                  <a:pt x="18455" y="13146"/>
                </a:cubicBezTo>
              </a:path>
              <a:path w="5682" h="10370">
                <a:moveTo>
                  <a:pt x="17636" y="13519"/>
                </a:moveTo>
                <a:cubicBezTo>
                  <a:pt x="17718" y="13519"/>
                  <a:pt x="17755" y="13469"/>
                  <a:pt x="17835" y="13444"/>
                </a:cubicBezTo>
                <a:cubicBezTo>
                  <a:pt x="17917" y="13419"/>
                  <a:pt x="17977" y="13419"/>
                  <a:pt x="18058" y="13419"/>
                </a:cubicBezTo>
                <a:cubicBezTo>
                  <a:pt x="18035" y="13601"/>
                  <a:pt x="17962" y="13751"/>
                  <a:pt x="17884" y="13915"/>
                </a:cubicBezTo>
                <a:cubicBezTo>
                  <a:pt x="17849" y="13988"/>
                  <a:pt x="17802" y="14020"/>
                  <a:pt x="17859" y="14039"/>
                </a:cubicBezTo>
              </a:path>
              <a:path w="5682" h="10370">
                <a:moveTo>
                  <a:pt x="19348" y="12080"/>
                </a:moveTo>
                <a:cubicBezTo>
                  <a:pt x="19348" y="12039"/>
                  <a:pt x="19335" y="12067"/>
                  <a:pt x="19323" y="12030"/>
                </a:cubicBezTo>
              </a:path>
              <a:path w="5682" h="10370">
                <a:moveTo>
                  <a:pt x="19323" y="12055"/>
                </a:moveTo>
                <a:lnTo>
                  <a:pt x="19323" y="12055"/>
                </a:lnTo>
              </a:path>
              <a:path w="5682" h="10370">
                <a:moveTo>
                  <a:pt x="19348" y="12105"/>
                </a:moveTo>
                <a:cubicBezTo>
                  <a:pt x="19363" y="12172"/>
                  <a:pt x="19392" y="12234"/>
                  <a:pt x="19422" y="12303"/>
                </a:cubicBezTo>
                <a:cubicBezTo>
                  <a:pt x="19452" y="12373"/>
                  <a:pt x="19472" y="12432"/>
                  <a:pt x="19496" y="12502"/>
                </a:cubicBezTo>
                <a:cubicBezTo>
                  <a:pt x="19527" y="12592"/>
                  <a:pt x="19560" y="12686"/>
                  <a:pt x="19596" y="12774"/>
                </a:cubicBezTo>
                <a:cubicBezTo>
                  <a:pt x="19630" y="12856"/>
                  <a:pt x="19662" y="12913"/>
                  <a:pt x="19695" y="12998"/>
                </a:cubicBezTo>
                <a:cubicBezTo>
                  <a:pt x="19733" y="13096"/>
                  <a:pt x="19782" y="13217"/>
                  <a:pt x="19794" y="13320"/>
                </a:cubicBezTo>
                <a:cubicBezTo>
                  <a:pt x="19809" y="13442"/>
                  <a:pt x="19845" y="13550"/>
                  <a:pt x="19869" y="13667"/>
                </a:cubicBezTo>
                <a:cubicBezTo>
                  <a:pt x="19878" y="13711"/>
                  <a:pt x="19880" y="13749"/>
                  <a:pt x="19893" y="13791"/>
                </a:cubicBezTo>
                <a:cubicBezTo>
                  <a:pt x="19901" y="13818"/>
                  <a:pt x="19908" y="13840"/>
                  <a:pt x="19918" y="13866"/>
                </a:cubicBezTo>
              </a:path>
              <a:path w="5682" h="10370">
                <a:moveTo>
                  <a:pt x="22845" y="5928"/>
                </a:moveTo>
                <a:lnTo>
                  <a:pt x="22845" y="5928"/>
                </a:lnTo>
              </a:path>
              <a:path w="5682" h="10370">
                <a:moveTo>
                  <a:pt x="22845" y="5953"/>
                </a:moveTo>
                <a:cubicBezTo>
                  <a:pt x="22867" y="6104"/>
                  <a:pt x="22889" y="6252"/>
                  <a:pt x="22920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24920" y="2009880"/>
            <a:ext cx="795240" cy="911160"/>
          </a:xfrm>
          <a:custGeom>
            <a:avLst/>
            <a:gdLst/>
            <a:ahLst/>
            <a:rect l="l" t="t" r="r" b="b"/>
            <a:pathLst>
              <a:path w="2209" h="2531">
                <a:moveTo>
                  <a:pt x="24780" y="5581"/>
                </a:moveTo>
                <a:cubicBezTo>
                  <a:pt x="24808" y="5592"/>
                  <a:pt x="25030" y="5647"/>
                  <a:pt x="25028" y="5705"/>
                </a:cubicBezTo>
                <a:cubicBezTo>
                  <a:pt x="25024" y="5855"/>
                  <a:pt x="24905" y="6008"/>
                  <a:pt x="24829" y="6127"/>
                </a:cubicBezTo>
                <a:cubicBezTo>
                  <a:pt x="24904" y="6176"/>
                  <a:pt x="24964" y="6169"/>
                  <a:pt x="24978" y="6276"/>
                </a:cubicBezTo>
                <a:cubicBezTo>
                  <a:pt x="24993" y="6389"/>
                  <a:pt x="24917" y="6444"/>
                  <a:pt x="24904" y="6548"/>
                </a:cubicBezTo>
                <a:cubicBezTo>
                  <a:pt x="24981" y="6559"/>
                  <a:pt x="24978" y="6564"/>
                  <a:pt x="25028" y="6648"/>
                </a:cubicBezTo>
                <a:cubicBezTo>
                  <a:pt x="25106" y="6777"/>
                  <a:pt x="25000" y="6913"/>
                  <a:pt x="24929" y="7020"/>
                </a:cubicBezTo>
                <a:cubicBezTo>
                  <a:pt x="24897" y="7068"/>
                  <a:pt x="24853" y="7070"/>
                  <a:pt x="24805" y="7094"/>
                </a:cubicBezTo>
              </a:path>
              <a:path w="2209" h="2531">
                <a:moveTo>
                  <a:pt x="22845" y="5953"/>
                </a:moveTo>
                <a:cubicBezTo>
                  <a:pt x="22845" y="5928"/>
                  <a:pt x="22845" y="5920"/>
                  <a:pt x="22845" y="5904"/>
                </a:cubicBezTo>
              </a:path>
              <a:path w="2209" h="2531">
                <a:moveTo>
                  <a:pt x="23143" y="5779"/>
                </a:moveTo>
                <a:cubicBezTo>
                  <a:pt x="23143" y="5854"/>
                  <a:pt x="23143" y="5928"/>
                  <a:pt x="23143" y="6003"/>
                </a:cubicBezTo>
                <a:cubicBezTo>
                  <a:pt x="23225" y="6003"/>
                  <a:pt x="23288" y="5991"/>
                  <a:pt x="23366" y="5978"/>
                </a:cubicBezTo>
              </a:path>
              <a:path w="2209" h="2531">
                <a:moveTo>
                  <a:pt x="23341" y="5655"/>
                </a:moveTo>
                <a:cubicBezTo>
                  <a:pt x="23341" y="5838"/>
                  <a:pt x="23362" y="6017"/>
                  <a:pt x="23366" y="6201"/>
                </a:cubicBezTo>
                <a:cubicBezTo>
                  <a:pt x="23366" y="6286"/>
                  <a:pt x="23360" y="6306"/>
                  <a:pt x="23391" y="6350"/>
                </a:cubicBezTo>
              </a:path>
              <a:path w="2209" h="2531">
                <a:moveTo>
                  <a:pt x="23515" y="5680"/>
                </a:moveTo>
                <a:cubicBezTo>
                  <a:pt x="23570" y="5828"/>
                  <a:pt x="23644" y="5975"/>
                  <a:pt x="23688" y="6127"/>
                </a:cubicBezTo>
                <a:cubicBezTo>
                  <a:pt x="23688" y="6135"/>
                  <a:pt x="23688" y="6144"/>
                  <a:pt x="23688" y="6152"/>
                </a:cubicBezTo>
                <a:cubicBezTo>
                  <a:pt x="23721" y="6069"/>
                  <a:pt x="23847" y="6003"/>
                  <a:pt x="23937" y="6077"/>
                </a:cubicBezTo>
                <a:cubicBezTo>
                  <a:pt x="24073" y="6189"/>
                  <a:pt x="23827" y="6287"/>
                  <a:pt x="23763" y="6300"/>
                </a:cubicBezTo>
                <a:cubicBezTo>
                  <a:pt x="23746" y="6300"/>
                  <a:pt x="23730" y="6300"/>
                  <a:pt x="23713" y="6300"/>
                </a:cubicBezTo>
              </a:path>
              <a:path w="2209" h="2531">
                <a:moveTo>
                  <a:pt x="23068" y="6573"/>
                </a:moveTo>
                <a:cubicBezTo>
                  <a:pt x="23339" y="6518"/>
                  <a:pt x="23614" y="6424"/>
                  <a:pt x="23887" y="6400"/>
                </a:cubicBezTo>
                <a:cubicBezTo>
                  <a:pt x="23912" y="6400"/>
                  <a:pt x="23920" y="6400"/>
                  <a:pt x="23937" y="6400"/>
                </a:cubicBezTo>
              </a:path>
              <a:path w="2209" h="2531">
                <a:moveTo>
                  <a:pt x="23391" y="6846"/>
                </a:moveTo>
                <a:cubicBezTo>
                  <a:pt x="23461" y="6818"/>
                  <a:pt x="23503" y="6781"/>
                  <a:pt x="23589" y="6772"/>
                </a:cubicBezTo>
                <a:cubicBezTo>
                  <a:pt x="23668" y="6908"/>
                  <a:pt x="23624" y="6988"/>
                  <a:pt x="23540" y="7119"/>
                </a:cubicBezTo>
                <a:cubicBezTo>
                  <a:pt x="23493" y="7192"/>
                  <a:pt x="23453" y="7241"/>
                  <a:pt x="23416" y="7317"/>
                </a:cubicBezTo>
                <a:cubicBezTo>
                  <a:pt x="23501" y="7300"/>
                  <a:pt x="23581" y="7235"/>
                  <a:pt x="23664" y="7218"/>
                </a:cubicBezTo>
                <a:cubicBezTo>
                  <a:pt x="23732" y="7204"/>
                  <a:pt x="23816" y="7218"/>
                  <a:pt x="23887" y="7218"/>
                </a:cubicBezTo>
              </a:path>
              <a:path w="2209" h="2531">
                <a:moveTo>
                  <a:pt x="22920" y="5680"/>
                </a:moveTo>
                <a:cubicBezTo>
                  <a:pt x="22959" y="5849"/>
                  <a:pt x="23041" y="5967"/>
                  <a:pt x="23118" y="6127"/>
                </a:cubicBezTo>
                <a:cubicBezTo>
                  <a:pt x="23289" y="6482"/>
                  <a:pt x="23500" y="6804"/>
                  <a:pt x="23688" y="7144"/>
                </a:cubicBezTo>
                <a:cubicBezTo>
                  <a:pt x="23730" y="7220"/>
                  <a:pt x="23773" y="7320"/>
                  <a:pt x="23812" y="7392"/>
                </a:cubicBezTo>
              </a:path>
              <a:path w="2209" h="2531">
                <a:moveTo>
                  <a:pt x="23316" y="7541"/>
                </a:moveTo>
                <a:cubicBezTo>
                  <a:pt x="23458" y="7549"/>
                  <a:pt x="23595" y="7565"/>
                  <a:pt x="23738" y="7565"/>
                </a:cubicBezTo>
                <a:cubicBezTo>
                  <a:pt x="23746" y="7565"/>
                  <a:pt x="23755" y="7565"/>
                  <a:pt x="23763" y="7565"/>
                </a:cubicBezTo>
                <a:cubicBezTo>
                  <a:pt x="23759" y="7689"/>
                  <a:pt x="23677" y="8003"/>
                  <a:pt x="23738" y="8111"/>
                </a:cubicBezTo>
                <a:cubicBezTo>
                  <a:pt x="23746" y="8111"/>
                  <a:pt x="23755" y="8111"/>
                  <a:pt x="23763" y="8111"/>
                </a:cubicBezTo>
              </a:path>
              <a:path w="2209" h="2531">
                <a:moveTo>
                  <a:pt x="24036" y="7491"/>
                </a:moveTo>
                <a:cubicBezTo>
                  <a:pt x="24058" y="7657"/>
                  <a:pt x="24109" y="7791"/>
                  <a:pt x="24061" y="7962"/>
                </a:cubicBezTo>
                <a:cubicBezTo>
                  <a:pt x="24053" y="7979"/>
                  <a:pt x="24044" y="7995"/>
                  <a:pt x="24036" y="8012"/>
                </a:cubicBezTo>
                <a:cubicBezTo>
                  <a:pt x="23954" y="7951"/>
                  <a:pt x="23991" y="7805"/>
                  <a:pt x="24085" y="7739"/>
                </a:cubicBezTo>
                <a:cubicBezTo>
                  <a:pt x="24118" y="7731"/>
                  <a:pt x="24152" y="7722"/>
                  <a:pt x="24185" y="7714"/>
                </a:cubicBezTo>
                <a:cubicBezTo>
                  <a:pt x="24287" y="7798"/>
                  <a:pt x="24371" y="7893"/>
                  <a:pt x="24234" y="8012"/>
                </a:cubicBezTo>
                <a:cubicBezTo>
                  <a:pt x="24142" y="8092"/>
                  <a:pt x="24070" y="8102"/>
                  <a:pt x="23961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45200" y="5241960"/>
            <a:ext cx="233640" cy="428760"/>
          </a:xfrm>
          <a:custGeom>
            <a:avLst/>
            <a:gdLst/>
            <a:ahLst/>
            <a:rect l="l" t="t" r="r" b="b"/>
            <a:pathLst>
              <a:path w="646" h="1192">
                <a:moveTo>
                  <a:pt x="19571" y="14560"/>
                </a:moveTo>
                <a:cubicBezTo>
                  <a:pt x="19580" y="14691"/>
                  <a:pt x="19621" y="14802"/>
                  <a:pt x="19645" y="14932"/>
                </a:cubicBezTo>
                <a:cubicBezTo>
                  <a:pt x="19686" y="15160"/>
                  <a:pt x="19703" y="15397"/>
                  <a:pt x="19720" y="15627"/>
                </a:cubicBezTo>
                <a:cubicBezTo>
                  <a:pt x="19725" y="15699"/>
                  <a:pt x="19720" y="15594"/>
                  <a:pt x="19720" y="15577"/>
                </a:cubicBezTo>
                <a:cubicBezTo>
                  <a:pt x="19747" y="15434"/>
                  <a:pt x="19738" y="15284"/>
                  <a:pt x="19819" y="15156"/>
                </a:cubicBezTo>
                <a:cubicBezTo>
                  <a:pt x="19880" y="15059"/>
                  <a:pt x="20063" y="15050"/>
                  <a:pt x="20141" y="15131"/>
                </a:cubicBezTo>
                <a:cubicBezTo>
                  <a:pt x="20246" y="15240"/>
                  <a:pt x="20235" y="15435"/>
                  <a:pt x="20166" y="15553"/>
                </a:cubicBezTo>
                <a:cubicBezTo>
                  <a:pt x="20086" y="15691"/>
                  <a:pt x="19851" y="15758"/>
                  <a:pt x="19695" y="15751"/>
                </a:cubicBezTo>
                <a:cubicBezTo>
                  <a:pt x="19672" y="15728"/>
                  <a:pt x="19668" y="15720"/>
                  <a:pt x="19645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0160" y="5446800"/>
            <a:ext cx="1508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18554" y="15180"/>
                </a:moveTo>
                <a:cubicBezTo>
                  <a:pt x="18679" y="15171"/>
                  <a:pt x="18801" y="15137"/>
                  <a:pt x="18926" y="15131"/>
                </a:cubicBezTo>
                <a:cubicBezTo>
                  <a:pt x="18968" y="15131"/>
                  <a:pt x="18984" y="15123"/>
                  <a:pt x="18976" y="15156"/>
                </a:cubicBezTo>
              </a:path>
              <a:path w="423" h="423">
                <a:moveTo>
                  <a:pt x="18579" y="15553"/>
                </a:moveTo>
                <a:cubicBezTo>
                  <a:pt x="18680" y="15553"/>
                  <a:pt x="18775" y="15532"/>
                  <a:pt x="18876" y="15528"/>
                </a:cubicBezTo>
                <a:cubicBezTo>
                  <a:pt x="18893" y="15528"/>
                  <a:pt x="18909" y="15528"/>
                  <a:pt x="1892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9680" y="5384880"/>
            <a:ext cx="196560" cy="384120"/>
          </a:xfrm>
          <a:custGeom>
            <a:avLst/>
            <a:gdLst/>
            <a:ahLst/>
            <a:rect l="l" t="t" r="r" b="b"/>
            <a:pathLst>
              <a:path w="547" h="1068">
                <a:moveTo>
                  <a:pt x="17859" y="15056"/>
                </a:moveTo>
                <a:cubicBezTo>
                  <a:pt x="17884" y="15023"/>
                  <a:pt x="17905" y="15012"/>
                  <a:pt x="17835" y="14982"/>
                </a:cubicBezTo>
                <a:cubicBezTo>
                  <a:pt x="17704" y="14925"/>
                  <a:pt x="17493" y="15015"/>
                  <a:pt x="17413" y="15131"/>
                </a:cubicBezTo>
                <a:cubicBezTo>
                  <a:pt x="17264" y="15348"/>
                  <a:pt x="17549" y="15435"/>
                  <a:pt x="17686" y="15503"/>
                </a:cubicBezTo>
                <a:cubicBezTo>
                  <a:pt x="17861" y="15590"/>
                  <a:pt x="18044" y="15710"/>
                  <a:pt x="17884" y="15925"/>
                </a:cubicBezTo>
                <a:cubicBezTo>
                  <a:pt x="17814" y="16019"/>
                  <a:pt x="17607" y="16074"/>
                  <a:pt x="17587" y="15900"/>
                </a:cubicBezTo>
                <a:cubicBezTo>
                  <a:pt x="17564" y="15695"/>
                  <a:pt x="17787" y="15507"/>
                  <a:pt x="17884" y="15354"/>
                </a:cubicBezTo>
                <a:cubicBezTo>
                  <a:pt x="17926" y="15289"/>
                  <a:pt x="17984" y="15118"/>
                  <a:pt x="17909" y="15056"/>
                </a:cubicBezTo>
                <a:cubicBezTo>
                  <a:pt x="17838" y="14997"/>
                  <a:pt x="17786" y="15041"/>
                  <a:pt x="1776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8160" y="438480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5854" y="12179"/>
                </a:moveTo>
                <a:cubicBezTo>
                  <a:pt x="5961" y="12179"/>
                  <a:pt x="6069" y="12179"/>
                  <a:pt x="6176" y="12179"/>
                </a:cubicBezTo>
              </a:path>
              <a:path w="472" h="224">
                <a:moveTo>
                  <a:pt x="5928" y="12402"/>
                </a:moveTo>
                <a:cubicBezTo>
                  <a:pt x="6064" y="12402"/>
                  <a:pt x="6192" y="12396"/>
                  <a:pt x="632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7960" y="4741920"/>
            <a:ext cx="600120" cy="374760"/>
          </a:xfrm>
          <a:custGeom>
            <a:avLst/>
            <a:gdLst/>
            <a:ahLst/>
            <a:rect l="l" t="t" r="r" b="b"/>
            <a:pathLst>
              <a:path w="1663" h="1043">
                <a:moveTo>
                  <a:pt x="5110" y="13246"/>
                </a:moveTo>
                <a:cubicBezTo>
                  <a:pt x="5110" y="13211"/>
                  <a:pt x="5075" y="13121"/>
                  <a:pt x="4936" y="13196"/>
                </a:cubicBezTo>
                <a:cubicBezTo>
                  <a:pt x="4747" y="13298"/>
                  <a:pt x="4704" y="13437"/>
                  <a:pt x="4663" y="13618"/>
                </a:cubicBezTo>
                <a:cubicBezTo>
                  <a:pt x="4871" y="13782"/>
                  <a:pt x="5125" y="13819"/>
                  <a:pt x="5333" y="13990"/>
                </a:cubicBezTo>
                <a:cubicBezTo>
                  <a:pt x="5284" y="14075"/>
                  <a:pt x="5045" y="14412"/>
                  <a:pt x="4961" y="14139"/>
                </a:cubicBezTo>
                <a:cubicBezTo>
                  <a:pt x="4891" y="13911"/>
                  <a:pt x="5127" y="13629"/>
                  <a:pt x="5184" y="13419"/>
                </a:cubicBezTo>
                <a:cubicBezTo>
                  <a:pt x="5218" y="13296"/>
                  <a:pt x="5132" y="13336"/>
                  <a:pt x="5110" y="13345"/>
                </a:cubicBezTo>
              </a:path>
              <a:path w="1663" h="1043">
                <a:moveTo>
                  <a:pt x="5457" y="13791"/>
                </a:moveTo>
                <a:cubicBezTo>
                  <a:pt x="5463" y="13852"/>
                  <a:pt x="5461" y="14020"/>
                  <a:pt x="5507" y="14064"/>
                </a:cubicBezTo>
                <a:cubicBezTo>
                  <a:pt x="5507" y="14056"/>
                  <a:pt x="5507" y="14047"/>
                  <a:pt x="5507" y="14039"/>
                </a:cubicBezTo>
                <a:cubicBezTo>
                  <a:pt x="5469" y="13945"/>
                  <a:pt x="5429" y="13858"/>
                  <a:pt x="5482" y="13767"/>
                </a:cubicBezTo>
                <a:cubicBezTo>
                  <a:pt x="5567" y="13622"/>
                  <a:pt x="5680" y="13703"/>
                  <a:pt x="5755" y="13816"/>
                </a:cubicBezTo>
                <a:cubicBezTo>
                  <a:pt x="5793" y="13893"/>
                  <a:pt x="5792" y="13908"/>
                  <a:pt x="5829" y="13940"/>
                </a:cubicBezTo>
                <a:cubicBezTo>
                  <a:pt x="5762" y="13841"/>
                  <a:pt x="5758" y="13776"/>
                  <a:pt x="5829" y="13667"/>
                </a:cubicBezTo>
                <a:cubicBezTo>
                  <a:pt x="5883" y="13584"/>
                  <a:pt x="6023" y="13690"/>
                  <a:pt x="6052" y="13742"/>
                </a:cubicBezTo>
                <a:cubicBezTo>
                  <a:pt x="6133" y="13885"/>
                  <a:pt x="6074" y="13996"/>
                  <a:pt x="6251" y="14015"/>
                </a:cubicBezTo>
                <a:cubicBezTo>
                  <a:pt x="6276" y="14015"/>
                  <a:pt x="6300" y="14015"/>
                  <a:pt x="6325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17760" y="666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217" y="18504"/>
                </a:moveTo>
                <a:lnTo>
                  <a:pt x="4217" y="185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044800" y="1852920"/>
            <a:ext cx="4978440" cy="4752360"/>
            <a:chOff x="2044800" y="1852920"/>
            <a:chExt cx="4978440" cy="4752360"/>
          </a:xfrm>
        </p:grpSpPr>
        <p:sp>
          <p:nvSpPr>
            <p:cNvPr id="212" name=""/>
            <p:cNvSpPr/>
            <p:nvPr/>
          </p:nvSpPr>
          <p:spPr>
            <a:xfrm rot="4595400">
              <a:off x="2590560" y="2133360"/>
              <a:ext cx="3886200" cy="419112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1440" y="2754360"/>
              <a:ext cx="70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15360" y="3051000"/>
              <a:ext cx="29664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143000" y="380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3124080"/>
                <a:ext cx="1752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62320" y="1981080"/>
                <a:ext cx="1066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905120" y="3809880"/>
                <a:ext cx="311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77120" y="1295280"/>
                <a:ext cx="16761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562720" y="2666880"/>
                <a:ext cx="3429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105520" y="3886200"/>
                <a:ext cx="35812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952880" y="5410080"/>
                <a:ext cx="2743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527880" y="6249960"/>
            <a:ext cx="839880" cy="73080"/>
          </a:xfrm>
          <a:custGeom>
            <a:avLst/>
            <a:gdLst/>
            <a:ahLst/>
            <a:rect l="l" t="t" r="r" b="b"/>
            <a:pathLst>
              <a:path w="2333" h="200">
                <a:moveTo>
                  <a:pt x="18132" y="17562"/>
                </a:moveTo>
                <a:cubicBezTo>
                  <a:pt x="18269" y="17507"/>
                  <a:pt x="18380" y="17512"/>
                  <a:pt x="18529" y="17512"/>
                </a:cubicBezTo>
                <a:cubicBezTo>
                  <a:pt x="18851" y="17512"/>
                  <a:pt x="19177" y="17531"/>
                  <a:pt x="19496" y="17487"/>
                </a:cubicBezTo>
                <a:cubicBezTo>
                  <a:pt x="19669" y="17463"/>
                  <a:pt x="19846" y="17439"/>
                  <a:pt x="20017" y="17413"/>
                </a:cubicBezTo>
                <a:cubicBezTo>
                  <a:pt x="20136" y="17395"/>
                  <a:pt x="20243" y="17388"/>
                  <a:pt x="20365" y="17388"/>
                </a:cubicBezTo>
                <a:cubicBezTo>
                  <a:pt x="20422" y="17388"/>
                  <a:pt x="20437" y="17379"/>
                  <a:pt x="20464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68360" y="3638520"/>
                <a:ext cx="106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62720" y="5257800"/>
                <a:ext cx="13716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191120" y="2590920"/>
            <a:ext cx="3962160" cy="2590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248520" y="4038480"/>
                <a:ext cx="1295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313160" y="2500200"/>
            <a:ext cx="54000" cy="1089000"/>
          </a:xfrm>
          <a:custGeom>
            <a:avLst/>
            <a:gdLst/>
            <a:ahLst/>
            <a:rect l="l" t="t" r="r" b="b"/>
            <a:pathLst>
              <a:path w="149" h="3027">
                <a:moveTo>
                  <a:pt x="11981" y="9971"/>
                </a:moveTo>
                <a:cubicBezTo>
                  <a:pt x="11991" y="9845"/>
                  <a:pt x="12005" y="9729"/>
                  <a:pt x="12005" y="9599"/>
                </a:cubicBezTo>
              </a:path>
              <a:path w="149" h="3027">
                <a:moveTo>
                  <a:pt x="12030" y="9004"/>
                </a:moveTo>
                <a:cubicBezTo>
                  <a:pt x="12040" y="8837"/>
                  <a:pt x="12055" y="8677"/>
                  <a:pt x="12055" y="8508"/>
                </a:cubicBezTo>
              </a:path>
              <a:path w="149" h="3027">
                <a:moveTo>
                  <a:pt x="12080" y="8062"/>
                </a:moveTo>
                <a:cubicBezTo>
                  <a:pt x="12035" y="7973"/>
                  <a:pt x="12055" y="7844"/>
                  <a:pt x="12055" y="7739"/>
                </a:cubicBezTo>
              </a:path>
              <a:path w="149" h="3027">
                <a:moveTo>
                  <a:pt x="12005" y="7317"/>
                </a:moveTo>
                <a:cubicBezTo>
                  <a:pt x="12005" y="7251"/>
                  <a:pt x="12005" y="7185"/>
                  <a:pt x="12005" y="7119"/>
                </a:cubicBezTo>
              </a:path>
              <a:path w="149" h="3027">
                <a:moveTo>
                  <a:pt x="12005" y="6945"/>
                </a:moveTo>
                <a:lnTo>
                  <a:pt x="12005" y="6945"/>
                </a:lnTo>
              </a:path>
              <a:path w="149" h="3027">
                <a:moveTo>
                  <a:pt x="12030" y="6970"/>
                </a:moveTo>
                <a:cubicBezTo>
                  <a:pt x="12063" y="6962"/>
                  <a:pt x="12096" y="6953"/>
                  <a:pt x="12129" y="6945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87880" y="2554200"/>
            <a:ext cx="3948120" cy="2670120"/>
          </a:xfrm>
          <a:custGeom>
            <a:avLst/>
            <a:gdLst/>
            <a:ahLst/>
            <a:rect l="l" t="t" r="r" b="b"/>
            <a:pathLst>
              <a:path w="10965" h="7418">
                <a:moveTo>
                  <a:pt x="11633" y="14436"/>
                </a:moveTo>
                <a:cubicBezTo>
                  <a:pt x="11662" y="14407"/>
                  <a:pt x="11718" y="14351"/>
                  <a:pt x="11757" y="14312"/>
                </a:cubicBezTo>
                <a:cubicBezTo>
                  <a:pt x="11902" y="14168"/>
                  <a:pt x="12049" y="14049"/>
                  <a:pt x="12179" y="13915"/>
                </a:cubicBezTo>
                <a:cubicBezTo>
                  <a:pt x="12220" y="13873"/>
                  <a:pt x="12259" y="13835"/>
                  <a:pt x="12303" y="13791"/>
                </a:cubicBezTo>
                <a:cubicBezTo>
                  <a:pt x="12389" y="13705"/>
                  <a:pt x="12492" y="13605"/>
                  <a:pt x="12576" y="13519"/>
                </a:cubicBezTo>
                <a:cubicBezTo>
                  <a:pt x="12658" y="13435"/>
                  <a:pt x="12746" y="13341"/>
                  <a:pt x="12824" y="13246"/>
                </a:cubicBezTo>
                <a:cubicBezTo>
                  <a:pt x="12893" y="13162"/>
                  <a:pt x="12953" y="13060"/>
                  <a:pt x="13022" y="12973"/>
                </a:cubicBezTo>
                <a:cubicBezTo>
                  <a:pt x="13086" y="12892"/>
                  <a:pt x="13157" y="12807"/>
                  <a:pt x="13221" y="12725"/>
                </a:cubicBezTo>
                <a:cubicBezTo>
                  <a:pt x="13295" y="12630"/>
                  <a:pt x="13381" y="12520"/>
                  <a:pt x="13444" y="12427"/>
                </a:cubicBezTo>
                <a:cubicBezTo>
                  <a:pt x="13605" y="12189"/>
                  <a:pt x="13738" y="11938"/>
                  <a:pt x="13915" y="11708"/>
                </a:cubicBezTo>
                <a:cubicBezTo>
                  <a:pt x="14016" y="11576"/>
                  <a:pt x="14112" y="11443"/>
                  <a:pt x="14213" y="11311"/>
                </a:cubicBezTo>
                <a:cubicBezTo>
                  <a:pt x="14292" y="11208"/>
                  <a:pt x="14379" y="11114"/>
                  <a:pt x="14461" y="11013"/>
                </a:cubicBezTo>
                <a:cubicBezTo>
                  <a:pt x="14549" y="10905"/>
                  <a:pt x="14650" y="10802"/>
                  <a:pt x="14734" y="10691"/>
                </a:cubicBezTo>
                <a:cubicBezTo>
                  <a:pt x="14944" y="10414"/>
                  <a:pt x="15153" y="10161"/>
                  <a:pt x="15379" y="9897"/>
                </a:cubicBezTo>
                <a:cubicBezTo>
                  <a:pt x="15542" y="9706"/>
                  <a:pt x="15673" y="9499"/>
                  <a:pt x="15825" y="9302"/>
                </a:cubicBezTo>
                <a:cubicBezTo>
                  <a:pt x="15921" y="9178"/>
                  <a:pt x="16015" y="9060"/>
                  <a:pt x="16098" y="8930"/>
                </a:cubicBezTo>
                <a:cubicBezTo>
                  <a:pt x="16180" y="8802"/>
                  <a:pt x="16248" y="8667"/>
                  <a:pt x="16321" y="8533"/>
                </a:cubicBezTo>
                <a:cubicBezTo>
                  <a:pt x="16378" y="8427"/>
                  <a:pt x="16437" y="8308"/>
                  <a:pt x="16495" y="8210"/>
                </a:cubicBezTo>
                <a:cubicBezTo>
                  <a:pt x="16547" y="8122"/>
                  <a:pt x="16613" y="8027"/>
                  <a:pt x="16669" y="7938"/>
                </a:cubicBezTo>
                <a:cubicBezTo>
                  <a:pt x="16757" y="7796"/>
                  <a:pt x="16858" y="7656"/>
                  <a:pt x="16942" y="7516"/>
                </a:cubicBezTo>
                <a:cubicBezTo>
                  <a:pt x="17018" y="7391"/>
                  <a:pt x="17090" y="7269"/>
                  <a:pt x="17165" y="7144"/>
                </a:cubicBezTo>
                <a:cubicBezTo>
                  <a:pt x="17188" y="7121"/>
                  <a:pt x="17196" y="7117"/>
                  <a:pt x="17190" y="7094"/>
                </a:cubicBezTo>
                <a:cubicBezTo>
                  <a:pt x="17245" y="7151"/>
                  <a:pt x="17325" y="7225"/>
                  <a:pt x="17388" y="7293"/>
                </a:cubicBezTo>
                <a:cubicBezTo>
                  <a:pt x="17459" y="7369"/>
                  <a:pt x="17528" y="7462"/>
                  <a:pt x="17611" y="7541"/>
                </a:cubicBezTo>
                <a:cubicBezTo>
                  <a:pt x="17676" y="7603"/>
                  <a:pt x="17749" y="7653"/>
                  <a:pt x="17810" y="7714"/>
                </a:cubicBezTo>
                <a:cubicBezTo>
                  <a:pt x="17874" y="7778"/>
                  <a:pt x="17927" y="7823"/>
                  <a:pt x="17983" y="7888"/>
                </a:cubicBezTo>
                <a:cubicBezTo>
                  <a:pt x="18033" y="7946"/>
                  <a:pt x="18040" y="7982"/>
                  <a:pt x="18083" y="8037"/>
                </a:cubicBezTo>
                <a:cubicBezTo>
                  <a:pt x="18159" y="8135"/>
                  <a:pt x="18234" y="8233"/>
                  <a:pt x="18306" y="8334"/>
                </a:cubicBezTo>
                <a:cubicBezTo>
                  <a:pt x="18520" y="8634"/>
                  <a:pt x="18786" y="8976"/>
                  <a:pt x="18951" y="9302"/>
                </a:cubicBezTo>
                <a:cubicBezTo>
                  <a:pt x="19038" y="9473"/>
                  <a:pt x="19104" y="9653"/>
                  <a:pt x="19199" y="9823"/>
                </a:cubicBezTo>
                <a:cubicBezTo>
                  <a:pt x="19263" y="9937"/>
                  <a:pt x="19309" y="10012"/>
                  <a:pt x="19372" y="10120"/>
                </a:cubicBezTo>
                <a:cubicBezTo>
                  <a:pt x="19483" y="10311"/>
                  <a:pt x="19591" y="10511"/>
                  <a:pt x="19720" y="10691"/>
                </a:cubicBezTo>
                <a:cubicBezTo>
                  <a:pt x="19829" y="10844"/>
                  <a:pt x="19961" y="10985"/>
                  <a:pt x="20067" y="11137"/>
                </a:cubicBezTo>
                <a:cubicBezTo>
                  <a:pt x="20146" y="11252"/>
                  <a:pt x="20204" y="11373"/>
                  <a:pt x="20290" y="11485"/>
                </a:cubicBezTo>
                <a:cubicBezTo>
                  <a:pt x="20379" y="11602"/>
                  <a:pt x="20472" y="11716"/>
                  <a:pt x="20563" y="11832"/>
                </a:cubicBezTo>
                <a:cubicBezTo>
                  <a:pt x="20632" y="11920"/>
                  <a:pt x="20701" y="12014"/>
                  <a:pt x="20762" y="12105"/>
                </a:cubicBezTo>
                <a:cubicBezTo>
                  <a:pt x="20833" y="12211"/>
                  <a:pt x="20890" y="12322"/>
                  <a:pt x="20960" y="12427"/>
                </a:cubicBezTo>
                <a:cubicBezTo>
                  <a:pt x="21013" y="12505"/>
                  <a:pt x="21076" y="12610"/>
                  <a:pt x="21134" y="12675"/>
                </a:cubicBezTo>
                <a:cubicBezTo>
                  <a:pt x="21284" y="12842"/>
                  <a:pt x="21451" y="12962"/>
                  <a:pt x="21580" y="13146"/>
                </a:cubicBezTo>
                <a:cubicBezTo>
                  <a:pt x="21645" y="13239"/>
                  <a:pt x="21687" y="13352"/>
                  <a:pt x="21754" y="13444"/>
                </a:cubicBezTo>
                <a:cubicBezTo>
                  <a:pt x="21809" y="13520"/>
                  <a:pt x="21886" y="13613"/>
                  <a:pt x="21952" y="13692"/>
                </a:cubicBezTo>
                <a:cubicBezTo>
                  <a:pt x="22025" y="13779"/>
                  <a:pt x="22101" y="13852"/>
                  <a:pt x="22175" y="13940"/>
                </a:cubicBezTo>
                <a:cubicBezTo>
                  <a:pt x="22232" y="14008"/>
                  <a:pt x="22294" y="14069"/>
                  <a:pt x="22349" y="14139"/>
                </a:cubicBezTo>
                <a:cubicBezTo>
                  <a:pt x="22411" y="14217"/>
                  <a:pt x="22494" y="14319"/>
                  <a:pt x="22547" y="14387"/>
                </a:cubicBezTo>
                <a:cubicBezTo>
                  <a:pt x="22569" y="14430"/>
                  <a:pt x="22573" y="14442"/>
                  <a:pt x="22597" y="14461"/>
                </a:cubicBezTo>
                <a:cubicBezTo>
                  <a:pt x="22591" y="14461"/>
                  <a:pt x="22448" y="14459"/>
                  <a:pt x="22399" y="14461"/>
                </a:cubicBezTo>
                <a:cubicBezTo>
                  <a:pt x="22108" y="14472"/>
                  <a:pt x="21753" y="14405"/>
                  <a:pt x="21506" y="14387"/>
                </a:cubicBezTo>
                <a:cubicBezTo>
                  <a:pt x="20845" y="14338"/>
                  <a:pt x="20175" y="14410"/>
                  <a:pt x="19521" y="14461"/>
                </a:cubicBezTo>
                <a:cubicBezTo>
                  <a:pt x="19363" y="14473"/>
                  <a:pt x="19206" y="14504"/>
                  <a:pt x="19050" y="14511"/>
                </a:cubicBezTo>
                <a:cubicBezTo>
                  <a:pt x="18720" y="14525"/>
                  <a:pt x="18386" y="14505"/>
                  <a:pt x="18058" y="14486"/>
                </a:cubicBezTo>
                <a:cubicBezTo>
                  <a:pt x="17862" y="14474"/>
                  <a:pt x="17658" y="14458"/>
                  <a:pt x="17462" y="14436"/>
                </a:cubicBezTo>
                <a:cubicBezTo>
                  <a:pt x="17321" y="14420"/>
                  <a:pt x="17183" y="14383"/>
                  <a:pt x="17041" y="14362"/>
                </a:cubicBezTo>
                <a:cubicBezTo>
                  <a:pt x="16867" y="14336"/>
                  <a:pt x="16694" y="14333"/>
                  <a:pt x="16520" y="14312"/>
                </a:cubicBezTo>
                <a:cubicBezTo>
                  <a:pt x="16362" y="14293"/>
                  <a:pt x="16206" y="14253"/>
                  <a:pt x="16049" y="14238"/>
                </a:cubicBezTo>
                <a:cubicBezTo>
                  <a:pt x="15840" y="14218"/>
                  <a:pt x="15637" y="14219"/>
                  <a:pt x="15429" y="14188"/>
                </a:cubicBezTo>
                <a:cubicBezTo>
                  <a:pt x="15302" y="14169"/>
                  <a:pt x="15184" y="14129"/>
                  <a:pt x="15056" y="14114"/>
                </a:cubicBezTo>
                <a:cubicBezTo>
                  <a:pt x="14744" y="14077"/>
                  <a:pt x="14418" y="14089"/>
                  <a:pt x="14114" y="14089"/>
                </a:cubicBezTo>
                <a:cubicBezTo>
                  <a:pt x="13872" y="14089"/>
                  <a:pt x="13654" y="14108"/>
                  <a:pt x="13419" y="14139"/>
                </a:cubicBezTo>
                <a:cubicBezTo>
                  <a:pt x="13246" y="14162"/>
                  <a:pt x="13073" y="14172"/>
                  <a:pt x="12898" y="14188"/>
                </a:cubicBezTo>
                <a:cubicBezTo>
                  <a:pt x="12732" y="14203"/>
                  <a:pt x="12566" y="14218"/>
                  <a:pt x="12402" y="14238"/>
                </a:cubicBezTo>
                <a:cubicBezTo>
                  <a:pt x="12273" y="14254"/>
                  <a:pt x="12135" y="14289"/>
                  <a:pt x="12005" y="14312"/>
                </a:cubicBezTo>
                <a:cubicBezTo>
                  <a:pt x="11929" y="14326"/>
                  <a:pt x="11856" y="14348"/>
                  <a:pt x="11782" y="14362"/>
                </a:cubicBezTo>
                <a:cubicBezTo>
                  <a:pt x="11774" y="14362"/>
                  <a:pt x="11765" y="14362"/>
                  <a:pt x="11757" y="14362"/>
                </a:cubicBezTo>
              </a:path>
              <a:path w="10965" h="7418">
                <a:moveTo>
                  <a:pt x="21431" y="7342"/>
                </a:moveTo>
                <a:cubicBezTo>
                  <a:pt x="21561" y="7332"/>
                  <a:pt x="21695" y="7297"/>
                  <a:pt x="21828" y="7317"/>
                </a:cubicBezTo>
                <a:cubicBezTo>
                  <a:pt x="21923" y="7331"/>
                  <a:pt x="22002" y="7342"/>
                  <a:pt x="22101" y="7342"/>
                </a:cubicBezTo>
              </a:path>
              <a:path w="10965" h="7418">
                <a:moveTo>
                  <a:pt x="22572" y="11584"/>
                </a:moveTo>
                <a:cubicBezTo>
                  <a:pt x="22572" y="11477"/>
                  <a:pt x="22572" y="11435"/>
                  <a:pt x="2257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73200" y="2589120"/>
            <a:ext cx="4867560" cy="2403720"/>
          </a:xfrm>
          <a:custGeom>
            <a:avLst/>
            <a:gdLst/>
            <a:ahLst/>
            <a:rect l="l" t="t" r="r" b="b"/>
            <a:pathLst>
              <a:path w="13519" h="6674">
                <a:moveTo>
                  <a:pt x="14362" y="13171"/>
                </a:moveTo>
                <a:lnTo>
                  <a:pt x="14362" y="13171"/>
                </a:lnTo>
              </a:path>
              <a:path w="13519" h="6674">
                <a:moveTo>
                  <a:pt x="7565" y="8334"/>
                </a:moveTo>
                <a:cubicBezTo>
                  <a:pt x="7540" y="8301"/>
                  <a:pt x="7516" y="8268"/>
                  <a:pt x="7491" y="8235"/>
                </a:cubicBezTo>
              </a:path>
              <a:path w="13519" h="6674">
                <a:moveTo>
                  <a:pt x="7491" y="8235"/>
                </a:moveTo>
                <a:lnTo>
                  <a:pt x="7491" y="8235"/>
                </a:lnTo>
              </a:path>
              <a:path w="13519" h="6674">
                <a:moveTo>
                  <a:pt x="7317" y="7938"/>
                </a:moveTo>
                <a:cubicBezTo>
                  <a:pt x="7290" y="7881"/>
                  <a:pt x="7279" y="7857"/>
                  <a:pt x="7268" y="7813"/>
                </a:cubicBezTo>
              </a:path>
              <a:path w="13519" h="6674">
                <a:moveTo>
                  <a:pt x="6945" y="7466"/>
                </a:moveTo>
                <a:cubicBezTo>
                  <a:pt x="6945" y="7423"/>
                  <a:pt x="6940" y="7398"/>
                  <a:pt x="6921" y="7367"/>
                </a:cubicBezTo>
              </a:path>
              <a:path w="13519" h="6674">
                <a:moveTo>
                  <a:pt x="6921" y="7268"/>
                </a:moveTo>
                <a:cubicBezTo>
                  <a:pt x="6921" y="7228"/>
                  <a:pt x="6910" y="7209"/>
                  <a:pt x="6871" y="7193"/>
                </a:cubicBezTo>
              </a:path>
              <a:path w="13519" h="6674">
                <a:moveTo>
                  <a:pt x="6871" y="7193"/>
                </a:moveTo>
                <a:lnTo>
                  <a:pt x="6871" y="7193"/>
                </a:lnTo>
              </a:path>
              <a:path w="13519" h="6674">
                <a:moveTo>
                  <a:pt x="17016" y="13866"/>
                </a:moveTo>
                <a:cubicBezTo>
                  <a:pt x="17707" y="13330"/>
                  <a:pt x="18410" y="12831"/>
                  <a:pt x="19174" y="12402"/>
                </a:cubicBezTo>
                <a:cubicBezTo>
                  <a:pt x="19216" y="12379"/>
                  <a:pt x="20365" y="11756"/>
                  <a:pt x="20389" y="11906"/>
                </a:cubicBezTo>
                <a:cubicBezTo>
                  <a:pt x="20323" y="11964"/>
                  <a:pt x="20257" y="12022"/>
                  <a:pt x="20191" y="12080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59040" y="2803680"/>
            <a:ext cx="5830920" cy="2768400"/>
          </a:xfrm>
          <a:custGeom>
            <a:avLst/>
            <a:gdLst/>
            <a:ahLst/>
            <a:rect l="l" t="t" r="r" b="b"/>
            <a:pathLst>
              <a:path w="16198" h="7690">
                <a:moveTo>
                  <a:pt x="22969" y="14833"/>
                </a:moveTo>
                <a:cubicBezTo>
                  <a:pt x="23021" y="14816"/>
                  <a:pt x="22962" y="14855"/>
                  <a:pt x="22870" y="14982"/>
                </a:cubicBezTo>
                <a:cubicBezTo>
                  <a:pt x="22787" y="15096"/>
                  <a:pt x="22706" y="15217"/>
                  <a:pt x="22622" y="15329"/>
                </a:cubicBezTo>
                <a:cubicBezTo>
                  <a:pt x="22796" y="15321"/>
                  <a:pt x="23024" y="15265"/>
                  <a:pt x="23192" y="15329"/>
                </a:cubicBezTo>
                <a:cubicBezTo>
                  <a:pt x="23192" y="15337"/>
                  <a:pt x="23192" y="15346"/>
                  <a:pt x="23192" y="15354"/>
                </a:cubicBezTo>
              </a:path>
              <a:path w="16198" h="7690">
                <a:moveTo>
                  <a:pt x="23366" y="14784"/>
                </a:moveTo>
                <a:cubicBezTo>
                  <a:pt x="23378" y="14997"/>
                  <a:pt x="23417" y="15192"/>
                  <a:pt x="23440" y="15404"/>
                </a:cubicBezTo>
                <a:cubicBezTo>
                  <a:pt x="23440" y="15270"/>
                  <a:pt x="23428" y="15054"/>
                  <a:pt x="23614" y="15032"/>
                </a:cubicBezTo>
                <a:cubicBezTo>
                  <a:pt x="23852" y="15004"/>
                  <a:pt x="23840" y="15202"/>
                  <a:pt x="23862" y="15354"/>
                </a:cubicBezTo>
                <a:cubicBezTo>
                  <a:pt x="23686" y="15474"/>
                  <a:pt x="23584" y="15497"/>
                  <a:pt x="23366" y="15453"/>
                </a:cubicBezTo>
              </a:path>
              <a:path w="16198" h="7690">
                <a:moveTo>
                  <a:pt x="11807" y="12105"/>
                </a:moveTo>
                <a:cubicBezTo>
                  <a:pt x="11820" y="12041"/>
                  <a:pt x="11850" y="11973"/>
                  <a:pt x="11857" y="11906"/>
                </a:cubicBezTo>
                <a:cubicBezTo>
                  <a:pt x="11857" y="11873"/>
                  <a:pt x="11857" y="11840"/>
                  <a:pt x="11857" y="11807"/>
                </a:cubicBezTo>
              </a:path>
              <a:path w="16198" h="7690">
                <a:moveTo>
                  <a:pt x="11906" y="11038"/>
                </a:moveTo>
                <a:cubicBezTo>
                  <a:pt x="11906" y="10848"/>
                  <a:pt x="11906" y="10658"/>
                  <a:pt x="11906" y="10468"/>
                </a:cubicBezTo>
              </a:path>
              <a:path w="16198" h="7690">
                <a:moveTo>
                  <a:pt x="22597" y="13667"/>
                </a:moveTo>
                <a:cubicBezTo>
                  <a:pt x="22605" y="13565"/>
                  <a:pt x="22625" y="13472"/>
                  <a:pt x="22647" y="13370"/>
                </a:cubicBezTo>
              </a:path>
              <a:path w="16198" h="7690">
                <a:moveTo>
                  <a:pt x="22647" y="13072"/>
                </a:moveTo>
                <a:cubicBezTo>
                  <a:pt x="22647" y="12863"/>
                  <a:pt x="22653" y="12658"/>
                  <a:pt x="22622" y="12452"/>
                </a:cubicBezTo>
              </a:path>
              <a:path w="16198" h="7690">
                <a:moveTo>
                  <a:pt x="22572" y="12229"/>
                </a:moveTo>
                <a:cubicBezTo>
                  <a:pt x="22572" y="12121"/>
                  <a:pt x="22572" y="12014"/>
                  <a:pt x="22572" y="11906"/>
                </a:cubicBezTo>
              </a:path>
              <a:path w="16198" h="7690">
                <a:moveTo>
                  <a:pt x="8384" y="9723"/>
                </a:moveTo>
                <a:cubicBezTo>
                  <a:pt x="8329" y="9613"/>
                  <a:pt x="8272" y="9508"/>
                  <a:pt x="8210" y="9401"/>
                </a:cubicBezTo>
              </a:path>
              <a:path w="16198" h="7690">
                <a:moveTo>
                  <a:pt x="7863" y="8830"/>
                </a:moveTo>
                <a:cubicBezTo>
                  <a:pt x="7785" y="8737"/>
                  <a:pt x="7764" y="8644"/>
                  <a:pt x="7714" y="8533"/>
                </a:cubicBezTo>
                <a:cubicBezTo>
                  <a:pt x="7698" y="8500"/>
                  <a:pt x="7681" y="8467"/>
                  <a:pt x="7665" y="8434"/>
                </a:cubicBezTo>
              </a:path>
              <a:path w="16198" h="7690">
                <a:moveTo>
                  <a:pt x="9798" y="10517"/>
                </a:moveTo>
                <a:cubicBezTo>
                  <a:pt x="10361" y="10107"/>
                  <a:pt x="10934" y="9706"/>
                  <a:pt x="11534" y="9351"/>
                </a:cubicBezTo>
                <a:cubicBezTo>
                  <a:pt x="12313" y="8891"/>
                  <a:pt x="13096" y="8417"/>
                  <a:pt x="13891" y="7987"/>
                </a:cubicBezTo>
                <a:cubicBezTo>
                  <a:pt x="14094" y="7878"/>
                  <a:pt x="14373" y="7652"/>
                  <a:pt x="14288" y="7888"/>
                </a:cubicBezTo>
              </a:path>
              <a:path w="16198" h="7690">
                <a:moveTo>
                  <a:pt x="11187" y="12378"/>
                </a:moveTo>
                <a:cubicBezTo>
                  <a:pt x="11542" y="12117"/>
                  <a:pt x="11913" y="11811"/>
                  <a:pt x="12254" y="11509"/>
                </a:cubicBezTo>
                <a:cubicBezTo>
                  <a:pt x="13074" y="10784"/>
                  <a:pt x="13897" y="10095"/>
                  <a:pt x="14784" y="9451"/>
                </a:cubicBezTo>
                <a:cubicBezTo>
                  <a:pt x="15161" y="9177"/>
                  <a:pt x="16015" y="8706"/>
                  <a:pt x="16197" y="8657"/>
                </a:cubicBezTo>
              </a:path>
              <a:path w="16198" h="7690">
                <a:moveTo>
                  <a:pt x="12378" y="13742"/>
                </a:moveTo>
                <a:cubicBezTo>
                  <a:pt x="12644" y="13540"/>
                  <a:pt x="12915" y="13266"/>
                  <a:pt x="13171" y="13022"/>
                </a:cubicBezTo>
                <a:cubicBezTo>
                  <a:pt x="13984" y="12246"/>
                  <a:pt x="14849" y="11550"/>
                  <a:pt x="15776" y="10914"/>
                </a:cubicBezTo>
                <a:cubicBezTo>
                  <a:pt x="15938" y="10803"/>
                  <a:pt x="17170" y="9792"/>
                  <a:pt x="17438" y="9847"/>
                </a:cubicBezTo>
                <a:cubicBezTo>
                  <a:pt x="17382" y="9959"/>
                  <a:pt x="17328" y="10028"/>
                  <a:pt x="17239" y="10096"/>
                </a:cubicBezTo>
              </a:path>
              <a:path w="16198" h="7690">
                <a:moveTo>
                  <a:pt x="14015" y="14412"/>
                </a:moveTo>
                <a:cubicBezTo>
                  <a:pt x="14486" y="13992"/>
                  <a:pt x="14973" y="13572"/>
                  <a:pt x="15478" y="13196"/>
                </a:cubicBezTo>
                <a:cubicBezTo>
                  <a:pt x="16282" y="12598"/>
                  <a:pt x="17119" y="12033"/>
                  <a:pt x="17959" y="11485"/>
                </a:cubicBezTo>
                <a:cubicBezTo>
                  <a:pt x="17974" y="11475"/>
                  <a:pt x="18597" y="11072"/>
                  <a:pt x="18678" y="11063"/>
                </a:cubicBezTo>
                <a:cubicBezTo>
                  <a:pt x="18628" y="11104"/>
                  <a:pt x="18579" y="11146"/>
                  <a:pt x="18529" y="11187"/>
                </a:cubicBezTo>
              </a:path>
              <a:path w="16198" h="7690">
                <a:moveTo>
                  <a:pt x="19298" y="13816"/>
                </a:moveTo>
                <a:cubicBezTo>
                  <a:pt x="19710" y="13619"/>
                  <a:pt x="20129" y="13416"/>
                  <a:pt x="20563" y="13271"/>
                </a:cubicBezTo>
                <a:cubicBezTo>
                  <a:pt x="20700" y="13225"/>
                  <a:pt x="20845" y="13154"/>
                  <a:pt x="20786" y="13271"/>
                </a:cubicBezTo>
              </a:path>
              <a:path w="16198" h="7690">
                <a:moveTo>
                  <a:pt x="20588" y="13965"/>
                </a:moveTo>
                <a:cubicBezTo>
                  <a:pt x="20742" y="13897"/>
                  <a:pt x="20897" y="13832"/>
                  <a:pt x="21059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90760" y="4554360"/>
            <a:ext cx="2741400" cy="785880"/>
          </a:xfrm>
          <a:custGeom>
            <a:avLst/>
            <a:gdLst/>
            <a:ahLst/>
            <a:rect l="l" t="t" r="r" b="b"/>
            <a:pathLst>
              <a:path w="7616" h="2184">
                <a:moveTo>
                  <a:pt x="4242" y="13047"/>
                </a:moveTo>
                <a:cubicBezTo>
                  <a:pt x="4234" y="13348"/>
                  <a:pt x="4221" y="13644"/>
                  <a:pt x="4167" y="13940"/>
                </a:cubicBezTo>
                <a:cubicBezTo>
                  <a:pt x="4147" y="13682"/>
                  <a:pt x="4155" y="13495"/>
                  <a:pt x="4242" y="13246"/>
                </a:cubicBezTo>
                <a:cubicBezTo>
                  <a:pt x="4318" y="13027"/>
                  <a:pt x="4331" y="13013"/>
                  <a:pt x="4514" y="13047"/>
                </a:cubicBezTo>
                <a:cubicBezTo>
                  <a:pt x="4632" y="13350"/>
                  <a:pt x="4663" y="13589"/>
                  <a:pt x="4663" y="13915"/>
                </a:cubicBezTo>
                <a:cubicBezTo>
                  <a:pt x="4663" y="13932"/>
                  <a:pt x="4663" y="13948"/>
                  <a:pt x="4663" y="13965"/>
                </a:cubicBezTo>
              </a:path>
              <a:path w="7616" h="2184">
                <a:moveTo>
                  <a:pt x="4266" y="13692"/>
                </a:moveTo>
                <a:cubicBezTo>
                  <a:pt x="4392" y="13665"/>
                  <a:pt x="4510" y="13618"/>
                  <a:pt x="4638" y="13618"/>
                </a:cubicBezTo>
              </a:path>
              <a:path w="7616" h="2184">
                <a:moveTo>
                  <a:pt x="4911" y="13593"/>
                </a:moveTo>
                <a:cubicBezTo>
                  <a:pt x="4934" y="13586"/>
                  <a:pt x="5183" y="13514"/>
                  <a:pt x="5184" y="13519"/>
                </a:cubicBezTo>
                <a:cubicBezTo>
                  <a:pt x="5176" y="13535"/>
                  <a:pt x="5167" y="13552"/>
                  <a:pt x="5159" y="13568"/>
                </a:cubicBezTo>
              </a:path>
              <a:path w="7616" h="2184">
                <a:moveTo>
                  <a:pt x="4887" y="13816"/>
                </a:moveTo>
                <a:cubicBezTo>
                  <a:pt x="4924" y="13809"/>
                  <a:pt x="5164" y="13792"/>
                  <a:pt x="5184" y="13767"/>
                </a:cubicBezTo>
                <a:cubicBezTo>
                  <a:pt x="5184" y="13759"/>
                  <a:pt x="5184" y="13750"/>
                  <a:pt x="5184" y="13742"/>
                </a:cubicBezTo>
              </a:path>
              <a:path w="7616" h="2184">
                <a:moveTo>
                  <a:pt x="5581" y="13271"/>
                </a:moveTo>
                <a:cubicBezTo>
                  <a:pt x="5581" y="13329"/>
                  <a:pt x="5597" y="13353"/>
                  <a:pt x="5556" y="13345"/>
                </a:cubicBezTo>
                <a:cubicBezTo>
                  <a:pt x="5514" y="13234"/>
                  <a:pt x="5565" y="13172"/>
                  <a:pt x="5680" y="13122"/>
                </a:cubicBezTo>
                <a:cubicBezTo>
                  <a:pt x="5718" y="13105"/>
                  <a:pt x="5788" y="13082"/>
                  <a:pt x="5829" y="13072"/>
                </a:cubicBezTo>
                <a:cubicBezTo>
                  <a:pt x="5870" y="13258"/>
                  <a:pt x="5758" y="13493"/>
                  <a:pt x="5730" y="13692"/>
                </a:cubicBezTo>
                <a:cubicBezTo>
                  <a:pt x="5730" y="13766"/>
                  <a:pt x="5730" y="13775"/>
                  <a:pt x="5730" y="13816"/>
                </a:cubicBezTo>
              </a:path>
              <a:path w="7616" h="2184">
                <a:moveTo>
                  <a:pt x="6052" y="13543"/>
                </a:moveTo>
                <a:cubicBezTo>
                  <a:pt x="6045" y="13560"/>
                  <a:pt x="6028" y="13652"/>
                  <a:pt x="6028" y="13593"/>
                </a:cubicBezTo>
              </a:path>
              <a:path w="7616" h="2184">
                <a:moveTo>
                  <a:pt x="6276" y="13146"/>
                </a:moveTo>
                <a:cubicBezTo>
                  <a:pt x="6300" y="13072"/>
                  <a:pt x="6309" y="13047"/>
                  <a:pt x="6375" y="13047"/>
                </a:cubicBezTo>
                <a:cubicBezTo>
                  <a:pt x="6593" y="13157"/>
                  <a:pt x="6532" y="13376"/>
                  <a:pt x="6424" y="13593"/>
                </a:cubicBezTo>
                <a:cubicBezTo>
                  <a:pt x="6358" y="13726"/>
                  <a:pt x="6350" y="13716"/>
                  <a:pt x="6300" y="13643"/>
                </a:cubicBezTo>
                <a:cubicBezTo>
                  <a:pt x="6336" y="13556"/>
                  <a:pt x="6389" y="13405"/>
                  <a:pt x="6499" y="13543"/>
                </a:cubicBezTo>
                <a:cubicBezTo>
                  <a:pt x="6540" y="13594"/>
                  <a:pt x="6573" y="13794"/>
                  <a:pt x="6573" y="13767"/>
                </a:cubicBezTo>
              </a:path>
              <a:path w="7616" h="2184">
                <a:moveTo>
                  <a:pt x="7094" y="12774"/>
                </a:moveTo>
                <a:cubicBezTo>
                  <a:pt x="7094" y="12616"/>
                  <a:pt x="6972" y="13016"/>
                  <a:pt x="6945" y="13171"/>
                </a:cubicBezTo>
                <a:cubicBezTo>
                  <a:pt x="6893" y="13465"/>
                  <a:pt x="6908" y="13711"/>
                  <a:pt x="7094" y="13940"/>
                </a:cubicBezTo>
                <a:cubicBezTo>
                  <a:pt x="7102" y="13948"/>
                  <a:pt x="7111" y="13957"/>
                  <a:pt x="7119" y="13965"/>
                </a:cubicBezTo>
              </a:path>
              <a:path w="7616" h="2184">
                <a:moveTo>
                  <a:pt x="7268" y="13146"/>
                </a:moveTo>
                <a:cubicBezTo>
                  <a:pt x="7268" y="13045"/>
                  <a:pt x="7239" y="13296"/>
                  <a:pt x="7218" y="13395"/>
                </a:cubicBezTo>
                <a:cubicBezTo>
                  <a:pt x="7200" y="13481"/>
                  <a:pt x="7157" y="13686"/>
                  <a:pt x="7218" y="13767"/>
                </a:cubicBezTo>
                <a:cubicBezTo>
                  <a:pt x="7269" y="13835"/>
                  <a:pt x="7457" y="13703"/>
                  <a:pt x="7491" y="13667"/>
                </a:cubicBezTo>
                <a:cubicBezTo>
                  <a:pt x="7546" y="13609"/>
                  <a:pt x="7544" y="13558"/>
                  <a:pt x="7516" y="13494"/>
                </a:cubicBezTo>
                <a:cubicBezTo>
                  <a:pt x="7416" y="13465"/>
                  <a:pt x="7391" y="13525"/>
                  <a:pt x="7342" y="13618"/>
                </a:cubicBezTo>
                <a:cubicBezTo>
                  <a:pt x="7318" y="13663"/>
                  <a:pt x="7316" y="13736"/>
                  <a:pt x="7367" y="13742"/>
                </a:cubicBezTo>
                <a:cubicBezTo>
                  <a:pt x="7414" y="13742"/>
                  <a:pt x="7434" y="13724"/>
                  <a:pt x="7441" y="13667"/>
                </a:cubicBezTo>
              </a:path>
              <a:path w="7616" h="2184">
                <a:moveTo>
                  <a:pt x="7739" y="13568"/>
                </a:moveTo>
                <a:cubicBezTo>
                  <a:pt x="7739" y="13593"/>
                  <a:pt x="7739" y="13618"/>
                  <a:pt x="7739" y="13643"/>
                </a:cubicBezTo>
              </a:path>
              <a:path w="7616" h="2184">
                <a:moveTo>
                  <a:pt x="7962" y="13022"/>
                </a:moveTo>
                <a:cubicBezTo>
                  <a:pt x="7858" y="13066"/>
                  <a:pt x="7791" y="13087"/>
                  <a:pt x="7764" y="13196"/>
                </a:cubicBezTo>
                <a:cubicBezTo>
                  <a:pt x="7865" y="13270"/>
                  <a:pt x="8095" y="13309"/>
                  <a:pt x="8086" y="13469"/>
                </a:cubicBezTo>
                <a:cubicBezTo>
                  <a:pt x="8079" y="13589"/>
                  <a:pt x="7996" y="13584"/>
                  <a:pt x="7913" y="13593"/>
                </a:cubicBezTo>
                <a:cubicBezTo>
                  <a:pt x="7891" y="13404"/>
                  <a:pt x="7959" y="13344"/>
                  <a:pt x="8012" y="13171"/>
                </a:cubicBezTo>
                <a:cubicBezTo>
                  <a:pt x="8032" y="13107"/>
                  <a:pt x="7981" y="13097"/>
                  <a:pt x="7938" y="13072"/>
                </a:cubicBezTo>
              </a:path>
              <a:path w="7616" h="2184">
                <a:moveTo>
                  <a:pt x="8062" y="12750"/>
                </a:moveTo>
                <a:cubicBezTo>
                  <a:pt x="8295" y="12835"/>
                  <a:pt x="8483" y="12958"/>
                  <a:pt x="8483" y="13246"/>
                </a:cubicBezTo>
                <a:cubicBezTo>
                  <a:pt x="8483" y="13416"/>
                  <a:pt x="8389" y="13556"/>
                  <a:pt x="8334" y="13692"/>
                </a:cubicBezTo>
              </a:path>
              <a:path w="7616" h="2184">
                <a:moveTo>
                  <a:pt x="5978" y="14015"/>
                </a:moveTo>
                <a:cubicBezTo>
                  <a:pt x="6095" y="13947"/>
                  <a:pt x="6198" y="13901"/>
                  <a:pt x="6350" y="13891"/>
                </a:cubicBezTo>
                <a:cubicBezTo>
                  <a:pt x="6671" y="13869"/>
                  <a:pt x="6996" y="13865"/>
                  <a:pt x="7317" y="13841"/>
                </a:cubicBezTo>
                <a:cubicBezTo>
                  <a:pt x="7566" y="13823"/>
                  <a:pt x="7815" y="13789"/>
                  <a:pt x="8062" y="13767"/>
                </a:cubicBezTo>
                <a:cubicBezTo>
                  <a:pt x="8103" y="13767"/>
                  <a:pt x="8111" y="13767"/>
                  <a:pt x="8136" y="13767"/>
                </a:cubicBezTo>
              </a:path>
              <a:path w="7616" h="2184">
                <a:moveTo>
                  <a:pt x="6871" y="14163"/>
                </a:moveTo>
                <a:cubicBezTo>
                  <a:pt x="6906" y="14118"/>
                  <a:pt x="6906" y="14090"/>
                  <a:pt x="6970" y="14064"/>
                </a:cubicBezTo>
                <a:cubicBezTo>
                  <a:pt x="7034" y="14038"/>
                  <a:pt x="7128" y="14007"/>
                  <a:pt x="7169" y="14089"/>
                </a:cubicBezTo>
                <a:cubicBezTo>
                  <a:pt x="7214" y="14179"/>
                  <a:pt x="7086" y="14307"/>
                  <a:pt x="7045" y="14362"/>
                </a:cubicBezTo>
                <a:cubicBezTo>
                  <a:pt x="6985" y="14443"/>
                  <a:pt x="6926" y="14527"/>
                  <a:pt x="6871" y="14610"/>
                </a:cubicBezTo>
                <a:cubicBezTo>
                  <a:pt x="6825" y="14680"/>
                  <a:pt x="6788" y="14752"/>
                  <a:pt x="6772" y="14833"/>
                </a:cubicBezTo>
                <a:cubicBezTo>
                  <a:pt x="6807" y="14809"/>
                  <a:pt x="6804" y="14734"/>
                  <a:pt x="6846" y="14684"/>
                </a:cubicBezTo>
                <a:cubicBezTo>
                  <a:pt x="6888" y="14633"/>
                  <a:pt x="6931" y="14674"/>
                  <a:pt x="6970" y="14709"/>
                </a:cubicBezTo>
                <a:cubicBezTo>
                  <a:pt x="7036" y="14768"/>
                  <a:pt x="7074" y="14766"/>
                  <a:pt x="7144" y="14709"/>
                </a:cubicBezTo>
                <a:cubicBezTo>
                  <a:pt x="7169" y="14684"/>
                  <a:pt x="7177" y="14676"/>
                  <a:pt x="7193" y="14660"/>
                </a:cubicBezTo>
              </a:path>
              <a:path w="7616" h="2184">
                <a:moveTo>
                  <a:pt x="11609" y="14461"/>
                </a:moveTo>
                <a:cubicBezTo>
                  <a:pt x="11615" y="14392"/>
                  <a:pt x="11626" y="14331"/>
                  <a:pt x="11633" y="14263"/>
                </a:cubicBezTo>
              </a:path>
              <a:path w="7616" h="2184">
                <a:moveTo>
                  <a:pt x="11683" y="13742"/>
                </a:moveTo>
                <a:cubicBezTo>
                  <a:pt x="11683" y="13645"/>
                  <a:pt x="11682" y="13563"/>
                  <a:pt x="11658" y="13469"/>
                </a:cubicBezTo>
              </a:path>
              <a:path w="7616" h="2184">
                <a:moveTo>
                  <a:pt x="11683" y="12874"/>
                </a:moveTo>
                <a:cubicBezTo>
                  <a:pt x="11700" y="12791"/>
                  <a:pt x="11743" y="12735"/>
                  <a:pt x="1175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34200" y="5099040"/>
            <a:ext cx="1908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22647" y="14486"/>
                </a:moveTo>
                <a:cubicBezTo>
                  <a:pt x="22647" y="14373"/>
                  <a:pt x="22623" y="14273"/>
                  <a:pt x="22597" y="1416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94120" y="5187960"/>
            <a:ext cx="411120" cy="31284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1162" y="14412"/>
                </a:moveTo>
                <a:cubicBezTo>
                  <a:pt x="11162" y="14616"/>
                  <a:pt x="11119" y="14703"/>
                  <a:pt x="11013" y="14883"/>
                </a:cubicBezTo>
                <a:cubicBezTo>
                  <a:pt x="10913" y="15023"/>
                  <a:pt x="10906" y="15057"/>
                  <a:pt x="10815" y="15106"/>
                </a:cubicBezTo>
                <a:cubicBezTo>
                  <a:pt x="10966" y="15106"/>
                  <a:pt x="11111" y="15103"/>
                  <a:pt x="11261" y="15131"/>
                </a:cubicBezTo>
                <a:cubicBezTo>
                  <a:pt x="11286" y="15139"/>
                  <a:pt x="11311" y="15148"/>
                  <a:pt x="11336" y="15156"/>
                </a:cubicBezTo>
              </a:path>
              <a:path w="1142" h="869">
                <a:moveTo>
                  <a:pt x="11708" y="14833"/>
                </a:moveTo>
                <a:cubicBezTo>
                  <a:pt x="11792" y="14805"/>
                  <a:pt x="11630" y="14745"/>
                  <a:pt x="11609" y="14734"/>
                </a:cubicBezTo>
                <a:cubicBezTo>
                  <a:pt x="11434" y="14643"/>
                  <a:pt x="11334" y="15017"/>
                  <a:pt x="11385" y="15131"/>
                </a:cubicBezTo>
                <a:cubicBezTo>
                  <a:pt x="11513" y="15415"/>
                  <a:pt x="11778" y="15262"/>
                  <a:pt x="11956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19160" y="5572080"/>
            <a:ext cx="777960" cy="162000"/>
          </a:xfrm>
          <a:custGeom>
            <a:avLst/>
            <a:gdLst/>
            <a:ahLst/>
            <a:rect l="l" t="t" r="r" b="b"/>
            <a:pathLst>
              <a:path w="2159" h="448">
                <a:moveTo>
                  <a:pt x="5358" y="15478"/>
                </a:moveTo>
                <a:cubicBezTo>
                  <a:pt x="5330" y="15478"/>
                  <a:pt x="5324" y="15480"/>
                  <a:pt x="5358" y="15503"/>
                </a:cubicBezTo>
              </a:path>
              <a:path w="2159" h="448">
                <a:moveTo>
                  <a:pt x="5333" y="15553"/>
                </a:moveTo>
                <a:cubicBezTo>
                  <a:pt x="5358" y="15519"/>
                  <a:pt x="5413" y="15471"/>
                  <a:pt x="5432" y="15528"/>
                </a:cubicBezTo>
              </a:path>
              <a:path w="2159" h="448">
                <a:moveTo>
                  <a:pt x="7466" y="15925"/>
                </a:moveTo>
                <a:cubicBezTo>
                  <a:pt x="7474" y="15917"/>
                  <a:pt x="7483" y="15908"/>
                  <a:pt x="749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1880" y="5661000"/>
            <a:ext cx="4428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5283" y="15751"/>
                </a:moveTo>
                <a:cubicBezTo>
                  <a:pt x="5330" y="15751"/>
                  <a:pt x="5363" y="15735"/>
                  <a:pt x="5407" y="15726"/>
                </a:cubicBezTo>
              </a:path>
              <a:path w="125" h="76">
                <a:moveTo>
                  <a:pt x="5283" y="15801"/>
                </a:moveTo>
                <a:cubicBezTo>
                  <a:pt x="5308" y="15801"/>
                  <a:pt x="5333" y="15801"/>
                  <a:pt x="535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0280" y="5473800"/>
            <a:ext cx="795600" cy="642960"/>
          </a:xfrm>
          <a:custGeom>
            <a:avLst/>
            <a:gdLst/>
            <a:ahLst/>
            <a:rect l="l" t="t" r="r" b="b"/>
            <a:pathLst>
              <a:path w="2209" h="1787">
                <a:moveTo>
                  <a:pt x="6548" y="15379"/>
                </a:moveTo>
                <a:cubicBezTo>
                  <a:pt x="6524" y="15440"/>
                  <a:pt x="6505" y="15500"/>
                  <a:pt x="6474" y="15553"/>
                </a:cubicBezTo>
                <a:cubicBezTo>
                  <a:pt x="6580" y="15578"/>
                  <a:pt x="6706" y="15536"/>
                  <a:pt x="6821" y="15503"/>
                </a:cubicBezTo>
              </a:path>
              <a:path w="2209" h="1787">
                <a:moveTo>
                  <a:pt x="6772" y="15205"/>
                </a:moveTo>
                <a:cubicBezTo>
                  <a:pt x="6801" y="15449"/>
                  <a:pt x="6776" y="15658"/>
                  <a:pt x="6747" y="15900"/>
                </a:cubicBezTo>
                <a:cubicBezTo>
                  <a:pt x="6747" y="15941"/>
                  <a:pt x="6747" y="15949"/>
                  <a:pt x="6747" y="15974"/>
                </a:cubicBezTo>
              </a:path>
              <a:path w="2209" h="1787">
                <a:moveTo>
                  <a:pt x="7169" y="15329"/>
                </a:moveTo>
                <a:cubicBezTo>
                  <a:pt x="7096" y="15379"/>
                  <a:pt x="6839" y="15528"/>
                  <a:pt x="6995" y="15627"/>
                </a:cubicBezTo>
                <a:cubicBezTo>
                  <a:pt x="7155" y="15729"/>
                  <a:pt x="7168" y="15687"/>
                  <a:pt x="7169" y="15875"/>
                </a:cubicBezTo>
                <a:cubicBezTo>
                  <a:pt x="7144" y="15892"/>
                  <a:pt x="7119" y="15908"/>
                  <a:pt x="7094" y="15925"/>
                </a:cubicBezTo>
                <a:cubicBezTo>
                  <a:pt x="6960" y="15790"/>
                  <a:pt x="7050" y="15615"/>
                  <a:pt x="7144" y="15429"/>
                </a:cubicBezTo>
                <a:cubicBezTo>
                  <a:pt x="7164" y="15389"/>
                  <a:pt x="7169" y="15458"/>
                  <a:pt x="7169" y="15503"/>
                </a:cubicBezTo>
              </a:path>
              <a:path w="2209" h="1787">
                <a:moveTo>
                  <a:pt x="7913" y="15304"/>
                </a:moveTo>
                <a:cubicBezTo>
                  <a:pt x="7742" y="15255"/>
                  <a:pt x="7648" y="15321"/>
                  <a:pt x="7590" y="15503"/>
                </a:cubicBezTo>
                <a:cubicBezTo>
                  <a:pt x="7590" y="15536"/>
                  <a:pt x="7590" y="15569"/>
                  <a:pt x="7590" y="15602"/>
                </a:cubicBezTo>
                <a:cubicBezTo>
                  <a:pt x="7799" y="15603"/>
                  <a:pt x="7846" y="15489"/>
                  <a:pt x="7938" y="15304"/>
                </a:cubicBezTo>
                <a:cubicBezTo>
                  <a:pt x="7956" y="15437"/>
                  <a:pt x="8000" y="15582"/>
                  <a:pt x="8012" y="15726"/>
                </a:cubicBezTo>
                <a:cubicBezTo>
                  <a:pt x="8012" y="15759"/>
                  <a:pt x="8012" y="15792"/>
                  <a:pt x="8012" y="15825"/>
                </a:cubicBezTo>
              </a:path>
              <a:path w="2209" h="1787">
                <a:moveTo>
                  <a:pt x="8310" y="15205"/>
                </a:moveTo>
                <a:cubicBezTo>
                  <a:pt x="8310" y="15382"/>
                  <a:pt x="8260" y="15637"/>
                  <a:pt x="8334" y="15801"/>
                </a:cubicBezTo>
                <a:cubicBezTo>
                  <a:pt x="8454" y="16068"/>
                  <a:pt x="8646" y="15682"/>
                  <a:pt x="8682" y="15602"/>
                </a:cubicBezTo>
                <a:cubicBezTo>
                  <a:pt x="8500" y="15657"/>
                  <a:pt x="8483" y="15775"/>
                  <a:pt x="8434" y="15949"/>
                </a:cubicBezTo>
              </a:path>
              <a:path w="2209" h="1787">
                <a:moveTo>
                  <a:pt x="6796" y="16247"/>
                </a:moveTo>
                <a:cubicBezTo>
                  <a:pt x="7145" y="16205"/>
                  <a:pt x="7510" y="16184"/>
                  <a:pt x="7863" y="16173"/>
                </a:cubicBezTo>
                <a:cubicBezTo>
                  <a:pt x="7905" y="16172"/>
                  <a:pt x="8486" y="16094"/>
                  <a:pt x="8285" y="16272"/>
                </a:cubicBezTo>
              </a:path>
              <a:path w="2209" h="1787">
                <a:moveTo>
                  <a:pt x="7466" y="16570"/>
                </a:moveTo>
                <a:cubicBezTo>
                  <a:pt x="7626" y="16554"/>
                  <a:pt x="7684" y="16565"/>
                  <a:pt x="7838" y="16619"/>
                </a:cubicBezTo>
                <a:cubicBezTo>
                  <a:pt x="7838" y="16787"/>
                  <a:pt x="7710" y="16949"/>
                  <a:pt x="7516" y="16991"/>
                </a:cubicBezTo>
                <a:cubicBezTo>
                  <a:pt x="7491" y="16983"/>
                  <a:pt x="7466" y="16974"/>
                  <a:pt x="7441" y="16966"/>
                </a:cubicBezTo>
                <a:cubicBezTo>
                  <a:pt x="7485" y="16813"/>
                  <a:pt x="7572" y="16765"/>
                  <a:pt x="7739" y="16867"/>
                </a:cubicBezTo>
                <a:cubicBezTo>
                  <a:pt x="7781" y="16909"/>
                  <a:pt x="7789" y="16916"/>
                  <a:pt x="7813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0720" y="5589720"/>
            <a:ext cx="2438280" cy="625320"/>
          </a:xfrm>
          <a:custGeom>
            <a:avLst/>
            <a:gdLst/>
            <a:ahLst/>
            <a:rect l="l" t="t" r="r" b="b"/>
            <a:pathLst>
              <a:path w="6773" h="1737">
                <a:moveTo>
                  <a:pt x="9252" y="15875"/>
                </a:moveTo>
                <a:cubicBezTo>
                  <a:pt x="9302" y="15862"/>
                  <a:pt x="9316" y="15850"/>
                  <a:pt x="9376" y="15850"/>
                </a:cubicBezTo>
                <a:cubicBezTo>
                  <a:pt x="9546" y="15850"/>
                  <a:pt x="9707" y="15851"/>
                  <a:pt x="9872" y="15875"/>
                </a:cubicBezTo>
                <a:cubicBezTo>
                  <a:pt x="9911" y="15881"/>
                  <a:pt x="9956" y="15875"/>
                  <a:pt x="9996" y="15875"/>
                </a:cubicBezTo>
              </a:path>
              <a:path w="6773" h="1737">
                <a:moveTo>
                  <a:pt x="9327" y="16346"/>
                </a:moveTo>
                <a:cubicBezTo>
                  <a:pt x="9377" y="16346"/>
                  <a:pt x="9385" y="16335"/>
                  <a:pt x="9426" y="16321"/>
                </a:cubicBezTo>
                <a:cubicBezTo>
                  <a:pt x="9537" y="16284"/>
                  <a:pt x="9712" y="16320"/>
                  <a:pt x="9823" y="16297"/>
                </a:cubicBezTo>
                <a:cubicBezTo>
                  <a:pt x="9877" y="16286"/>
                  <a:pt x="9924" y="16286"/>
                  <a:pt x="9971" y="16272"/>
                </a:cubicBezTo>
                <a:cubicBezTo>
                  <a:pt x="10020" y="16257"/>
                  <a:pt x="10092" y="16272"/>
                  <a:pt x="10145" y="16272"/>
                </a:cubicBezTo>
              </a:path>
              <a:path w="6773" h="1737">
                <a:moveTo>
                  <a:pt x="10740" y="15652"/>
                </a:moveTo>
                <a:cubicBezTo>
                  <a:pt x="10775" y="15643"/>
                  <a:pt x="10821" y="15605"/>
                  <a:pt x="10864" y="15627"/>
                </a:cubicBezTo>
                <a:cubicBezTo>
                  <a:pt x="10895" y="15642"/>
                  <a:pt x="10955" y="15660"/>
                  <a:pt x="10964" y="15677"/>
                </a:cubicBezTo>
                <a:cubicBezTo>
                  <a:pt x="10988" y="15723"/>
                  <a:pt x="10988" y="15768"/>
                  <a:pt x="10988" y="15825"/>
                </a:cubicBezTo>
                <a:cubicBezTo>
                  <a:pt x="10988" y="15877"/>
                  <a:pt x="10972" y="15913"/>
                  <a:pt x="10939" y="15949"/>
                </a:cubicBezTo>
                <a:cubicBezTo>
                  <a:pt x="10891" y="16002"/>
                  <a:pt x="10858" y="16067"/>
                  <a:pt x="10815" y="16123"/>
                </a:cubicBezTo>
                <a:cubicBezTo>
                  <a:pt x="10769" y="16182"/>
                  <a:pt x="10767" y="16237"/>
                  <a:pt x="10740" y="16297"/>
                </a:cubicBezTo>
                <a:cubicBezTo>
                  <a:pt x="10729" y="16322"/>
                  <a:pt x="10685" y="16352"/>
                  <a:pt x="10666" y="16371"/>
                </a:cubicBezTo>
                <a:cubicBezTo>
                  <a:pt x="10703" y="16364"/>
                  <a:pt x="10784" y="16362"/>
                  <a:pt x="10815" y="16346"/>
                </a:cubicBezTo>
                <a:cubicBezTo>
                  <a:pt x="10859" y="16324"/>
                  <a:pt x="10911" y="16306"/>
                  <a:pt x="10964" y="16297"/>
                </a:cubicBezTo>
                <a:cubicBezTo>
                  <a:pt x="11042" y="16284"/>
                  <a:pt x="11133" y="16297"/>
                  <a:pt x="11212" y="16297"/>
                </a:cubicBezTo>
              </a:path>
              <a:path w="6773" h="1737">
                <a:moveTo>
                  <a:pt x="11534" y="15701"/>
                </a:moveTo>
                <a:cubicBezTo>
                  <a:pt x="11534" y="15677"/>
                  <a:pt x="11534" y="15668"/>
                  <a:pt x="11534" y="15652"/>
                </a:cubicBezTo>
                <a:cubicBezTo>
                  <a:pt x="11522" y="15713"/>
                  <a:pt x="11503" y="15790"/>
                  <a:pt x="11485" y="15850"/>
                </a:cubicBezTo>
                <a:cubicBezTo>
                  <a:pt x="11474" y="15886"/>
                  <a:pt x="11472" y="15940"/>
                  <a:pt x="11460" y="15974"/>
                </a:cubicBezTo>
                <a:cubicBezTo>
                  <a:pt x="11452" y="15991"/>
                  <a:pt x="11443" y="16007"/>
                  <a:pt x="11435" y="16024"/>
                </a:cubicBezTo>
                <a:cubicBezTo>
                  <a:pt x="11554" y="16024"/>
                  <a:pt x="11678" y="16014"/>
                  <a:pt x="11782" y="16049"/>
                </a:cubicBezTo>
                <a:cubicBezTo>
                  <a:pt x="11830" y="16065"/>
                  <a:pt x="11880" y="16036"/>
                  <a:pt x="11931" y="16049"/>
                </a:cubicBezTo>
              </a:path>
              <a:path w="6773" h="1737">
                <a:moveTo>
                  <a:pt x="12030" y="15528"/>
                </a:moveTo>
                <a:cubicBezTo>
                  <a:pt x="12030" y="15589"/>
                  <a:pt x="11993" y="15620"/>
                  <a:pt x="11981" y="15677"/>
                </a:cubicBezTo>
                <a:cubicBezTo>
                  <a:pt x="11972" y="15720"/>
                  <a:pt x="11971" y="15760"/>
                  <a:pt x="11956" y="15801"/>
                </a:cubicBezTo>
                <a:cubicBezTo>
                  <a:pt x="11933" y="15864"/>
                  <a:pt x="11931" y="15906"/>
                  <a:pt x="11931" y="15974"/>
                </a:cubicBezTo>
                <a:cubicBezTo>
                  <a:pt x="11931" y="16021"/>
                  <a:pt x="11906" y="16064"/>
                  <a:pt x="11906" y="16123"/>
                </a:cubicBezTo>
                <a:cubicBezTo>
                  <a:pt x="11906" y="16181"/>
                  <a:pt x="11890" y="16226"/>
                  <a:pt x="11881" y="16272"/>
                </a:cubicBezTo>
                <a:cubicBezTo>
                  <a:pt x="11864" y="16356"/>
                  <a:pt x="11781" y="16560"/>
                  <a:pt x="11857" y="16520"/>
                </a:cubicBezTo>
                <a:cubicBezTo>
                  <a:pt x="11865" y="16512"/>
                  <a:pt x="11873" y="16503"/>
                  <a:pt x="11881" y="16495"/>
                </a:cubicBezTo>
              </a:path>
              <a:path w="6773" h="1737">
                <a:moveTo>
                  <a:pt x="12303" y="16520"/>
                </a:moveTo>
                <a:cubicBezTo>
                  <a:pt x="12363" y="16505"/>
                  <a:pt x="12353" y="16481"/>
                  <a:pt x="12353" y="16421"/>
                </a:cubicBezTo>
                <a:cubicBezTo>
                  <a:pt x="12329" y="16433"/>
                  <a:pt x="12263" y="16544"/>
                  <a:pt x="12328" y="16520"/>
                </a:cubicBezTo>
                <a:cubicBezTo>
                  <a:pt x="12413" y="16488"/>
                  <a:pt x="12286" y="16419"/>
                  <a:pt x="12303" y="16520"/>
                </a:cubicBezTo>
                <a:cubicBezTo>
                  <a:pt x="12314" y="16584"/>
                  <a:pt x="12359" y="16419"/>
                  <a:pt x="12303" y="16570"/>
                </a:cubicBezTo>
                <a:cubicBezTo>
                  <a:pt x="12303" y="16578"/>
                  <a:pt x="12303" y="16586"/>
                  <a:pt x="12303" y="16594"/>
                </a:cubicBezTo>
                <a:cubicBezTo>
                  <a:pt x="12368" y="16643"/>
                  <a:pt x="12366" y="16593"/>
                  <a:pt x="12328" y="16545"/>
                </a:cubicBezTo>
                <a:cubicBezTo>
                  <a:pt x="12268" y="16470"/>
                  <a:pt x="12217" y="16569"/>
                  <a:pt x="12254" y="16594"/>
                </a:cubicBezTo>
                <a:cubicBezTo>
                  <a:pt x="12311" y="16613"/>
                  <a:pt x="12318" y="16622"/>
                  <a:pt x="12353" y="16619"/>
                </a:cubicBezTo>
                <a:cubicBezTo>
                  <a:pt x="12349" y="16590"/>
                  <a:pt x="12340" y="16479"/>
                  <a:pt x="12278" y="16520"/>
                </a:cubicBezTo>
                <a:cubicBezTo>
                  <a:pt x="12278" y="16555"/>
                  <a:pt x="12283" y="16554"/>
                  <a:pt x="12303" y="16495"/>
                </a:cubicBezTo>
              </a:path>
              <a:path w="6773" h="1737">
                <a:moveTo>
                  <a:pt x="12849" y="15701"/>
                </a:moveTo>
                <a:cubicBezTo>
                  <a:pt x="12849" y="15750"/>
                  <a:pt x="12831" y="15788"/>
                  <a:pt x="12824" y="15825"/>
                </a:cubicBezTo>
                <a:cubicBezTo>
                  <a:pt x="12815" y="15871"/>
                  <a:pt x="12815" y="15930"/>
                  <a:pt x="12799" y="15974"/>
                </a:cubicBezTo>
                <a:cubicBezTo>
                  <a:pt x="12781" y="16024"/>
                  <a:pt x="12763" y="16077"/>
                  <a:pt x="12750" y="16123"/>
                </a:cubicBezTo>
                <a:cubicBezTo>
                  <a:pt x="12737" y="16168"/>
                  <a:pt x="12737" y="16163"/>
                  <a:pt x="12725" y="16197"/>
                </a:cubicBezTo>
                <a:cubicBezTo>
                  <a:pt x="12823" y="16197"/>
                  <a:pt x="12878" y="16171"/>
                  <a:pt x="12973" y="16148"/>
                </a:cubicBezTo>
                <a:cubicBezTo>
                  <a:pt x="13031" y="16134"/>
                  <a:pt x="13084" y="16123"/>
                  <a:pt x="13146" y="16123"/>
                </a:cubicBezTo>
                <a:cubicBezTo>
                  <a:pt x="13163" y="16123"/>
                  <a:pt x="13179" y="16123"/>
                  <a:pt x="13196" y="16123"/>
                </a:cubicBezTo>
              </a:path>
              <a:path w="6773" h="1737">
                <a:moveTo>
                  <a:pt x="13246" y="15726"/>
                </a:moveTo>
                <a:cubicBezTo>
                  <a:pt x="13246" y="15796"/>
                  <a:pt x="13231" y="15831"/>
                  <a:pt x="13221" y="15900"/>
                </a:cubicBezTo>
                <a:cubicBezTo>
                  <a:pt x="13213" y="15951"/>
                  <a:pt x="13196" y="15973"/>
                  <a:pt x="13196" y="16024"/>
                </a:cubicBezTo>
                <a:cubicBezTo>
                  <a:pt x="13196" y="16081"/>
                  <a:pt x="13171" y="16134"/>
                  <a:pt x="13171" y="16197"/>
                </a:cubicBezTo>
                <a:cubicBezTo>
                  <a:pt x="13171" y="16260"/>
                  <a:pt x="13149" y="16287"/>
                  <a:pt x="13146" y="16346"/>
                </a:cubicBezTo>
                <a:cubicBezTo>
                  <a:pt x="13142" y="16435"/>
                  <a:pt x="13146" y="16496"/>
                  <a:pt x="13122" y="16570"/>
                </a:cubicBezTo>
                <a:cubicBezTo>
                  <a:pt x="13113" y="16598"/>
                  <a:pt x="13122" y="16639"/>
                  <a:pt x="13122" y="16669"/>
                </a:cubicBezTo>
              </a:path>
              <a:path w="6773" h="1737">
                <a:moveTo>
                  <a:pt x="14039" y="15900"/>
                </a:moveTo>
                <a:cubicBezTo>
                  <a:pt x="14006" y="15866"/>
                  <a:pt x="13942" y="15798"/>
                  <a:pt x="13891" y="15801"/>
                </a:cubicBezTo>
                <a:cubicBezTo>
                  <a:pt x="13828" y="15804"/>
                  <a:pt x="13710" y="15854"/>
                  <a:pt x="13667" y="15900"/>
                </a:cubicBezTo>
                <a:cubicBezTo>
                  <a:pt x="13618" y="15953"/>
                  <a:pt x="13644" y="15950"/>
                  <a:pt x="13618" y="15999"/>
                </a:cubicBezTo>
                <a:cubicBezTo>
                  <a:pt x="13599" y="16034"/>
                  <a:pt x="13571" y="16101"/>
                  <a:pt x="13593" y="16148"/>
                </a:cubicBezTo>
                <a:cubicBezTo>
                  <a:pt x="13614" y="16191"/>
                  <a:pt x="13667" y="16220"/>
                  <a:pt x="13717" y="16247"/>
                </a:cubicBezTo>
                <a:cubicBezTo>
                  <a:pt x="13751" y="16265"/>
                  <a:pt x="13784" y="16268"/>
                  <a:pt x="13816" y="16297"/>
                </a:cubicBezTo>
                <a:cubicBezTo>
                  <a:pt x="13888" y="16364"/>
                  <a:pt x="13860" y="16356"/>
                  <a:pt x="13891" y="16421"/>
                </a:cubicBezTo>
                <a:cubicBezTo>
                  <a:pt x="13911" y="16462"/>
                  <a:pt x="13930" y="16495"/>
                  <a:pt x="13940" y="16545"/>
                </a:cubicBezTo>
                <a:cubicBezTo>
                  <a:pt x="13953" y="16611"/>
                  <a:pt x="13925" y="16659"/>
                  <a:pt x="13915" y="16718"/>
                </a:cubicBezTo>
                <a:cubicBezTo>
                  <a:pt x="13904" y="16783"/>
                  <a:pt x="13902" y="16859"/>
                  <a:pt x="13866" y="16917"/>
                </a:cubicBezTo>
                <a:cubicBezTo>
                  <a:pt x="13823" y="16987"/>
                  <a:pt x="13701" y="16990"/>
                  <a:pt x="13643" y="17016"/>
                </a:cubicBezTo>
                <a:cubicBezTo>
                  <a:pt x="13586" y="17041"/>
                  <a:pt x="13595" y="17044"/>
                  <a:pt x="13543" y="16991"/>
                </a:cubicBezTo>
                <a:cubicBezTo>
                  <a:pt x="13513" y="16960"/>
                  <a:pt x="13482" y="16963"/>
                  <a:pt x="13469" y="16917"/>
                </a:cubicBezTo>
                <a:cubicBezTo>
                  <a:pt x="13456" y="16872"/>
                  <a:pt x="13476" y="16779"/>
                  <a:pt x="13494" y="16743"/>
                </a:cubicBezTo>
                <a:cubicBezTo>
                  <a:pt x="13509" y="16712"/>
                  <a:pt x="13562" y="16688"/>
                  <a:pt x="13568" y="16669"/>
                </a:cubicBezTo>
                <a:cubicBezTo>
                  <a:pt x="13581" y="16625"/>
                  <a:pt x="13591" y="16581"/>
                  <a:pt x="13618" y="16545"/>
                </a:cubicBezTo>
                <a:cubicBezTo>
                  <a:pt x="13654" y="16498"/>
                  <a:pt x="13653" y="16497"/>
                  <a:pt x="13692" y="16446"/>
                </a:cubicBezTo>
                <a:cubicBezTo>
                  <a:pt x="13715" y="16416"/>
                  <a:pt x="13713" y="16384"/>
                  <a:pt x="13767" y="16346"/>
                </a:cubicBezTo>
                <a:cubicBezTo>
                  <a:pt x="13791" y="16329"/>
                  <a:pt x="13826" y="16312"/>
                  <a:pt x="13841" y="16297"/>
                </a:cubicBezTo>
                <a:cubicBezTo>
                  <a:pt x="13900" y="16239"/>
                  <a:pt x="13964" y="16144"/>
                  <a:pt x="14015" y="16098"/>
                </a:cubicBezTo>
                <a:cubicBezTo>
                  <a:pt x="14039" y="16077"/>
                  <a:pt x="14077" y="16067"/>
                  <a:pt x="14089" y="16024"/>
                </a:cubicBezTo>
                <a:cubicBezTo>
                  <a:pt x="14102" y="15974"/>
                  <a:pt x="14079" y="15967"/>
                  <a:pt x="14064" y="15949"/>
                </a:cubicBezTo>
                <a:cubicBezTo>
                  <a:pt x="14045" y="15925"/>
                  <a:pt x="14035" y="15911"/>
                  <a:pt x="13990" y="15900"/>
                </a:cubicBezTo>
                <a:cubicBezTo>
                  <a:pt x="13964" y="15894"/>
                  <a:pt x="13920" y="15900"/>
                  <a:pt x="13891" y="15900"/>
                </a:cubicBezTo>
              </a:path>
              <a:path w="6773" h="1737">
                <a:moveTo>
                  <a:pt x="14412" y="16520"/>
                </a:moveTo>
                <a:cubicBezTo>
                  <a:pt x="14339" y="16562"/>
                  <a:pt x="14322" y="16592"/>
                  <a:pt x="14288" y="16669"/>
                </a:cubicBezTo>
                <a:cubicBezTo>
                  <a:pt x="14256" y="16742"/>
                  <a:pt x="14260" y="16780"/>
                  <a:pt x="14288" y="16818"/>
                </a:cubicBezTo>
                <a:cubicBezTo>
                  <a:pt x="14322" y="16865"/>
                  <a:pt x="14346" y="16880"/>
                  <a:pt x="14412" y="16892"/>
                </a:cubicBezTo>
                <a:cubicBezTo>
                  <a:pt x="14476" y="16903"/>
                  <a:pt x="14511" y="16880"/>
                  <a:pt x="14536" y="16867"/>
                </a:cubicBezTo>
                <a:cubicBezTo>
                  <a:pt x="14544" y="16867"/>
                  <a:pt x="14552" y="16867"/>
                  <a:pt x="14560" y="16867"/>
                </a:cubicBezTo>
              </a:path>
              <a:path w="6773" h="1737">
                <a:moveTo>
                  <a:pt x="14833" y="16470"/>
                </a:moveTo>
                <a:cubicBezTo>
                  <a:pt x="14816" y="16537"/>
                  <a:pt x="14743" y="16578"/>
                  <a:pt x="14709" y="16644"/>
                </a:cubicBezTo>
                <a:cubicBezTo>
                  <a:pt x="14667" y="16727"/>
                  <a:pt x="14591" y="16802"/>
                  <a:pt x="14560" y="16892"/>
                </a:cubicBezTo>
                <a:cubicBezTo>
                  <a:pt x="14527" y="16990"/>
                  <a:pt x="14458" y="17089"/>
                  <a:pt x="14436" y="17190"/>
                </a:cubicBezTo>
                <a:cubicBezTo>
                  <a:pt x="14429" y="17222"/>
                  <a:pt x="14436" y="17272"/>
                  <a:pt x="14436" y="17239"/>
                </a:cubicBezTo>
              </a:path>
              <a:path w="6773" h="1737">
                <a:moveTo>
                  <a:pt x="15131" y="16644"/>
                </a:moveTo>
                <a:cubicBezTo>
                  <a:pt x="15131" y="16599"/>
                  <a:pt x="15144" y="16582"/>
                  <a:pt x="15106" y="16570"/>
                </a:cubicBezTo>
                <a:cubicBezTo>
                  <a:pt x="14984" y="16594"/>
                  <a:pt x="14983" y="16624"/>
                  <a:pt x="14932" y="16743"/>
                </a:cubicBezTo>
                <a:cubicBezTo>
                  <a:pt x="14924" y="16762"/>
                  <a:pt x="14882" y="16868"/>
                  <a:pt x="14908" y="16892"/>
                </a:cubicBezTo>
                <a:cubicBezTo>
                  <a:pt x="14959" y="16939"/>
                  <a:pt x="15029" y="16913"/>
                  <a:pt x="15081" y="16892"/>
                </a:cubicBezTo>
                <a:cubicBezTo>
                  <a:pt x="15160" y="16860"/>
                  <a:pt x="15179" y="16745"/>
                  <a:pt x="15205" y="16669"/>
                </a:cubicBezTo>
                <a:cubicBezTo>
                  <a:pt x="15228" y="16603"/>
                  <a:pt x="15265" y="16507"/>
                  <a:pt x="15280" y="16446"/>
                </a:cubicBezTo>
                <a:cubicBezTo>
                  <a:pt x="15280" y="16404"/>
                  <a:pt x="15280" y="16396"/>
                  <a:pt x="15280" y="16371"/>
                </a:cubicBezTo>
                <a:cubicBezTo>
                  <a:pt x="15248" y="16468"/>
                  <a:pt x="15216" y="16569"/>
                  <a:pt x="15205" y="16669"/>
                </a:cubicBezTo>
                <a:cubicBezTo>
                  <a:pt x="15198" y="16730"/>
                  <a:pt x="15193" y="16818"/>
                  <a:pt x="15230" y="16842"/>
                </a:cubicBezTo>
              </a:path>
              <a:path w="6773" h="1737">
                <a:moveTo>
                  <a:pt x="15677" y="16173"/>
                </a:moveTo>
                <a:cubicBezTo>
                  <a:pt x="15632" y="16113"/>
                  <a:pt x="15672" y="16114"/>
                  <a:pt x="15751" y="16098"/>
                </a:cubicBezTo>
                <a:cubicBezTo>
                  <a:pt x="15759" y="16098"/>
                  <a:pt x="15768" y="16098"/>
                  <a:pt x="15776" y="16098"/>
                </a:cubicBezTo>
                <a:cubicBezTo>
                  <a:pt x="15776" y="16204"/>
                  <a:pt x="15751" y="16242"/>
                  <a:pt x="15677" y="16321"/>
                </a:cubicBezTo>
                <a:cubicBezTo>
                  <a:pt x="15634" y="16367"/>
                  <a:pt x="15562" y="16397"/>
                  <a:pt x="15528" y="16446"/>
                </a:cubicBezTo>
                <a:cubicBezTo>
                  <a:pt x="15511" y="16470"/>
                  <a:pt x="15513" y="16465"/>
                  <a:pt x="15503" y="16495"/>
                </a:cubicBezTo>
                <a:cubicBezTo>
                  <a:pt x="15568" y="16495"/>
                  <a:pt x="15593" y="16485"/>
                  <a:pt x="15652" y="16470"/>
                </a:cubicBezTo>
                <a:cubicBezTo>
                  <a:pt x="15660" y="16470"/>
                  <a:pt x="15669" y="16470"/>
                  <a:pt x="15677" y="16470"/>
                </a:cubicBezTo>
              </a:path>
              <a:path w="6773" h="1737">
                <a:moveTo>
                  <a:pt x="15478" y="16718"/>
                </a:moveTo>
                <a:cubicBezTo>
                  <a:pt x="15505" y="16680"/>
                  <a:pt x="15737" y="16635"/>
                  <a:pt x="15801" y="16619"/>
                </a:cubicBezTo>
                <a:cubicBezTo>
                  <a:pt x="16132" y="16536"/>
                  <a:pt x="15650" y="16720"/>
                  <a:pt x="15602" y="16743"/>
                </a:cubicBezTo>
                <a:cubicBezTo>
                  <a:pt x="15586" y="16751"/>
                  <a:pt x="15569" y="16760"/>
                  <a:pt x="15553" y="16768"/>
                </a:cubicBezTo>
                <a:cubicBezTo>
                  <a:pt x="15622" y="16733"/>
                  <a:pt x="15795" y="16736"/>
                  <a:pt x="15850" y="16669"/>
                </a:cubicBezTo>
                <a:cubicBezTo>
                  <a:pt x="15834" y="16669"/>
                  <a:pt x="15817" y="16669"/>
                  <a:pt x="15801" y="16669"/>
                </a:cubicBezTo>
                <a:cubicBezTo>
                  <a:pt x="15727" y="16712"/>
                  <a:pt x="15449" y="16856"/>
                  <a:pt x="15701" y="16768"/>
                </a:cubicBezTo>
                <a:cubicBezTo>
                  <a:pt x="15963" y="16676"/>
                  <a:pt x="16143" y="16621"/>
                  <a:pt x="15801" y="16793"/>
                </a:cubicBezTo>
                <a:cubicBezTo>
                  <a:pt x="15735" y="16815"/>
                  <a:pt x="15701" y="16823"/>
                  <a:pt x="15776" y="16818"/>
                </a:cubicBezTo>
                <a:cubicBezTo>
                  <a:pt x="15867" y="16786"/>
                  <a:pt x="15993" y="16741"/>
                  <a:pt x="1590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86280" y="2581200"/>
            <a:ext cx="1803600" cy="71640"/>
          </a:xfrm>
          <a:custGeom>
            <a:avLst/>
            <a:gdLst/>
            <a:ahLst/>
            <a:rect l="l" t="t" r="r" b="b"/>
            <a:pathLst>
              <a:path w="5012" h="199">
                <a:moveTo>
                  <a:pt x="16073" y="7169"/>
                </a:moveTo>
                <a:lnTo>
                  <a:pt x="16073" y="7169"/>
                </a:lnTo>
              </a:path>
              <a:path w="5012" h="199">
                <a:moveTo>
                  <a:pt x="18157" y="7218"/>
                </a:moveTo>
                <a:lnTo>
                  <a:pt x="18157" y="7218"/>
                </a:lnTo>
              </a:path>
              <a:path w="5012" h="199">
                <a:moveTo>
                  <a:pt x="19720" y="7367"/>
                </a:moveTo>
                <a:lnTo>
                  <a:pt x="19720" y="7367"/>
                </a:lnTo>
              </a:path>
              <a:path w="5012" h="199">
                <a:moveTo>
                  <a:pt x="20265" y="7367"/>
                </a:moveTo>
                <a:cubicBezTo>
                  <a:pt x="20354" y="7337"/>
                  <a:pt x="20394" y="7329"/>
                  <a:pt x="20464" y="7342"/>
                </a:cubicBezTo>
              </a:path>
              <a:path w="5012" h="199">
                <a:moveTo>
                  <a:pt x="21084" y="7342"/>
                </a:moveTo>
                <a:lnTo>
                  <a:pt x="21084" y="7342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2197080"/>
            <a:ext cx="633600" cy="384120"/>
          </a:xfrm>
          <a:custGeom>
            <a:avLst/>
            <a:gdLst/>
            <a:ahLst/>
            <a:rect l="l" t="t" r="r" b="b"/>
            <a:pathLst>
              <a:path w="1762" h="1068">
                <a:moveTo>
                  <a:pt x="16743" y="6102"/>
                </a:moveTo>
                <a:cubicBezTo>
                  <a:pt x="16743" y="6241"/>
                  <a:pt x="16602" y="6445"/>
                  <a:pt x="16520" y="6548"/>
                </a:cubicBezTo>
                <a:cubicBezTo>
                  <a:pt x="16404" y="6664"/>
                  <a:pt x="16387" y="6681"/>
                  <a:pt x="16321" y="6747"/>
                </a:cubicBezTo>
                <a:cubicBezTo>
                  <a:pt x="16444" y="6722"/>
                  <a:pt x="16588" y="6669"/>
                  <a:pt x="16718" y="6672"/>
                </a:cubicBezTo>
                <a:cubicBezTo>
                  <a:pt x="16796" y="6674"/>
                  <a:pt x="16852" y="6676"/>
                  <a:pt x="16867" y="6722"/>
                </a:cubicBezTo>
              </a:path>
              <a:path w="1762" h="1068">
                <a:moveTo>
                  <a:pt x="17314" y="6474"/>
                </a:moveTo>
                <a:cubicBezTo>
                  <a:pt x="17373" y="6392"/>
                  <a:pt x="17283" y="6259"/>
                  <a:pt x="17214" y="6201"/>
                </a:cubicBezTo>
                <a:cubicBezTo>
                  <a:pt x="17189" y="6193"/>
                  <a:pt x="17165" y="6184"/>
                  <a:pt x="17140" y="6176"/>
                </a:cubicBezTo>
                <a:cubicBezTo>
                  <a:pt x="17064" y="6263"/>
                  <a:pt x="16761" y="6707"/>
                  <a:pt x="17090" y="6722"/>
                </a:cubicBezTo>
                <a:cubicBezTo>
                  <a:pt x="17305" y="6732"/>
                  <a:pt x="17296" y="6481"/>
                  <a:pt x="17314" y="6350"/>
                </a:cubicBezTo>
                <a:cubicBezTo>
                  <a:pt x="17314" y="6396"/>
                  <a:pt x="17361" y="6593"/>
                  <a:pt x="17462" y="6697"/>
                </a:cubicBezTo>
                <a:cubicBezTo>
                  <a:pt x="17566" y="6805"/>
                  <a:pt x="17560" y="6749"/>
                  <a:pt x="17661" y="6896"/>
                </a:cubicBezTo>
              </a:path>
              <a:path w="1762" h="1068">
                <a:moveTo>
                  <a:pt x="15900" y="7169"/>
                </a:moveTo>
                <a:cubicBezTo>
                  <a:pt x="15982" y="7169"/>
                  <a:pt x="16015" y="7169"/>
                  <a:pt x="16073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43800" y="2616120"/>
            <a:ext cx="1350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8455" y="7268"/>
                </a:moveTo>
                <a:cubicBezTo>
                  <a:pt x="18584" y="7287"/>
                  <a:pt x="18696" y="7293"/>
                  <a:pt x="18827" y="729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56280" y="264312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9323" y="7342"/>
                </a:moveTo>
                <a:cubicBezTo>
                  <a:pt x="19460" y="7363"/>
                  <a:pt x="19580" y="7367"/>
                  <a:pt x="19720" y="7367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040" y="2643120"/>
            <a:ext cx="776160" cy="1108080"/>
          </a:xfrm>
          <a:custGeom>
            <a:avLst/>
            <a:gdLst/>
            <a:ahLst/>
            <a:rect l="l" t="t" r="r" b="b"/>
            <a:pathLst>
              <a:path w="2159" h="3077">
                <a:moveTo>
                  <a:pt x="20687" y="7342"/>
                </a:moveTo>
                <a:cubicBezTo>
                  <a:pt x="20819" y="7342"/>
                  <a:pt x="20952" y="7342"/>
                  <a:pt x="21084" y="7342"/>
                </a:cubicBezTo>
              </a:path>
              <a:path w="2159" h="3077">
                <a:moveTo>
                  <a:pt x="22671" y="10418"/>
                </a:moveTo>
                <a:cubicBezTo>
                  <a:pt x="22671" y="10228"/>
                  <a:pt x="22671" y="10037"/>
                  <a:pt x="22671" y="9847"/>
                </a:cubicBezTo>
              </a:path>
              <a:path w="2159" h="3077">
                <a:moveTo>
                  <a:pt x="22671" y="9327"/>
                </a:moveTo>
                <a:cubicBezTo>
                  <a:pt x="22671" y="9211"/>
                  <a:pt x="22671" y="9095"/>
                  <a:pt x="22671" y="8979"/>
                </a:cubicBezTo>
              </a:path>
              <a:path w="2159" h="3077">
                <a:moveTo>
                  <a:pt x="22671" y="8706"/>
                </a:moveTo>
                <a:cubicBezTo>
                  <a:pt x="22655" y="8565"/>
                  <a:pt x="22671" y="8431"/>
                  <a:pt x="22671" y="8285"/>
                </a:cubicBezTo>
              </a:path>
              <a:path w="2159" h="3077">
                <a:moveTo>
                  <a:pt x="22622" y="7863"/>
                </a:moveTo>
                <a:cubicBezTo>
                  <a:pt x="22622" y="7714"/>
                  <a:pt x="22622" y="7566"/>
                  <a:pt x="22622" y="7417"/>
                </a:cubicBezTo>
              </a:path>
              <a:path w="2159" h="3077">
                <a:moveTo>
                  <a:pt x="22597" y="7392"/>
                </a:moveTo>
                <a:cubicBezTo>
                  <a:pt x="22597" y="7367"/>
                  <a:pt x="22597" y="7359"/>
                  <a:pt x="22597" y="7342"/>
                </a:cubicBezTo>
              </a:path>
              <a:path w="2159" h="3077">
                <a:moveTo>
                  <a:pt x="20861" y="8731"/>
                </a:moveTo>
                <a:cubicBezTo>
                  <a:pt x="20896" y="8660"/>
                  <a:pt x="20944" y="8631"/>
                  <a:pt x="21010" y="8582"/>
                </a:cubicBezTo>
                <a:cubicBezTo>
                  <a:pt x="21031" y="8788"/>
                  <a:pt x="20979" y="8891"/>
                  <a:pt x="20910" y="9079"/>
                </a:cubicBezTo>
                <a:cubicBezTo>
                  <a:pt x="20910" y="9087"/>
                  <a:pt x="20910" y="9095"/>
                  <a:pt x="20910" y="9103"/>
                </a:cubicBezTo>
                <a:cubicBezTo>
                  <a:pt x="21005" y="9085"/>
                  <a:pt x="21096" y="9023"/>
                  <a:pt x="21183" y="8979"/>
                </a:cubicBezTo>
                <a:cubicBezTo>
                  <a:pt x="21200" y="8971"/>
                  <a:pt x="21216" y="8962"/>
                  <a:pt x="21233" y="8954"/>
                </a:cubicBezTo>
              </a:path>
              <a:path w="2159" h="3077">
                <a:moveTo>
                  <a:pt x="20960" y="9277"/>
                </a:moveTo>
                <a:cubicBezTo>
                  <a:pt x="21153" y="9258"/>
                  <a:pt x="21355" y="9226"/>
                  <a:pt x="21481" y="9054"/>
                </a:cubicBezTo>
                <a:cubicBezTo>
                  <a:pt x="21602" y="8888"/>
                  <a:pt x="21621" y="8644"/>
                  <a:pt x="21481" y="8483"/>
                </a:cubicBezTo>
                <a:cubicBezTo>
                  <a:pt x="21305" y="8280"/>
                  <a:pt x="21076" y="8242"/>
                  <a:pt x="20836" y="8334"/>
                </a:cubicBezTo>
                <a:cubicBezTo>
                  <a:pt x="20586" y="8429"/>
                  <a:pt x="20477" y="8747"/>
                  <a:pt x="20513" y="9004"/>
                </a:cubicBezTo>
                <a:cubicBezTo>
                  <a:pt x="20554" y="9291"/>
                  <a:pt x="20782" y="9332"/>
                  <a:pt x="21010" y="9252"/>
                </a:cubicBezTo>
                <a:cubicBezTo>
                  <a:pt x="21125" y="9194"/>
                  <a:pt x="21142" y="9186"/>
                  <a:pt x="21208" y="915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41920" y="990720"/>
            <a:ext cx="3251160" cy="1573200"/>
          </a:xfrm>
          <a:custGeom>
            <a:avLst/>
            <a:gdLst/>
            <a:ahLst/>
            <a:rect l="l" t="t" r="r" b="b"/>
            <a:pathLst>
              <a:path w="9030" h="4367">
                <a:moveTo>
                  <a:pt x="13171" y="6921"/>
                </a:moveTo>
                <a:cubicBezTo>
                  <a:pt x="13238" y="6921"/>
                  <a:pt x="13272" y="6917"/>
                  <a:pt x="13320" y="6896"/>
                </a:cubicBezTo>
              </a:path>
              <a:path w="9030" h="4367">
                <a:moveTo>
                  <a:pt x="14015" y="6921"/>
                </a:moveTo>
                <a:lnTo>
                  <a:pt x="14015" y="6921"/>
                </a:lnTo>
              </a:path>
              <a:path w="9030" h="4367">
                <a:moveTo>
                  <a:pt x="14560" y="6995"/>
                </a:moveTo>
                <a:cubicBezTo>
                  <a:pt x="14601" y="6995"/>
                  <a:pt x="14643" y="6995"/>
                  <a:pt x="14684" y="6995"/>
                </a:cubicBezTo>
              </a:path>
              <a:path w="9030" h="4367">
                <a:moveTo>
                  <a:pt x="15106" y="7045"/>
                </a:moveTo>
                <a:cubicBezTo>
                  <a:pt x="15216" y="7074"/>
                  <a:pt x="15317" y="7098"/>
                  <a:pt x="15429" y="7119"/>
                </a:cubicBezTo>
              </a:path>
              <a:path w="9030" h="4367">
                <a:moveTo>
                  <a:pt x="19248" y="2803"/>
                </a:moveTo>
                <a:cubicBezTo>
                  <a:pt x="19248" y="2795"/>
                  <a:pt x="19248" y="2786"/>
                  <a:pt x="19248" y="2778"/>
                </a:cubicBezTo>
              </a:path>
              <a:path w="9030" h="4367">
                <a:moveTo>
                  <a:pt x="20265" y="2828"/>
                </a:moveTo>
                <a:cubicBezTo>
                  <a:pt x="20350" y="2808"/>
                  <a:pt x="20428" y="2798"/>
                  <a:pt x="20513" y="2778"/>
                </a:cubicBezTo>
              </a:path>
              <a:path w="9030" h="4367">
                <a:moveTo>
                  <a:pt x="20712" y="2778"/>
                </a:moveTo>
                <a:cubicBezTo>
                  <a:pt x="20798" y="2771"/>
                  <a:pt x="20873" y="2759"/>
                  <a:pt x="20960" y="2753"/>
                </a:cubicBezTo>
              </a:path>
              <a:path w="9030" h="4367">
                <a:moveTo>
                  <a:pt x="21183" y="2778"/>
                </a:moveTo>
                <a:lnTo>
                  <a:pt x="21183" y="2778"/>
                </a:lnTo>
              </a:path>
              <a:path w="9030" h="4367">
                <a:moveTo>
                  <a:pt x="21233" y="2853"/>
                </a:moveTo>
                <a:cubicBezTo>
                  <a:pt x="21367" y="2814"/>
                  <a:pt x="21463" y="2808"/>
                  <a:pt x="21605" y="2803"/>
                </a:cubicBezTo>
              </a:path>
              <a:path w="9030" h="4367">
                <a:moveTo>
                  <a:pt x="22126" y="2853"/>
                </a:moveTo>
                <a:cubicBezTo>
                  <a:pt x="22161" y="2853"/>
                  <a:pt x="22178" y="2857"/>
                  <a:pt x="22200" y="2877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2920" y="2330280"/>
            <a:ext cx="2616120" cy="1117800"/>
          </a:xfrm>
          <a:custGeom>
            <a:avLst/>
            <a:gdLst/>
            <a:ahLst/>
            <a:rect l="l" t="t" r="r" b="b"/>
            <a:pathLst>
              <a:path w="7268" h="3102">
                <a:moveTo>
                  <a:pt x="12576" y="6970"/>
                </a:moveTo>
                <a:cubicBezTo>
                  <a:pt x="12676" y="6988"/>
                  <a:pt x="12674" y="6982"/>
                  <a:pt x="12774" y="6945"/>
                </a:cubicBezTo>
              </a:path>
              <a:path w="7268" h="3102">
                <a:moveTo>
                  <a:pt x="13816" y="6921"/>
                </a:moveTo>
                <a:cubicBezTo>
                  <a:pt x="13915" y="6921"/>
                  <a:pt x="13949" y="6921"/>
                  <a:pt x="14015" y="6921"/>
                </a:cubicBezTo>
              </a:path>
              <a:path w="7268" h="3102">
                <a:moveTo>
                  <a:pt x="13568" y="8632"/>
                </a:moveTo>
                <a:cubicBezTo>
                  <a:pt x="13646" y="8761"/>
                  <a:pt x="13706" y="8885"/>
                  <a:pt x="13742" y="9029"/>
                </a:cubicBezTo>
                <a:cubicBezTo>
                  <a:pt x="13742" y="9037"/>
                  <a:pt x="13742" y="9046"/>
                  <a:pt x="13742" y="9054"/>
                </a:cubicBezTo>
              </a:path>
              <a:path w="7268" h="3102">
                <a:moveTo>
                  <a:pt x="13519" y="9153"/>
                </a:moveTo>
                <a:cubicBezTo>
                  <a:pt x="13671" y="9276"/>
                  <a:pt x="13793" y="9270"/>
                  <a:pt x="13965" y="9153"/>
                </a:cubicBezTo>
                <a:cubicBezTo>
                  <a:pt x="14124" y="9045"/>
                  <a:pt x="14236" y="8875"/>
                  <a:pt x="14139" y="8682"/>
                </a:cubicBezTo>
                <a:cubicBezTo>
                  <a:pt x="14033" y="8471"/>
                  <a:pt x="13835" y="8417"/>
                  <a:pt x="13618" y="8434"/>
                </a:cubicBezTo>
                <a:cubicBezTo>
                  <a:pt x="13402" y="8451"/>
                  <a:pt x="13358" y="8586"/>
                  <a:pt x="13345" y="8781"/>
                </a:cubicBezTo>
                <a:cubicBezTo>
                  <a:pt x="13325" y="9086"/>
                  <a:pt x="13425" y="9152"/>
                  <a:pt x="13692" y="9227"/>
                </a:cubicBezTo>
              </a:path>
              <a:path w="7268" h="3102">
                <a:moveTo>
                  <a:pt x="6896" y="6995"/>
                </a:moveTo>
                <a:cubicBezTo>
                  <a:pt x="6896" y="6946"/>
                  <a:pt x="7006" y="6933"/>
                  <a:pt x="7045" y="6921"/>
                </a:cubicBezTo>
              </a:path>
              <a:path w="7268" h="3102">
                <a:moveTo>
                  <a:pt x="7243" y="6921"/>
                </a:moveTo>
                <a:cubicBezTo>
                  <a:pt x="7381" y="6907"/>
                  <a:pt x="7504" y="6866"/>
                  <a:pt x="7640" y="6846"/>
                </a:cubicBezTo>
                <a:cubicBezTo>
                  <a:pt x="7825" y="6818"/>
                  <a:pt x="8031" y="6819"/>
                  <a:pt x="8210" y="6772"/>
                </a:cubicBezTo>
                <a:cubicBezTo>
                  <a:pt x="8334" y="6722"/>
                  <a:pt x="8375" y="6705"/>
                  <a:pt x="8458" y="6672"/>
                </a:cubicBezTo>
              </a:path>
              <a:path w="7268" h="3102">
                <a:moveTo>
                  <a:pt x="8607" y="6648"/>
                </a:moveTo>
                <a:cubicBezTo>
                  <a:pt x="8692" y="6658"/>
                  <a:pt x="8765" y="6672"/>
                  <a:pt x="8855" y="6672"/>
                </a:cubicBezTo>
              </a:path>
              <a:path w="7268" h="3102">
                <a:moveTo>
                  <a:pt x="9029" y="6672"/>
                </a:moveTo>
                <a:cubicBezTo>
                  <a:pt x="9111" y="6672"/>
                  <a:pt x="9172" y="6651"/>
                  <a:pt x="9252" y="6648"/>
                </a:cubicBezTo>
                <a:cubicBezTo>
                  <a:pt x="9429" y="6641"/>
                  <a:pt x="9597" y="6651"/>
                  <a:pt x="9773" y="6623"/>
                </a:cubicBezTo>
              </a:path>
              <a:path w="7268" h="3102">
                <a:moveTo>
                  <a:pt x="9947" y="6648"/>
                </a:moveTo>
                <a:cubicBezTo>
                  <a:pt x="10055" y="6680"/>
                  <a:pt x="10107" y="6633"/>
                  <a:pt x="10220" y="6648"/>
                </a:cubicBezTo>
                <a:cubicBezTo>
                  <a:pt x="10321" y="6661"/>
                  <a:pt x="10412" y="6672"/>
                  <a:pt x="10517" y="6672"/>
                </a:cubicBezTo>
                <a:cubicBezTo>
                  <a:pt x="10639" y="6672"/>
                  <a:pt x="10747" y="6639"/>
                  <a:pt x="10864" y="6623"/>
                </a:cubicBezTo>
                <a:cubicBezTo>
                  <a:pt x="10933" y="6614"/>
                  <a:pt x="10952" y="6630"/>
                  <a:pt x="11013" y="6623"/>
                </a:cubicBezTo>
                <a:cubicBezTo>
                  <a:pt x="11084" y="6615"/>
                  <a:pt x="11157" y="6642"/>
                  <a:pt x="11212" y="6648"/>
                </a:cubicBezTo>
                <a:cubicBezTo>
                  <a:pt x="11299" y="6658"/>
                  <a:pt x="11312" y="6662"/>
                  <a:pt x="11385" y="6672"/>
                </a:cubicBezTo>
              </a:path>
              <a:path w="7268" h="3102">
                <a:moveTo>
                  <a:pt x="11559" y="6747"/>
                </a:moveTo>
                <a:cubicBezTo>
                  <a:pt x="11609" y="6777"/>
                  <a:pt x="11646" y="6772"/>
                  <a:pt x="11708" y="6772"/>
                </a:cubicBezTo>
                <a:cubicBezTo>
                  <a:pt x="11759" y="6772"/>
                  <a:pt x="11802" y="6796"/>
                  <a:pt x="11857" y="6796"/>
                </a:cubicBezTo>
                <a:cubicBezTo>
                  <a:pt x="11881" y="6796"/>
                  <a:pt x="11890" y="6796"/>
                  <a:pt x="11906" y="6796"/>
                </a:cubicBezTo>
              </a:path>
              <a:path w="7268" h="3102">
                <a:moveTo>
                  <a:pt x="9823" y="8756"/>
                </a:moveTo>
                <a:cubicBezTo>
                  <a:pt x="9913" y="8689"/>
                  <a:pt x="9936" y="8671"/>
                  <a:pt x="9996" y="8632"/>
                </a:cubicBezTo>
                <a:cubicBezTo>
                  <a:pt x="10064" y="8796"/>
                  <a:pt x="10057" y="8959"/>
                  <a:pt x="10096" y="9128"/>
                </a:cubicBezTo>
                <a:cubicBezTo>
                  <a:pt x="10216" y="9080"/>
                  <a:pt x="10288" y="8965"/>
                  <a:pt x="10393" y="8880"/>
                </a:cubicBezTo>
              </a:path>
              <a:path w="7268" h="3102">
                <a:moveTo>
                  <a:pt x="10195" y="9351"/>
                </a:moveTo>
                <a:cubicBezTo>
                  <a:pt x="10364" y="9228"/>
                  <a:pt x="10663" y="9025"/>
                  <a:pt x="10517" y="8756"/>
                </a:cubicBezTo>
                <a:cubicBezTo>
                  <a:pt x="10333" y="8417"/>
                  <a:pt x="9849" y="8486"/>
                  <a:pt x="9649" y="8756"/>
                </a:cubicBezTo>
                <a:cubicBezTo>
                  <a:pt x="9422" y="9062"/>
                  <a:pt x="9621" y="9667"/>
                  <a:pt x="10071" y="9575"/>
                </a:cubicBezTo>
                <a:cubicBezTo>
                  <a:pt x="10154" y="9525"/>
                  <a:pt x="10236" y="9476"/>
                  <a:pt x="10319" y="9426"/>
                </a:cubicBezTo>
              </a:path>
              <a:path w="7268" h="3102">
                <a:moveTo>
                  <a:pt x="9971" y="8458"/>
                </a:moveTo>
                <a:cubicBezTo>
                  <a:pt x="9981" y="8472"/>
                  <a:pt x="10065" y="8589"/>
                  <a:pt x="10096" y="8558"/>
                </a:cubicBezTo>
                <a:cubicBezTo>
                  <a:pt x="10106" y="8548"/>
                  <a:pt x="9984" y="8357"/>
                  <a:pt x="9971" y="8334"/>
                </a:cubicBezTo>
                <a:cubicBezTo>
                  <a:pt x="9926" y="8304"/>
                  <a:pt x="9985" y="8368"/>
                  <a:pt x="10021" y="8409"/>
                </a:cubicBezTo>
              </a:path>
              <a:path w="7268" h="3102">
                <a:moveTo>
                  <a:pt x="8384" y="7417"/>
                </a:moveTo>
                <a:cubicBezTo>
                  <a:pt x="8926" y="7095"/>
                  <a:pt x="9446" y="6728"/>
                  <a:pt x="10046" y="6524"/>
                </a:cubicBezTo>
                <a:cubicBezTo>
                  <a:pt x="10120" y="6507"/>
                  <a:pt x="10195" y="6491"/>
                  <a:pt x="10269" y="6474"/>
                </a:cubicBezTo>
              </a:path>
              <a:path w="7268" h="3102">
                <a:moveTo>
                  <a:pt x="8582" y="9029"/>
                </a:moveTo>
                <a:cubicBezTo>
                  <a:pt x="8684" y="8952"/>
                  <a:pt x="8824" y="8839"/>
                  <a:pt x="8930" y="8756"/>
                </a:cubicBezTo>
                <a:cubicBezTo>
                  <a:pt x="9466" y="8338"/>
                  <a:pt x="10028" y="8010"/>
                  <a:pt x="10641" y="7714"/>
                </a:cubicBezTo>
                <a:cubicBezTo>
                  <a:pt x="11089" y="7513"/>
                  <a:pt x="11203" y="7452"/>
                  <a:pt x="11509" y="7392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85000" y="990720"/>
            <a:ext cx="1465200" cy="492120"/>
          </a:xfrm>
          <a:custGeom>
            <a:avLst/>
            <a:gdLst/>
            <a:ahLst/>
            <a:rect l="l" t="t" r="r" b="b"/>
            <a:pathLst>
              <a:path w="4069" h="1366">
                <a:moveTo>
                  <a:pt x="19968" y="2853"/>
                </a:moveTo>
                <a:cubicBezTo>
                  <a:pt x="19794" y="3027"/>
                  <a:pt x="19613" y="3237"/>
                  <a:pt x="19472" y="3448"/>
                </a:cubicBezTo>
                <a:cubicBezTo>
                  <a:pt x="19343" y="3641"/>
                  <a:pt x="19223" y="3863"/>
                  <a:pt x="19124" y="4068"/>
                </a:cubicBezTo>
                <a:cubicBezTo>
                  <a:pt x="19225" y="4048"/>
                  <a:pt x="19348" y="4006"/>
                  <a:pt x="19447" y="3994"/>
                </a:cubicBezTo>
                <a:cubicBezTo>
                  <a:pt x="19777" y="3952"/>
                  <a:pt x="20162" y="3986"/>
                  <a:pt x="20489" y="4018"/>
                </a:cubicBezTo>
                <a:cubicBezTo>
                  <a:pt x="20802" y="4049"/>
                  <a:pt x="21116" y="4064"/>
                  <a:pt x="21431" y="4068"/>
                </a:cubicBezTo>
                <a:cubicBezTo>
                  <a:pt x="21713" y="4072"/>
                  <a:pt x="21992" y="4093"/>
                  <a:pt x="22275" y="4093"/>
                </a:cubicBezTo>
                <a:cubicBezTo>
                  <a:pt x="22540" y="4093"/>
                  <a:pt x="23220" y="4265"/>
                  <a:pt x="23019" y="4093"/>
                </a:cubicBezTo>
                <a:cubicBezTo>
                  <a:pt x="22986" y="4085"/>
                  <a:pt x="22953" y="4076"/>
                  <a:pt x="22920" y="4068"/>
                </a:cubicBezTo>
              </a:path>
              <a:path w="4069" h="1366">
                <a:moveTo>
                  <a:pt x="19993" y="2877"/>
                </a:moveTo>
                <a:cubicBezTo>
                  <a:pt x="20070" y="2903"/>
                  <a:pt x="20136" y="2935"/>
                  <a:pt x="20216" y="2977"/>
                </a:cubicBezTo>
                <a:cubicBezTo>
                  <a:pt x="20338" y="3041"/>
                  <a:pt x="20464" y="3091"/>
                  <a:pt x="20588" y="3150"/>
                </a:cubicBezTo>
                <a:cubicBezTo>
                  <a:pt x="20728" y="3217"/>
                  <a:pt x="20866" y="3291"/>
                  <a:pt x="21010" y="3349"/>
                </a:cubicBezTo>
                <a:cubicBezTo>
                  <a:pt x="21084" y="3379"/>
                  <a:pt x="21171" y="3411"/>
                  <a:pt x="21233" y="3448"/>
                </a:cubicBezTo>
                <a:cubicBezTo>
                  <a:pt x="21321" y="3501"/>
                  <a:pt x="21412" y="3555"/>
                  <a:pt x="21506" y="3597"/>
                </a:cubicBezTo>
                <a:cubicBezTo>
                  <a:pt x="21591" y="3635"/>
                  <a:pt x="21671" y="3682"/>
                  <a:pt x="21754" y="3721"/>
                </a:cubicBezTo>
                <a:cubicBezTo>
                  <a:pt x="21868" y="3775"/>
                  <a:pt x="21991" y="3809"/>
                  <a:pt x="22101" y="3870"/>
                </a:cubicBezTo>
                <a:cubicBezTo>
                  <a:pt x="22138" y="3890"/>
                  <a:pt x="22160" y="3908"/>
                  <a:pt x="22200" y="3919"/>
                </a:cubicBezTo>
                <a:cubicBezTo>
                  <a:pt x="22265" y="3936"/>
                  <a:pt x="22340" y="3979"/>
                  <a:pt x="22399" y="3994"/>
                </a:cubicBezTo>
                <a:cubicBezTo>
                  <a:pt x="22467" y="4012"/>
                  <a:pt x="22557" y="4014"/>
                  <a:pt x="22622" y="4043"/>
                </a:cubicBezTo>
                <a:cubicBezTo>
                  <a:pt x="22724" y="4088"/>
                  <a:pt x="22709" y="4103"/>
                  <a:pt x="22721" y="4118"/>
                </a:cubicBezTo>
              </a:path>
              <a:path w="4069" h="1366">
                <a:moveTo>
                  <a:pt x="19943" y="2952"/>
                </a:moveTo>
                <a:cubicBezTo>
                  <a:pt x="19943" y="3035"/>
                  <a:pt x="19943" y="3117"/>
                  <a:pt x="19943" y="3200"/>
                </a:cubicBezTo>
              </a:path>
              <a:path w="4069" h="1366">
                <a:moveTo>
                  <a:pt x="19968" y="3324"/>
                </a:moveTo>
                <a:cubicBezTo>
                  <a:pt x="19910" y="3343"/>
                  <a:pt x="19956" y="3397"/>
                  <a:pt x="19968" y="3448"/>
                </a:cubicBezTo>
                <a:cubicBezTo>
                  <a:pt x="19968" y="3481"/>
                  <a:pt x="19968" y="3497"/>
                  <a:pt x="19968" y="3522"/>
                </a:cubicBezTo>
              </a:path>
              <a:path w="4069" h="1366">
                <a:moveTo>
                  <a:pt x="19968" y="3621"/>
                </a:moveTo>
                <a:cubicBezTo>
                  <a:pt x="19968" y="3689"/>
                  <a:pt x="19975" y="3717"/>
                  <a:pt x="19993" y="3770"/>
                </a:cubicBezTo>
                <a:cubicBezTo>
                  <a:pt x="20000" y="3792"/>
                  <a:pt x="19993" y="3851"/>
                  <a:pt x="19993" y="3870"/>
                </a:cubicBezTo>
              </a:path>
              <a:path w="4069" h="1366">
                <a:moveTo>
                  <a:pt x="20017" y="4018"/>
                </a:moveTo>
                <a:cubicBezTo>
                  <a:pt x="20017" y="4026"/>
                  <a:pt x="20017" y="4110"/>
                  <a:pt x="20017" y="4043"/>
                </a:cubicBezTo>
              </a:path>
              <a:path w="4069" h="1366">
                <a:moveTo>
                  <a:pt x="19769" y="3919"/>
                </a:moveTo>
                <a:cubicBezTo>
                  <a:pt x="19769" y="3987"/>
                  <a:pt x="19769" y="3834"/>
                  <a:pt x="19769" y="3820"/>
                </a:cubicBezTo>
                <a:cubicBezTo>
                  <a:pt x="19769" y="3759"/>
                  <a:pt x="19752" y="3781"/>
                  <a:pt x="19769" y="3746"/>
                </a:cubicBezTo>
                <a:cubicBezTo>
                  <a:pt x="19801" y="3680"/>
                  <a:pt x="19917" y="3674"/>
                  <a:pt x="19993" y="3671"/>
                </a:cubicBezTo>
                <a:cubicBezTo>
                  <a:pt x="20071" y="3667"/>
                  <a:pt x="20129" y="3678"/>
                  <a:pt x="20166" y="3696"/>
                </a:cubicBezTo>
                <a:cubicBezTo>
                  <a:pt x="20218" y="3722"/>
                  <a:pt x="20191" y="3899"/>
                  <a:pt x="20191" y="3969"/>
                </a:cubicBezTo>
                <a:cubicBezTo>
                  <a:pt x="20191" y="3994"/>
                  <a:pt x="20191" y="4018"/>
                  <a:pt x="20191" y="4043"/>
                </a:cubicBezTo>
              </a:path>
              <a:path w="4069" h="1366">
                <a:moveTo>
                  <a:pt x="19124" y="4093"/>
                </a:moveTo>
                <a:cubicBezTo>
                  <a:pt x="19124" y="4006"/>
                  <a:pt x="19138" y="3955"/>
                  <a:pt x="19124" y="3870"/>
                </a:cubicBezTo>
              </a:path>
              <a:path w="4069" h="1366">
                <a:moveTo>
                  <a:pt x="19174" y="3621"/>
                </a:moveTo>
                <a:cubicBezTo>
                  <a:pt x="19174" y="3550"/>
                  <a:pt x="19171" y="3511"/>
                  <a:pt x="19199" y="3448"/>
                </a:cubicBezTo>
              </a:path>
              <a:path w="4069" h="1366">
                <a:moveTo>
                  <a:pt x="19224" y="3150"/>
                </a:moveTo>
                <a:cubicBezTo>
                  <a:pt x="19224" y="3084"/>
                  <a:pt x="19224" y="3018"/>
                  <a:pt x="19224" y="2952"/>
                </a:cubicBezTo>
              </a:path>
              <a:path w="4069" h="1366">
                <a:moveTo>
                  <a:pt x="20985" y="2753"/>
                </a:moveTo>
                <a:cubicBezTo>
                  <a:pt x="21060" y="2753"/>
                  <a:pt x="21111" y="2760"/>
                  <a:pt x="21183" y="2778"/>
                </a:cubicBezTo>
              </a:path>
              <a:path w="4069" h="1366">
                <a:moveTo>
                  <a:pt x="21779" y="2853"/>
                </a:moveTo>
                <a:cubicBezTo>
                  <a:pt x="21787" y="2853"/>
                  <a:pt x="21795" y="2853"/>
                  <a:pt x="21803" y="2853"/>
                </a:cubicBezTo>
                <a:cubicBezTo>
                  <a:pt x="21817" y="2892"/>
                  <a:pt x="21853" y="2877"/>
                  <a:pt x="21903" y="2877"/>
                </a:cubicBezTo>
              </a:path>
              <a:path w="4069" h="1366">
                <a:moveTo>
                  <a:pt x="22547" y="2877"/>
                </a:moveTo>
                <a:cubicBezTo>
                  <a:pt x="22596" y="2857"/>
                  <a:pt x="22600" y="2853"/>
                  <a:pt x="22647" y="2853"/>
                </a:cubicBezTo>
              </a:path>
              <a:path w="4069" h="1366">
                <a:moveTo>
                  <a:pt x="22796" y="2828"/>
                </a:moveTo>
                <a:cubicBezTo>
                  <a:pt x="22873" y="2819"/>
                  <a:pt x="22943" y="2785"/>
                  <a:pt x="23019" y="2778"/>
                </a:cubicBezTo>
                <a:cubicBezTo>
                  <a:pt x="23076" y="2773"/>
                  <a:pt x="23105" y="2799"/>
                  <a:pt x="23168" y="2803"/>
                </a:cubicBezTo>
                <a:cubicBezTo>
                  <a:pt x="23176" y="2803"/>
                  <a:pt x="23184" y="2803"/>
                  <a:pt x="23192" y="2803"/>
                </a:cubicBezTo>
              </a:path>
              <a:path w="4069" h="1366">
                <a:moveTo>
                  <a:pt x="23019" y="4068"/>
                </a:moveTo>
                <a:cubicBezTo>
                  <a:pt x="23019" y="4144"/>
                  <a:pt x="22995" y="3826"/>
                  <a:pt x="22994" y="3795"/>
                </a:cubicBezTo>
              </a:path>
              <a:path w="4069" h="1366">
                <a:moveTo>
                  <a:pt x="22969" y="3646"/>
                </a:moveTo>
                <a:cubicBezTo>
                  <a:pt x="22961" y="3527"/>
                  <a:pt x="22928" y="3457"/>
                  <a:pt x="22895" y="3349"/>
                </a:cubicBezTo>
                <a:cubicBezTo>
                  <a:pt x="22861" y="3237"/>
                  <a:pt x="22933" y="3109"/>
                  <a:pt x="22870" y="3001"/>
                </a:cubicBezTo>
                <a:cubicBezTo>
                  <a:pt x="22835" y="2941"/>
                  <a:pt x="22845" y="2878"/>
                  <a:pt x="22845" y="2803"/>
                </a:cubicBezTo>
                <a:cubicBezTo>
                  <a:pt x="22845" y="2778"/>
                  <a:pt x="22845" y="2770"/>
                  <a:pt x="22820" y="2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19840" y="4867200"/>
            <a:ext cx="250920" cy="366840"/>
          </a:xfrm>
          <a:custGeom>
            <a:avLst/>
            <a:gdLst/>
            <a:ahLst/>
            <a:rect l="l" t="t" r="r" b="b"/>
            <a:pathLst>
              <a:path w="695" h="1018">
                <a:moveTo>
                  <a:pt x="17115" y="13543"/>
                </a:moveTo>
                <a:cubicBezTo>
                  <a:pt x="17123" y="13543"/>
                  <a:pt x="17132" y="13543"/>
                  <a:pt x="17140" y="13543"/>
                </a:cubicBezTo>
                <a:cubicBezTo>
                  <a:pt x="17096" y="13529"/>
                  <a:pt x="17045" y="13517"/>
                  <a:pt x="16966" y="13543"/>
                </a:cubicBezTo>
                <a:cubicBezTo>
                  <a:pt x="16893" y="13567"/>
                  <a:pt x="16816" y="13604"/>
                  <a:pt x="16743" y="13618"/>
                </a:cubicBezTo>
                <a:cubicBezTo>
                  <a:pt x="16703" y="13625"/>
                  <a:pt x="16681" y="13637"/>
                  <a:pt x="16644" y="13643"/>
                </a:cubicBezTo>
                <a:cubicBezTo>
                  <a:pt x="16582" y="13653"/>
                  <a:pt x="16509" y="13643"/>
                  <a:pt x="16446" y="13643"/>
                </a:cubicBezTo>
                <a:cubicBezTo>
                  <a:pt x="16446" y="13779"/>
                  <a:pt x="16459" y="13906"/>
                  <a:pt x="16470" y="14039"/>
                </a:cubicBezTo>
                <a:cubicBezTo>
                  <a:pt x="16477" y="14127"/>
                  <a:pt x="16485" y="14203"/>
                  <a:pt x="16495" y="14288"/>
                </a:cubicBezTo>
                <a:cubicBezTo>
                  <a:pt x="16503" y="14362"/>
                  <a:pt x="16452" y="14415"/>
                  <a:pt x="16470" y="14486"/>
                </a:cubicBezTo>
                <a:cubicBezTo>
                  <a:pt x="16482" y="14535"/>
                  <a:pt x="16484" y="14542"/>
                  <a:pt x="1649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84920" y="2589120"/>
            <a:ext cx="652320" cy="9720"/>
          </a:xfrm>
          <a:custGeom>
            <a:avLst/>
            <a:gdLst/>
            <a:ahLst/>
            <a:rect l="l" t="t" r="r" b="b"/>
            <a:pathLst>
              <a:path w="1812" h="26">
                <a:moveTo>
                  <a:pt x="16346" y="7193"/>
                </a:moveTo>
                <a:cubicBezTo>
                  <a:pt x="16528" y="7193"/>
                  <a:pt x="16710" y="7193"/>
                  <a:pt x="16892" y="7193"/>
                </a:cubicBezTo>
              </a:path>
              <a:path w="1812" h="26">
                <a:moveTo>
                  <a:pt x="17239" y="7218"/>
                </a:moveTo>
                <a:cubicBezTo>
                  <a:pt x="17356" y="7218"/>
                  <a:pt x="17444" y="7210"/>
                  <a:pt x="17562" y="7193"/>
                </a:cubicBezTo>
              </a:path>
              <a:path w="1812" h="26">
                <a:moveTo>
                  <a:pt x="17810" y="7218"/>
                </a:moveTo>
                <a:cubicBezTo>
                  <a:pt x="17926" y="7218"/>
                  <a:pt x="18041" y="7218"/>
                  <a:pt x="18157" y="7218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800" y="2401920"/>
            <a:ext cx="4956120" cy="1884240"/>
          </a:xfrm>
          <a:custGeom>
            <a:avLst/>
            <a:gdLst/>
            <a:ahLst/>
            <a:rect l="l" t="t" r="r" b="b"/>
            <a:pathLst>
              <a:path w="13768" h="5235">
                <a:moveTo>
                  <a:pt x="22324" y="7342"/>
                </a:moveTo>
                <a:cubicBezTo>
                  <a:pt x="22401" y="7336"/>
                  <a:pt x="22470" y="7324"/>
                  <a:pt x="22547" y="7317"/>
                </a:cubicBezTo>
              </a:path>
              <a:path w="13768" h="5235">
                <a:moveTo>
                  <a:pt x="22572" y="11906"/>
                </a:moveTo>
                <a:lnTo>
                  <a:pt x="22572" y="11906"/>
                </a:lnTo>
              </a:path>
              <a:path w="13768" h="5235">
                <a:moveTo>
                  <a:pt x="22622" y="10864"/>
                </a:moveTo>
                <a:cubicBezTo>
                  <a:pt x="22622" y="10823"/>
                  <a:pt x="22622" y="10781"/>
                  <a:pt x="22622" y="10740"/>
                </a:cubicBezTo>
              </a:path>
              <a:path w="13768" h="5235">
                <a:moveTo>
                  <a:pt x="22622" y="10740"/>
                </a:moveTo>
                <a:lnTo>
                  <a:pt x="22622" y="10740"/>
                </a:lnTo>
              </a:path>
              <a:path w="13768" h="5235">
                <a:moveTo>
                  <a:pt x="8855" y="6672"/>
                </a:moveTo>
                <a:lnTo>
                  <a:pt x="8855" y="6672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5960" y="510696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584" y="14312"/>
                </a:moveTo>
                <a:cubicBezTo>
                  <a:pt x="11564" y="14274"/>
                  <a:pt x="11499" y="14224"/>
                  <a:pt x="11460" y="14188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0160" y="3786120"/>
            <a:ext cx="803520" cy="1143000"/>
          </a:xfrm>
          <a:custGeom>
            <a:avLst/>
            <a:gdLst/>
            <a:ahLst/>
            <a:rect l="l" t="t" r="r" b="b"/>
            <a:pathLst>
              <a:path w="2233" h="3176">
                <a:moveTo>
                  <a:pt x="11038" y="13692"/>
                </a:moveTo>
                <a:cubicBezTo>
                  <a:pt x="10971" y="13573"/>
                  <a:pt x="10909" y="13495"/>
                  <a:pt x="10815" y="13395"/>
                </a:cubicBezTo>
              </a:path>
              <a:path w="2233" h="3176">
                <a:moveTo>
                  <a:pt x="10592" y="13022"/>
                </a:moveTo>
                <a:cubicBezTo>
                  <a:pt x="10567" y="12989"/>
                  <a:pt x="10542" y="12956"/>
                  <a:pt x="10517" y="12923"/>
                </a:cubicBezTo>
              </a:path>
              <a:path w="2233" h="3176">
                <a:moveTo>
                  <a:pt x="10517" y="12923"/>
                </a:moveTo>
                <a:lnTo>
                  <a:pt x="10517" y="12923"/>
                </a:lnTo>
              </a:path>
              <a:path w="2233" h="3176">
                <a:moveTo>
                  <a:pt x="10220" y="12551"/>
                </a:moveTo>
                <a:cubicBezTo>
                  <a:pt x="10187" y="12510"/>
                  <a:pt x="10153" y="12468"/>
                  <a:pt x="10120" y="12427"/>
                </a:cubicBezTo>
              </a:path>
              <a:path w="2233" h="3176">
                <a:moveTo>
                  <a:pt x="9649" y="11931"/>
                </a:moveTo>
                <a:cubicBezTo>
                  <a:pt x="9616" y="11890"/>
                  <a:pt x="9583" y="11848"/>
                  <a:pt x="9550" y="11807"/>
                </a:cubicBezTo>
              </a:path>
              <a:path w="2233" h="3176">
                <a:moveTo>
                  <a:pt x="9550" y="11807"/>
                </a:moveTo>
                <a:lnTo>
                  <a:pt x="9550" y="11807"/>
                </a:lnTo>
              </a:path>
              <a:path w="2233" h="3176">
                <a:moveTo>
                  <a:pt x="9178" y="11187"/>
                </a:moveTo>
                <a:cubicBezTo>
                  <a:pt x="9170" y="11146"/>
                  <a:pt x="9161" y="11104"/>
                  <a:pt x="9153" y="11063"/>
                </a:cubicBezTo>
              </a:path>
              <a:path w="2233" h="3176">
                <a:moveTo>
                  <a:pt x="8905" y="10740"/>
                </a:moveTo>
                <a:cubicBezTo>
                  <a:pt x="8830" y="10640"/>
                  <a:pt x="8804" y="10607"/>
                  <a:pt x="8806" y="10517"/>
                </a:cubicBezTo>
              </a:path>
              <a:path w="2233" h="3176">
                <a:moveTo>
                  <a:pt x="8806" y="10517"/>
                </a:moveTo>
                <a:lnTo>
                  <a:pt x="8806" y="10517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81080" y="65008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001" y="18058"/>
                </a:moveTo>
                <a:cubicBezTo>
                  <a:pt x="3001" y="18066"/>
                  <a:pt x="3001" y="18075"/>
                  <a:pt x="3001" y="1808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56280" y="982800"/>
            <a:ext cx="295560" cy="36360"/>
          </a:xfrm>
          <a:custGeom>
            <a:avLst/>
            <a:gdLst/>
            <a:ahLst/>
            <a:rect l="l" t="t" r="r" b="b"/>
            <a:pathLst>
              <a:path w="819" h="100">
                <a:moveTo>
                  <a:pt x="19323" y="2729"/>
                </a:moveTo>
                <a:cubicBezTo>
                  <a:pt x="19323" y="2737"/>
                  <a:pt x="19323" y="2745"/>
                  <a:pt x="19323" y="2753"/>
                </a:cubicBezTo>
                <a:cubicBezTo>
                  <a:pt x="19364" y="2753"/>
                  <a:pt x="19406" y="2753"/>
                  <a:pt x="19447" y="2753"/>
                </a:cubicBezTo>
              </a:path>
              <a:path w="819" h="100">
                <a:moveTo>
                  <a:pt x="19621" y="2828"/>
                </a:moveTo>
                <a:cubicBezTo>
                  <a:pt x="19704" y="2828"/>
                  <a:pt x="19786" y="2828"/>
                  <a:pt x="19869" y="2828"/>
                </a:cubicBezTo>
              </a:path>
              <a:path w="819" h="100">
                <a:moveTo>
                  <a:pt x="20017" y="2828"/>
                </a:moveTo>
                <a:cubicBezTo>
                  <a:pt x="20075" y="2828"/>
                  <a:pt x="20096" y="2831"/>
                  <a:pt x="20141" y="28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29:34Z</dcterms:created>
  <dc:creator>paander</dc:creator>
  <dc:description/>
  <dc:language>en-US</dc:language>
  <cp:lastModifiedBy>demcgra</cp:lastModifiedBy>
  <dcterms:modified xsi:type="dcterms:W3CDTF">2012-05-23T20:11:11Z</dcterms:modified>
  <cp:revision>15</cp:revision>
  <dc:subject/>
  <dc:title>Area of a Right Triangle</dc:title>
</cp:coreProperties>
</file>